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2944-6006-49B1-80B5-A2389FC8E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511B-278B-46F4-9E8B-04B910F0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2B9B-725E-4327-8D50-AE2C8C198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9F5C-C7EE-48B0-B25F-49FCF6511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CB17-DBEB-4D30-A7D7-CFA8DD0D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9DA2-5AA8-44D1-BA4A-81774DF2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8FD7-D6C7-464C-845C-B8F34259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AAE2-9739-4FB3-990A-15DD1B2A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1FD7-4482-40EE-A15E-6DFEBA66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29C3-C711-429A-BF74-16EFFDD8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401A-4B64-413E-B956-CBD1AEB5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4EBF-3B43-4A1A-8A5E-D926309B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913E-7A32-4BB6-9F48-48B7ED8B5DC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. 12 – 5 Circles in the Coordinate Pla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2590920" y="73656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Lions Quarr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5715000" y="152388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lying squirr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80880" y="685800"/>
            <a:ext cx="82296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m(12 – 13)  An equation of a circle with center (h, k) &amp; radius (r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33480" y="171468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-coordinate of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2362320" y="182880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-coordinate of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Line 6"/>
          <p:cNvSpPr/>
          <p:nvPr/>
        </p:nvSpPr>
        <p:spPr>
          <a:xfrm flipV="1">
            <a:off x="1486080" y="152352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Line 7"/>
          <p:cNvSpPr/>
          <p:nvPr/>
        </p:nvSpPr>
        <p:spPr>
          <a:xfrm flipH="1" flipV="1">
            <a:off x="2590560" y="152352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724280" y="2514600"/>
            <a:ext cx="4038840" cy="609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4668840" y="25146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 – h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(y – k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Line 10"/>
          <p:cNvSpPr/>
          <p:nvPr/>
        </p:nvSpPr>
        <p:spPr>
          <a:xfrm>
            <a:off x="2382840" y="28195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228600" y="419256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Oval 12"/>
          <p:cNvSpPr/>
          <p:nvPr/>
        </p:nvSpPr>
        <p:spPr>
          <a:xfrm>
            <a:off x="1239840" y="3048120"/>
            <a:ext cx="2362320" cy="228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Oval 13"/>
          <p:cNvSpPr/>
          <p:nvPr/>
        </p:nvSpPr>
        <p:spPr>
          <a:xfrm>
            <a:off x="2306520" y="4114800"/>
            <a:ext cx="15264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Line 14"/>
          <p:cNvSpPr/>
          <p:nvPr/>
        </p:nvSpPr>
        <p:spPr>
          <a:xfrm flipV="1">
            <a:off x="2382840" y="342864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261144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2001960" y="4191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, 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3297240" y="3124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, 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Freeform 1"/>
          <p:cNvSpPr/>
          <p:nvPr/>
        </p:nvSpPr>
        <p:spPr>
          <a:xfrm>
            <a:off x="1730520" y="2416320"/>
            <a:ext cx="98280" cy="82440"/>
          </a:xfrm>
          <a:custGeom>
            <a:avLst/>
            <a:gdLst>
              <a:gd name="textAreaLeft" fmla="*/ 0 w 98280"/>
              <a:gd name="textAreaRight" fmla="*/ 98640 w 98280"/>
              <a:gd name="textAreaTop" fmla="*/ 0 h 82440"/>
              <a:gd name="textAreaBottom" fmla="*/ 82440 h 82440"/>
            </a:gdLst>
            <a:ahLst/>
            <a:rect l="textAreaLeft" t="textAreaTop" r="textAreaRight" b="textAreaBottom"/>
            <a:pathLst>
              <a:path w="99061" h="83821">
                <a:moveTo>
                  <a:pt x="76200" y="7620"/>
                </a:moveTo>
                <a:lnTo>
                  <a:pt x="76200" y="7620"/>
                </a:lnTo>
                <a:lnTo>
                  <a:pt x="76200" y="7620"/>
                </a:lnTo>
                <a:lnTo>
                  <a:pt x="76200" y="7620"/>
                </a:lnTo>
                <a:lnTo>
                  <a:pt x="68580" y="0"/>
                </a:lnTo>
                <a:lnTo>
                  <a:pt x="68580" y="0"/>
                </a:lnTo>
                <a:lnTo>
                  <a:pt x="68580" y="0"/>
                </a:lnTo>
                <a:lnTo>
                  <a:pt x="60960" y="0"/>
                </a:lnTo>
                <a:lnTo>
                  <a:pt x="53340" y="7620"/>
                </a:lnTo>
                <a:lnTo>
                  <a:pt x="53340" y="7620"/>
                </a:lnTo>
                <a:lnTo>
                  <a:pt x="38100" y="15240"/>
                </a:lnTo>
                <a:lnTo>
                  <a:pt x="30480" y="22860"/>
                </a:lnTo>
                <a:lnTo>
                  <a:pt x="22860" y="30480"/>
                </a:lnTo>
                <a:lnTo>
                  <a:pt x="15240" y="38100"/>
                </a:lnTo>
                <a:lnTo>
                  <a:pt x="7620" y="45720"/>
                </a:lnTo>
                <a:lnTo>
                  <a:pt x="0" y="53340"/>
                </a:lnTo>
                <a:lnTo>
                  <a:pt x="0" y="60960"/>
                </a:lnTo>
                <a:lnTo>
                  <a:pt x="0" y="68580"/>
                </a:lnTo>
                <a:lnTo>
                  <a:pt x="7620" y="76200"/>
                </a:lnTo>
                <a:lnTo>
                  <a:pt x="7620" y="83820"/>
                </a:lnTo>
                <a:lnTo>
                  <a:pt x="15240" y="83820"/>
                </a:lnTo>
                <a:lnTo>
                  <a:pt x="30480" y="83820"/>
                </a:lnTo>
                <a:lnTo>
                  <a:pt x="45720" y="83820"/>
                </a:lnTo>
                <a:lnTo>
                  <a:pt x="60960" y="76200"/>
                </a:lnTo>
                <a:lnTo>
                  <a:pt x="68580" y="76200"/>
                </a:lnTo>
                <a:lnTo>
                  <a:pt x="83820" y="68580"/>
                </a:lnTo>
                <a:lnTo>
                  <a:pt x="91440" y="68580"/>
                </a:lnTo>
                <a:lnTo>
                  <a:pt x="99060" y="60960"/>
                </a:lnTo>
                <a:lnTo>
                  <a:pt x="99060" y="53340"/>
                </a:lnTo>
                <a:lnTo>
                  <a:pt x="99060" y="45720"/>
                </a:lnTo>
                <a:lnTo>
                  <a:pt x="99060" y="38100"/>
                </a:lnTo>
                <a:lnTo>
                  <a:pt x="99060" y="30480"/>
                </a:lnTo>
                <a:lnTo>
                  <a:pt x="91440" y="15240"/>
                </a:lnTo>
                <a:lnTo>
                  <a:pt x="76200" y="15240"/>
                </a:lnTo>
                <a:lnTo>
                  <a:pt x="68580" y="7620"/>
                </a:lnTo>
                <a:lnTo>
                  <a:pt x="60960" y="0"/>
                </a:lnTo>
                <a:lnTo>
                  <a:pt x="53340" y="0"/>
                </a:lnTo>
                <a:lnTo>
                  <a:pt x="38100" y="0"/>
                </a:lnTo>
                <a:lnTo>
                  <a:pt x="30480" y="0"/>
                </a:lnTo>
                <a:lnTo>
                  <a:pt x="30480" y="7620"/>
                </a:lnTo>
                <a:lnTo>
                  <a:pt x="22860" y="7620"/>
                </a:lnTo>
                <a:lnTo>
                  <a:pt x="15240" y="15240"/>
                </a:lnTo>
                <a:lnTo>
                  <a:pt x="15240" y="152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720" bIns="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Freeform 2"/>
          <p:cNvSpPr/>
          <p:nvPr/>
        </p:nvSpPr>
        <p:spPr>
          <a:xfrm>
            <a:off x="1959120" y="2239920"/>
            <a:ext cx="60120" cy="266760"/>
          </a:xfrm>
          <a:custGeom>
            <a:avLst/>
            <a:gdLst>
              <a:gd name="textAreaLeft" fmla="*/ 0 w 60120"/>
              <a:gd name="textAreaRight" fmla="*/ 60480 w 6012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60961" h="266701">
                <a:moveTo>
                  <a:pt x="53340" y="60960"/>
                </a:moveTo>
                <a:lnTo>
                  <a:pt x="53340" y="45720"/>
                </a:lnTo>
                <a:lnTo>
                  <a:pt x="53340" y="38100"/>
                </a:lnTo>
                <a:lnTo>
                  <a:pt x="45720" y="30480"/>
                </a:lnTo>
                <a:lnTo>
                  <a:pt x="38100" y="22860"/>
                </a:lnTo>
                <a:lnTo>
                  <a:pt x="38100" y="15240"/>
                </a:lnTo>
                <a:lnTo>
                  <a:pt x="30480" y="7620"/>
                </a:lnTo>
                <a:lnTo>
                  <a:pt x="22860" y="7620"/>
                </a:lnTo>
                <a:lnTo>
                  <a:pt x="22860" y="0"/>
                </a:lnTo>
                <a:lnTo>
                  <a:pt x="15240" y="0"/>
                </a:lnTo>
                <a:lnTo>
                  <a:pt x="7620" y="0"/>
                </a:lnTo>
                <a:lnTo>
                  <a:pt x="7620" y="0"/>
                </a:lnTo>
                <a:lnTo>
                  <a:pt x="7620" y="7620"/>
                </a:lnTo>
                <a:lnTo>
                  <a:pt x="0" y="7620"/>
                </a:lnTo>
                <a:lnTo>
                  <a:pt x="0" y="15240"/>
                </a:lnTo>
                <a:lnTo>
                  <a:pt x="0" y="22860"/>
                </a:lnTo>
                <a:lnTo>
                  <a:pt x="0" y="30480"/>
                </a:lnTo>
                <a:lnTo>
                  <a:pt x="7620" y="38100"/>
                </a:lnTo>
                <a:lnTo>
                  <a:pt x="7620" y="45720"/>
                </a:lnTo>
                <a:lnTo>
                  <a:pt x="7620" y="60960"/>
                </a:lnTo>
                <a:lnTo>
                  <a:pt x="15240" y="76200"/>
                </a:lnTo>
                <a:lnTo>
                  <a:pt x="22860" y="91440"/>
                </a:lnTo>
                <a:lnTo>
                  <a:pt x="30480" y="106680"/>
                </a:lnTo>
                <a:lnTo>
                  <a:pt x="38100" y="121920"/>
                </a:lnTo>
                <a:lnTo>
                  <a:pt x="38100" y="137160"/>
                </a:lnTo>
                <a:lnTo>
                  <a:pt x="45720" y="152400"/>
                </a:lnTo>
                <a:lnTo>
                  <a:pt x="53340" y="160020"/>
                </a:lnTo>
                <a:lnTo>
                  <a:pt x="53340" y="182880"/>
                </a:lnTo>
                <a:lnTo>
                  <a:pt x="53340" y="190500"/>
                </a:lnTo>
                <a:lnTo>
                  <a:pt x="60960" y="205740"/>
                </a:lnTo>
                <a:lnTo>
                  <a:pt x="60960" y="213360"/>
                </a:lnTo>
                <a:lnTo>
                  <a:pt x="60960" y="228600"/>
                </a:lnTo>
                <a:lnTo>
                  <a:pt x="60960" y="236220"/>
                </a:lnTo>
                <a:lnTo>
                  <a:pt x="60960" y="243840"/>
                </a:lnTo>
                <a:lnTo>
                  <a:pt x="60960" y="251460"/>
                </a:lnTo>
                <a:lnTo>
                  <a:pt x="60960" y="266700"/>
                </a:lnTo>
                <a:lnTo>
                  <a:pt x="60960" y="2667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Freeform 3"/>
          <p:cNvSpPr/>
          <p:nvPr/>
        </p:nvSpPr>
        <p:spPr>
          <a:xfrm>
            <a:off x="1913040" y="2438280"/>
            <a:ext cx="160200" cy="7920"/>
          </a:xfrm>
          <a:custGeom>
            <a:avLst/>
            <a:gdLst>
              <a:gd name="textAreaLeft" fmla="*/ 0 w 160200"/>
              <a:gd name="textAreaRight" fmla="*/ 160560 w 16020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60021" h="7621">
                <a:moveTo>
                  <a:pt x="0" y="7620"/>
                </a:moveTo>
                <a:lnTo>
                  <a:pt x="0" y="7620"/>
                </a:lnTo>
                <a:lnTo>
                  <a:pt x="7620" y="7620"/>
                </a:lnTo>
                <a:lnTo>
                  <a:pt x="15240" y="7620"/>
                </a:lnTo>
                <a:lnTo>
                  <a:pt x="22860" y="7620"/>
                </a:lnTo>
                <a:lnTo>
                  <a:pt x="38100" y="7620"/>
                </a:lnTo>
                <a:lnTo>
                  <a:pt x="53340" y="7620"/>
                </a:lnTo>
                <a:lnTo>
                  <a:pt x="68580" y="0"/>
                </a:lnTo>
                <a:lnTo>
                  <a:pt x="83820" y="0"/>
                </a:lnTo>
                <a:lnTo>
                  <a:pt x="114300" y="0"/>
                </a:lnTo>
                <a:lnTo>
                  <a:pt x="129540" y="0"/>
                </a:lnTo>
                <a:lnTo>
                  <a:pt x="160020" y="0"/>
                </a:lnTo>
                <a:lnTo>
                  <a:pt x="16002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Freeform 4"/>
          <p:cNvSpPr/>
          <p:nvPr/>
        </p:nvSpPr>
        <p:spPr>
          <a:xfrm>
            <a:off x="2187720" y="2332080"/>
            <a:ext cx="98280" cy="174600"/>
          </a:xfrm>
          <a:custGeom>
            <a:avLst/>
            <a:gdLst>
              <a:gd name="textAreaLeft" fmla="*/ 0 w 98280"/>
              <a:gd name="textAreaRight" fmla="*/ 98640 w 9828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99061" h="17526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7620"/>
                </a:lnTo>
                <a:lnTo>
                  <a:pt x="7620" y="7620"/>
                </a:lnTo>
                <a:lnTo>
                  <a:pt x="7620" y="15240"/>
                </a:lnTo>
                <a:lnTo>
                  <a:pt x="15240" y="22860"/>
                </a:lnTo>
                <a:lnTo>
                  <a:pt x="15240" y="30480"/>
                </a:lnTo>
                <a:lnTo>
                  <a:pt x="22860" y="45720"/>
                </a:lnTo>
                <a:lnTo>
                  <a:pt x="30480" y="53340"/>
                </a:lnTo>
                <a:lnTo>
                  <a:pt x="38100" y="68580"/>
                </a:lnTo>
                <a:lnTo>
                  <a:pt x="45720" y="83820"/>
                </a:lnTo>
                <a:lnTo>
                  <a:pt x="53340" y="99060"/>
                </a:lnTo>
                <a:lnTo>
                  <a:pt x="60960" y="106680"/>
                </a:lnTo>
                <a:lnTo>
                  <a:pt x="60960" y="121920"/>
                </a:lnTo>
                <a:lnTo>
                  <a:pt x="68580" y="129540"/>
                </a:lnTo>
                <a:lnTo>
                  <a:pt x="76200" y="144780"/>
                </a:lnTo>
                <a:lnTo>
                  <a:pt x="83820" y="152400"/>
                </a:lnTo>
                <a:lnTo>
                  <a:pt x="91440" y="160020"/>
                </a:lnTo>
                <a:lnTo>
                  <a:pt x="91440" y="167640"/>
                </a:lnTo>
                <a:lnTo>
                  <a:pt x="99060" y="175260"/>
                </a:lnTo>
                <a:lnTo>
                  <a:pt x="99060" y="1752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Freeform 5"/>
          <p:cNvSpPr/>
          <p:nvPr/>
        </p:nvSpPr>
        <p:spPr>
          <a:xfrm>
            <a:off x="2193840" y="2308320"/>
            <a:ext cx="541440" cy="206280"/>
          </a:xfrm>
          <a:custGeom>
            <a:avLst/>
            <a:gdLst>
              <a:gd name="textAreaLeft" fmla="*/ 0 w 541440"/>
              <a:gd name="textAreaRight" fmla="*/ 541800 w 54144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541021" h="205741">
                <a:moveTo>
                  <a:pt x="0" y="129540"/>
                </a:moveTo>
                <a:lnTo>
                  <a:pt x="0" y="129540"/>
                </a:lnTo>
                <a:lnTo>
                  <a:pt x="0" y="129540"/>
                </a:lnTo>
                <a:lnTo>
                  <a:pt x="0" y="129540"/>
                </a:lnTo>
                <a:lnTo>
                  <a:pt x="7620" y="129540"/>
                </a:lnTo>
                <a:lnTo>
                  <a:pt x="7620" y="129540"/>
                </a:lnTo>
                <a:lnTo>
                  <a:pt x="15240" y="137160"/>
                </a:lnTo>
                <a:lnTo>
                  <a:pt x="30480" y="137160"/>
                </a:lnTo>
                <a:lnTo>
                  <a:pt x="38100" y="137160"/>
                </a:lnTo>
                <a:lnTo>
                  <a:pt x="53340" y="144780"/>
                </a:lnTo>
                <a:lnTo>
                  <a:pt x="76200" y="144780"/>
                </a:lnTo>
                <a:lnTo>
                  <a:pt x="91440" y="137160"/>
                </a:lnTo>
                <a:lnTo>
                  <a:pt x="106680" y="137160"/>
                </a:lnTo>
                <a:lnTo>
                  <a:pt x="129540" y="137160"/>
                </a:lnTo>
                <a:lnTo>
                  <a:pt x="144780" y="129540"/>
                </a:lnTo>
                <a:lnTo>
                  <a:pt x="160020" y="121920"/>
                </a:lnTo>
                <a:lnTo>
                  <a:pt x="182880" y="114300"/>
                </a:lnTo>
                <a:lnTo>
                  <a:pt x="190500" y="114300"/>
                </a:lnTo>
                <a:lnTo>
                  <a:pt x="198120" y="99060"/>
                </a:lnTo>
                <a:lnTo>
                  <a:pt x="205740" y="91440"/>
                </a:lnTo>
                <a:lnTo>
                  <a:pt x="205740" y="76200"/>
                </a:lnTo>
                <a:lnTo>
                  <a:pt x="213360" y="68580"/>
                </a:lnTo>
                <a:lnTo>
                  <a:pt x="213360" y="53340"/>
                </a:lnTo>
                <a:lnTo>
                  <a:pt x="213360" y="38100"/>
                </a:lnTo>
                <a:lnTo>
                  <a:pt x="213360" y="30480"/>
                </a:lnTo>
                <a:lnTo>
                  <a:pt x="213360" y="22860"/>
                </a:lnTo>
                <a:lnTo>
                  <a:pt x="205740" y="15240"/>
                </a:lnTo>
                <a:lnTo>
                  <a:pt x="205740" y="7620"/>
                </a:lnTo>
                <a:lnTo>
                  <a:pt x="205740" y="0"/>
                </a:lnTo>
                <a:lnTo>
                  <a:pt x="205740" y="0"/>
                </a:lnTo>
                <a:lnTo>
                  <a:pt x="205740" y="0"/>
                </a:lnTo>
                <a:lnTo>
                  <a:pt x="205740" y="0"/>
                </a:lnTo>
                <a:lnTo>
                  <a:pt x="205740" y="0"/>
                </a:lnTo>
                <a:lnTo>
                  <a:pt x="213360" y="7620"/>
                </a:lnTo>
                <a:lnTo>
                  <a:pt x="213360" y="7620"/>
                </a:lnTo>
                <a:lnTo>
                  <a:pt x="220980" y="15240"/>
                </a:lnTo>
                <a:lnTo>
                  <a:pt x="228600" y="22860"/>
                </a:lnTo>
                <a:lnTo>
                  <a:pt x="236220" y="38100"/>
                </a:lnTo>
                <a:lnTo>
                  <a:pt x="243840" y="53340"/>
                </a:lnTo>
                <a:lnTo>
                  <a:pt x="251460" y="68580"/>
                </a:lnTo>
                <a:lnTo>
                  <a:pt x="266700" y="83820"/>
                </a:lnTo>
                <a:lnTo>
                  <a:pt x="274320" y="99060"/>
                </a:lnTo>
                <a:lnTo>
                  <a:pt x="289560" y="114300"/>
                </a:lnTo>
                <a:lnTo>
                  <a:pt x="297180" y="129540"/>
                </a:lnTo>
                <a:lnTo>
                  <a:pt x="304800" y="144780"/>
                </a:lnTo>
                <a:lnTo>
                  <a:pt x="312420" y="160020"/>
                </a:lnTo>
                <a:lnTo>
                  <a:pt x="320040" y="175260"/>
                </a:lnTo>
                <a:lnTo>
                  <a:pt x="320040" y="182880"/>
                </a:lnTo>
                <a:lnTo>
                  <a:pt x="327660" y="190500"/>
                </a:lnTo>
                <a:lnTo>
                  <a:pt x="327660" y="198120"/>
                </a:lnTo>
                <a:lnTo>
                  <a:pt x="327660" y="205740"/>
                </a:lnTo>
                <a:lnTo>
                  <a:pt x="327660" y="205740"/>
                </a:lnTo>
                <a:lnTo>
                  <a:pt x="327660" y="205740"/>
                </a:lnTo>
                <a:lnTo>
                  <a:pt x="327660" y="205740"/>
                </a:lnTo>
                <a:lnTo>
                  <a:pt x="327660" y="205740"/>
                </a:lnTo>
                <a:lnTo>
                  <a:pt x="327660" y="198120"/>
                </a:lnTo>
                <a:lnTo>
                  <a:pt x="320040" y="190500"/>
                </a:lnTo>
                <a:lnTo>
                  <a:pt x="320040" y="182880"/>
                </a:lnTo>
                <a:lnTo>
                  <a:pt x="320040" y="175260"/>
                </a:lnTo>
                <a:lnTo>
                  <a:pt x="312420" y="167640"/>
                </a:lnTo>
                <a:lnTo>
                  <a:pt x="312420" y="160020"/>
                </a:lnTo>
                <a:lnTo>
                  <a:pt x="320040" y="152400"/>
                </a:lnTo>
                <a:lnTo>
                  <a:pt x="320040" y="144780"/>
                </a:lnTo>
                <a:lnTo>
                  <a:pt x="327660" y="144780"/>
                </a:lnTo>
                <a:lnTo>
                  <a:pt x="335280" y="144780"/>
                </a:lnTo>
                <a:lnTo>
                  <a:pt x="342900" y="137160"/>
                </a:lnTo>
                <a:lnTo>
                  <a:pt x="350520" y="137160"/>
                </a:lnTo>
                <a:lnTo>
                  <a:pt x="358140" y="144780"/>
                </a:lnTo>
                <a:lnTo>
                  <a:pt x="373380" y="144780"/>
                </a:lnTo>
                <a:lnTo>
                  <a:pt x="381000" y="144780"/>
                </a:lnTo>
                <a:lnTo>
                  <a:pt x="396240" y="152400"/>
                </a:lnTo>
                <a:lnTo>
                  <a:pt x="411480" y="160020"/>
                </a:lnTo>
                <a:lnTo>
                  <a:pt x="426720" y="167640"/>
                </a:lnTo>
                <a:lnTo>
                  <a:pt x="434340" y="167640"/>
                </a:lnTo>
                <a:lnTo>
                  <a:pt x="449580" y="175260"/>
                </a:lnTo>
                <a:lnTo>
                  <a:pt x="464820" y="182880"/>
                </a:lnTo>
                <a:lnTo>
                  <a:pt x="480060" y="182880"/>
                </a:lnTo>
                <a:lnTo>
                  <a:pt x="495300" y="182880"/>
                </a:lnTo>
                <a:lnTo>
                  <a:pt x="510540" y="182880"/>
                </a:lnTo>
                <a:lnTo>
                  <a:pt x="525780" y="182880"/>
                </a:lnTo>
                <a:lnTo>
                  <a:pt x="541020" y="182880"/>
                </a:lnTo>
                <a:lnTo>
                  <a:pt x="541020" y="1828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Freeform 6"/>
          <p:cNvSpPr/>
          <p:nvPr/>
        </p:nvSpPr>
        <p:spPr>
          <a:xfrm>
            <a:off x="2720880" y="2408400"/>
            <a:ext cx="136800" cy="90360"/>
          </a:xfrm>
          <a:custGeom>
            <a:avLst/>
            <a:gdLst>
              <a:gd name="textAreaLeft" fmla="*/ 0 w 136800"/>
              <a:gd name="textAreaRight" fmla="*/ 137160 w 13680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137161" h="91441">
                <a:moveTo>
                  <a:pt x="45720" y="7620"/>
                </a:moveTo>
                <a:lnTo>
                  <a:pt x="45720" y="0"/>
                </a:lnTo>
                <a:lnTo>
                  <a:pt x="45720" y="0"/>
                </a:lnTo>
                <a:lnTo>
                  <a:pt x="45720" y="0"/>
                </a:lnTo>
                <a:lnTo>
                  <a:pt x="45720" y="0"/>
                </a:lnTo>
                <a:lnTo>
                  <a:pt x="45720" y="0"/>
                </a:lnTo>
                <a:lnTo>
                  <a:pt x="45720" y="0"/>
                </a:lnTo>
                <a:lnTo>
                  <a:pt x="45720" y="0"/>
                </a:lnTo>
                <a:lnTo>
                  <a:pt x="45720" y="0"/>
                </a:lnTo>
                <a:lnTo>
                  <a:pt x="45720" y="0"/>
                </a:lnTo>
                <a:lnTo>
                  <a:pt x="38100" y="0"/>
                </a:lnTo>
                <a:lnTo>
                  <a:pt x="38100" y="7620"/>
                </a:lnTo>
                <a:lnTo>
                  <a:pt x="30480" y="7620"/>
                </a:lnTo>
                <a:lnTo>
                  <a:pt x="22860" y="7620"/>
                </a:lnTo>
                <a:lnTo>
                  <a:pt x="22860" y="15240"/>
                </a:lnTo>
                <a:lnTo>
                  <a:pt x="15240" y="15240"/>
                </a:lnTo>
                <a:lnTo>
                  <a:pt x="7620" y="22860"/>
                </a:lnTo>
                <a:lnTo>
                  <a:pt x="7620" y="22860"/>
                </a:lnTo>
                <a:lnTo>
                  <a:pt x="7620" y="30480"/>
                </a:lnTo>
                <a:lnTo>
                  <a:pt x="0" y="30480"/>
                </a:lnTo>
                <a:lnTo>
                  <a:pt x="0" y="38100"/>
                </a:lnTo>
                <a:lnTo>
                  <a:pt x="7620" y="38100"/>
                </a:lnTo>
                <a:lnTo>
                  <a:pt x="7620" y="38100"/>
                </a:lnTo>
                <a:lnTo>
                  <a:pt x="15240" y="45720"/>
                </a:lnTo>
                <a:lnTo>
                  <a:pt x="22860" y="45720"/>
                </a:lnTo>
                <a:lnTo>
                  <a:pt x="30480" y="45720"/>
                </a:lnTo>
                <a:lnTo>
                  <a:pt x="38100" y="45720"/>
                </a:lnTo>
                <a:lnTo>
                  <a:pt x="45720" y="45720"/>
                </a:lnTo>
                <a:lnTo>
                  <a:pt x="53340" y="45720"/>
                </a:lnTo>
                <a:lnTo>
                  <a:pt x="53340" y="45720"/>
                </a:lnTo>
                <a:lnTo>
                  <a:pt x="53340" y="45720"/>
                </a:lnTo>
                <a:lnTo>
                  <a:pt x="53340" y="53340"/>
                </a:lnTo>
                <a:lnTo>
                  <a:pt x="53340" y="53340"/>
                </a:lnTo>
                <a:lnTo>
                  <a:pt x="45720" y="53340"/>
                </a:lnTo>
                <a:lnTo>
                  <a:pt x="38100" y="60960"/>
                </a:lnTo>
                <a:lnTo>
                  <a:pt x="30480" y="60960"/>
                </a:lnTo>
                <a:lnTo>
                  <a:pt x="22860" y="68580"/>
                </a:lnTo>
                <a:lnTo>
                  <a:pt x="15240" y="68580"/>
                </a:lnTo>
                <a:lnTo>
                  <a:pt x="7620" y="76200"/>
                </a:lnTo>
                <a:lnTo>
                  <a:pt x="0" y="76200"/>
                </a:lnTo>
                <a:lnTo>
                  <a:pt x="0" y="76200"/>
                </a:lnTo>
                <a:lnTo>
                  <a:pt x="0" y="83820"/>
                </a:lnTo>
                <a:lnTo>
                  <a:pt x="0" y="83820"/>
                </a:lnTo>
                <a:lnTo>
                  <a:pt x="0" y="91440"/>
                </a:lnTo>
                <a:lnTo>
                  <a:pt x="7620" y="91440"/>
                </a:lnTo>
                <a:lnTo>
                  <a:pt x="22860" y="91440"/>
                </a:lnTo>
                <a:lnTo>
                  <a:pt x="30480" y="91440"/>
                </a:lnTo>
                <a:lnTo>
                  <a:pt x="45720" y="91440"/>
                </a:lnTo>
                <a:lnTo>
                  <a:pt x="60960" y="91440"/>
                </a:lnTo>
                <a:lnTo>
                  <a:pt x="76200" y="91440"/>
                </a:lnTo>
                <a:lnTo>
                  <a:pt x="91440" y="91440"/>
                </a:lnTo>
                <a:lnTo>
                  <a:pt x="99060" y="91440"/>
                </a:lnTo>
                <a:lnTo>
                  <a:pt x="114300" y="83820"/>
                </a:lnTo>
                <a:lnTo>
                  <a:pt x="121920" y="83820"/>
                </a:lnTo>
                <a:lnTo>
                  <a:pt x="137160" y="76200"/>
                </a:lnTo>
                <a:lnTo>
                  <a:pt x="137160" y="762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Freeform 7"/>
          <p:cNvSpPr/>
          <p:nvPr/>
        </p:nvSpPr>
        <p:spPr>
          <a:xfrm>
            <a:off x="1951200" y="1181160"/>
            <a:ext cx="357120" cy="465120"/>
          </a:xfrm>
          <a:custGeom>
            <a:avLst/>
            <a:gdLst>
              <a:gd name="textAreaLeft" fmla="*/ 0 w 357120"/>
              <a:gd name="textAreaRight" fmla="*/ 357120 w 357120"/>
              <a:gd name="textAreaTop" fmla="*/ 0 h 465120"/>
              <a:gd name="textAreaBottom" fmla="*/ 465480 h 465120"/>
            </a:gdLst>
            <a:ahLst/>
            <a:rect l="textAreaLeft" t="textAreaTop" r="textAreaRight" b="textAreaBottom"/>
            <a:pathLst>
              <a:path w="358141" h="464821">
                <a:moveTo>
                  <a:pt x="114300" y="464820"/>
                </a:moveTo>
                <a:lnTo>
                  <a:pt x="114300" y="464820"/>
                </a:lnTo>
                <a:lnTo>
                  <a:pt x="114300" y="464820"/>
                </a:lnTo>
                <a:lnTo>
                  <a:pt x="114300" y="464820"/>
                </a:lnTo>
                <a:lnTo>
                  <a:pt x="121920" y="464820"/>
                </a:lnTo>
                <a:lnTo>
                  <a:pt x="121920" y="464820"/>
                </a:lnTo>
                <a:lnTo>
                  <a:pt x="129540" y="457200"/>
                </a:lnTo>
                <a:lnTo>
                  <a:pt x="129540" y="457200"/>
                </a:lnTo>
                <a:lnTo>
                  <a:pt x="137160" y="457200"/>
                </a:lnTo>
                <a:lnTo>
                  <a:pt x="152400" y="449580"/>
                </a:lnTo>
                <a:lnTo>
                  <a:pt x="160020" y="449580"/>
                </a:lnTo>
                <a:lnTo>
                  <a:pt x="175260" y="441960"/>
                </a:lnTo>
                <a:lnTo>
                  <a:pt x="182880" y="441960"/>
                </a:lnTo>
                <a:lnTo>
                  <a:pt x="198120" y="434340"/>
                </a:lnTo>
                <a:lnTo>
                  <a:pt x="205740" y="426720"/>
                </a:lnTo>
                <a:lnTo>
                  <a:pt x="228600" y="419100"/>
                </a:lnTo>
                <a:lnTo>
                  <a:pt x="236220" y="419100"/>
                </a:lnTo>
                <a:lnTo>
                  <a:pt x="251460" y="411480"/>
                </a:lnTo>
                <a:lnTo>
                  <a:pt x="266700" y="403860"/>
                </a:lnTo>
                <a:lnTo>
                  <a:pt x="281940" y="388620"/>
                </a:lnTo>
                <a:lnTo>
                  <a:pt x="289560" y="381000"/>
                </a:lnTo>
                <a:lnTo>
                  <a:pt x="304800" y="373380"/>
                </a:lnTo>
                <a:lnTo>
                  <a:pt x="312420" y="358140"/>
                </a:lnTo>
                <a:lnTo>
                  <a:pt x="320040" y="350520"/>
                </a:lnTo>
                <a:lnTo>
                  <a:pt x="327660" y="335280"/>
                </a:lnTo>
                <a:lnTo>
                  <a:pt x="335280" y="320040"/>
                </a:lnTo>
                <a:lnTo>
                  <a:pt x="342900" y="304800"/>
                </a:lnTo>
                <a:lnTo>
                  <a:pt x="350520" y="281940"/>
                </a:lnTo>
                <a:lnTo>
                  <a:pt x="358140" y="266700"/>
                </a:lnTo>
                <a:lnTo>
                  <a:pt x="358140" y="251460"/>
                </a:lnTo>
                <a:lnTo>
                  <a:pt x="358140" y="228600"/>
                </a:lnTo>
                <a:lnTo>
                  <a:pt x="358140" y="213360"/>
                </a:lnTo>
                <a:lnTo>
                  <a:pt x="358140" y="190500"/>
                </a:lnTo>
                <a:lnTo>
                  <a:pt x="358140" y="167640"/>
                </a:lnTo>
                <a:lnTo>
                  <a:pt x="350520" y="152400"/>
                </a:lnTo>
                <a:lnTo>
                  <a:pt x="350520" y="129540"/>
                </a:lnTo>
                <a:lnTo>
                  <a:pt x="342900" y="114300"/>
                </a:lnTo>
                <a:lnTo>
                  <a:pt x="335280" y="91440"/>
                </a:lnTo>
                <a:lnTo>
                  <a:pt x="327660" y="76200"/>
                </a:lnTo>
                <a:lnTo>
                  <a:pt x="312420" y="60960"/>
                </a:lnTo>
                <a:lnTo>
                  <a:pt x="304800" y="45720"/>
                </a:lnTo>
                <a:lnTo>
                  <a:pt x="297180" y="38100"/>
                </a:lnTo>
                <a:lnTo>
                  <a:pt x="289560" y="30480"/>
                </a:lnTo>
                <a:lnTo>
                  <a:pt x="281940" y="22860"/>
                </a:lnTo>
                <a:lnTo>
                  <a:pt x="274320" y="15240"/>
                </a:lnTo>
                <a:lnTo>
                  <a:pt x="259080" y="7620"/>
                </a:lnTo>
                <a:lnTo>
                  <a:pt x="251460" y="7620"/>
                </a:lnTo>
                <a:lnTo>
                  <a:pt x="243840" y="0"/>
                </a:lnTo>
                <a:lnTo>
                  <a:pt x="236220" y="0"/>
                </a:lnTo>
                <a:lnTo>
                  <a:pt x="220980" y="7620"/>
                </a:lnTo>
                <a:lnTo>
                  <a:pt x="213360" y="7620"/>
                </a:lnTo>
                <a:lnTo>
                  <a:pt x="198120" y="15240"/>
                </a:lnTo>
                <a:lnTo>
                  <a:pt x="190500" y="22860"/>
                </a:lnTo>
                <a:lnTo>
                  <a:pt x="175260" y="38100"/>
                </a:lnTo>
                <a:lnTo>
                  <a:pt x="160020" y="45720"/>
                </a:lnTo>
                <a:lnTo>
                  <a:pt x="144780" y="60960"/>
                </a:lnTo>
                <a:lnTo>
                  <a:pt x="129540" y="83820"/>
                </a:lnTo>
                <a:lnTo>
                  <a:pt x="114300" y="99060"/>
                </a:lnTo>
                <a:lnTo>
                  <a:pt x="91440" y="121920"/>
                </a:lnTo>
                <a:lnTo>
                  <a:pt x="76200" y="144780"/>
                </a:lnTo>
                <a:lnTo>
                  <a:pt x="60960" y="167640"/>
                </a:lnTo>
                <a:lnTo>
                  <a:pt x="45720" y="190500"/>
                </a:lnTo>
                <a:lnTo>
                  <a:pt x="30480" y="213360"/>
                </a:lnTo>
                <a:lnTo>
                  <a:pt x="15240" y="236220"/>
                </a:lnTo>
                <a:lnTo>
                  <a:pt x="7620" y="266700"/>
                </a:lnTo>
                <a:lnTo>
                  <a:pt x="0" y="281940"/>
                </a:lnTo>
                <a:lnTo>
                  <a:pt x="0" y="304800"/>
                </a:lnTo>
                <a:lnTo>
                  <a:pt x="0" y="320040"/>
                </a:lnTo>
                <a:lnTo>
                  <a:pt x="0" y="342900"/>
                </a:lnTo>
                <a:lnTo>
                  <a:pt x="0" y="358140"/>
                </a:lnTo>
                <a:lnTo>
                  <a:pt x="7620" y="373380"/>
                </a:lnTo>
                <a:lnTo>
                  <a:pt x="22860" y="381000"/>
                </a:lnTo>
                <a:lnTo>
                  <a:pt x="38100" y="396240"/>
                </a:lnTo>
                <a:lnTo>
                  <a:pt x="53340" y="403860"/>
                </a:lnTo>
                <a:lnTo>
                  <a:pt x="68580" y="411480"/>
                </a:lnTo>
                <a:lnTo>
                  <a:pt x="91440" y="419100"/>
                </a:lnTo>
                <a:lnTo>
                  <a:pt x="114300" y="419100"/>
                </a:lnTo>
                <a:lnTo>
                  <a:pt x="137160" y="426720"/>
                </a:lnTo>
                <a:lnTo>
                  <a:pt x="175260" y="434340"/>
                </a:lnTo>
                <a:lnTo>
                  <a:pt x="175260" y="4343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5470560" y="2612880"/>
            <a:ext cx="404640" cy="435240"/>
          </a:xfrm>
          <a:custGeom>
            <a:avLst/>
            <a:gdLst>
              <a:gd name="textAreaLeft" fmla="*/ 0 w 404640"/>
              <a:gd name="textAreaRight" fmla="*/ 405000 w 404640"/>
              <a:gd name="textAreaTop" fmla="*/ 0 h 435240"/>
              <a:gd name="textAreaBottom" fmla="*/ 435600 h 435240"/>
            </a:gdLst>
            <a:ahLst/>
            <a:rect l="textAreaLeft" t="textAreaTop" r="textAreaRight" b="textAreaBottom"/>
            <a:pathLst>
              <a:path w="403861" h="434341">
                <a:moveTo>
                  <a:pt x="45720" y="434340"/>
                </a:moveTo>
                <a:lnTo>
                  <a:pt x="45720" y="434340"/>
                </a:lnTo>
                <a:lnTo>
                  <a:pt x="68580" y="434340"/>
                </a:lnTo>
                <a:lnTo>
                  <a:pt x="83820" y="434340"/>
                </a:lnTo>
                <a:lnTo>
                  <a:pt x="99060" y="434340"/>
                </a:lnTo>
                <a:lnTo>
                  <a:pt x="114300" y="434340"/>
                </a:lnTo>
                <a:lnTo>
                  <a:pt x="129540" y="434340"/>
                </a:lnTo>
                <a:lnTo>
                  <a:pt x="144780" y="426720"/>
                </a:lnTo>
                <a:lnTo>
                  <a:pt x="160020" y="426720"/>
                </a:lnTo>
                <a:lnTo>
                  <a:pt x="175260" y="426720"/>
                </a:lnTo>
                <a:lnTo>
                  <a:pt x="190500" y="419100"/>
                </a:lnTo>
                <a:lnTo>
                  <a:pt x="205740" y="411480"/>
                </a:lnTo>
                <a:lnTo>
                  <a:pt x="228600" y="403860"/>
                </a:lnTo>
                <a:lnTo>
                  <a:pt x="243840" y="396240"/>
                </a:lnTo>
                <a:lnTo>
                  <a:pt x="259080" y="381000"/>
                </a:lnTo>
                <a:lnTo>
                  <a:pt x="266700" y="373380"/>
                </a:lnTo>
                <a:lnTo>
                  <a:pt x="289560" y="365760"/>
                </a:lnTo>
                <a:lnTo>
                  <a:pt x="297180" y="358140"/>
                </a:lnTo>
                <a:lnTo>
                  <a:pt x="312420" y="342900"/>
                </a:lnTo>
                <a:lnTo>
                  <a:pt x="327660" y="327660"/>
                </a:lnTo>
                <a:lnTo>
                  <a:pt x="342900" y="320040"/>
                </a:lnTo>
                <a:lnTo>
                  <a:pt x="350520" y="304800"/>
                </a:lnTo>
                <a:lnTo>
                  <a:pt x="358140" y="289560"/>
                </a:lnTo>
                <a:lnTo>
                  <a:pt x="365760" y="274320"/>
                </a:lnTo>
                <a:lnTo>
                  <a:pt x="381000" y="259080"/>
                </a:lnTo>
                <a:lnTo>
                  <a:pt x="388620" y="243840"/>
                </a:lnTo>
                <a:lnTo>
                  <a:pt x="396240" y="228600"/>
                </a:lnTo>
                <a:lnTo>
                  <a:pt x="396240" y="213360"/>
                </a:lnTo>
                <a:lnTo>
                  <a:pt x="403860" y="190500"/>
                </a:lnTo>
                <a:lnTo>
                  <a:pt x="403860" y="175260"/>
                </a:lnTo>
                <a:lnTo>
                  <a:pt x="396240" y="160020"/>
                </a:lnTo>
                <a:lnTo>
                  <a:pt x="396240" y="144780"/>
                </a:lnTo>
                <a:lnTo>
                  <a:pt x="388620" y="121920"/>
                </a:lnTo>
                <a:lnTo>
                  <a:pt x="388620" y="106680"/>
                </a:lnTo>
                <a:lnTo>
                  <a:pt x="381000" y="91440"/>
                </a:lnTo>
                <a:lnTo>
                  <a:pt x="365760" y="76200"/>
                </a:lnTo>
                <a:lnTo>
                  <a:pt x="358140" y="60960"/>
                </a:lnTo>
                <a:lnTo>
                  <a:pt x="342900" y="45720"/>
                </a:lnTo>
                <a:lnTo>
                  <a:pt x="335280" y="30480"/>
                </a:lnTo>
                <a:lnTo>
                  <a:pt x="320040" y="22860"/>
                </a:lnTo>
                <a:lnTo>
                  <a:pt x="304800" y="15240"/>
                </a:lnTo>
                <a:lnTo>
                  <a:pt x="289560" y="7620"/>
                </a:lnTo>
                <a:lnTo>
                  <a:pt x="274320" y="0"/>
                </a:lnTo>
                <a:lnTo>
                  <a:pt x="259080" y="0"/>
                </a:lnTo>
                <a:lnTo>
                  <a:pt x="236220" y="0"/>
                </a:lnTo>
                <a:lnTo>
                  <a:pt x="220980" y="0"/>
                </a:lnTo>
                <a:lnTo>
                  <a:pt x="198120" y="0"/>
                </a:lnTo>
                <a:lnTo>
                  <a:pt x="182880" y="7620"/>
                </a:lnTo>
                <a:lnTo>
                  <a:pt x="167640" y="15240"/>
                </a:lnTo>
                <a:lnTo>
                  <a:pt x="144780" y="22860"/>
                </a:lnTo>
                <a:lnTo>
                  <a:pt x="129540" y="30480"/>
                </a:lnTo>
                <a:lnTo>
                  <a:pt x="114300" y="45720"/>
                </a:lnTo>
                <a:lnTo>
                  <a:pt x="99060" y="60960"/>
                </a:lnTo>
                <a:lnTo>
                  <a:pt x="83820" y="68580"/>
                </a:lnTo>
                <a:lnTo>
                  <a:pt x="68580" y="83820"/>
                </a:lnTo>
                <a:lnTo>
                  <a:pt x="60960" y="106680"/>
                </a:lnTo>
                <a:lnTo>
                  <a:pt x="45720" y="121920"/>
                </a:lnTo>
                <a:lnTo>
                  <a:pt x="38100" y="137160"/>
                </a:lnTo>
                <a:lnTo>
                  <a:pt x="30480" y="160020"/>
                </a:lnTo>
                <a:lnTo>
                  <a:pt x="22860" y="175260"/>
                </a:lnTo>
                <a:lnTo>
                  <a:pt x="15240" y="198120"/>
                </a:lnTo>
                <a:lnTo>
                  <a:pt x="7620" y="213360"/>
                </a:lnTo>
                <a:lnTo>
                  <a:pt x="0" y="236220"/>
                </a:lnTo>
                <a:lnTo>
                  <a:pt x="0" y="259080"/>
                </a:lnTo>
                <a:lnTo>
                  <a:pt x="0" y="274320"/>
                </a:lnTo>
                <a:lnTo>
                  <a:pt x="0" y="289560"/>
                </a:lnTo>
                <a:lnTo>
                  <a:pt x="7620" y="312420"/>
                </a:lnTo>
                <a:lnTo>
                  <a:pt x="7620" y="327660"/>
                </a:lnTo>
                <a:lnTo>
                  <a:pt x="15240" y="342900"/>
                </a:lnTo>
                <a:lnTo>
                  <a:pt x="30480" y="358140"/>
                </a:lnTo>
                <a:lnTo>
                  <a:pt x="45720" y="365760"/>
                </a:lnTo>
                <a:lnTo>
                  <a:pt x="60960" y="381000"/>
                </a:lnTo>
                <a:lnTo>
                  <a:pt x="76200" y="388620"/>
                </a:lnTo>
                <a:lnTo>
                  <a:pt x="91440" y="396240"/>
                </a:lnTo>
                <a:lnTo>
                  <a:pt x="106680" y="403860"/>
                </a:lnTo>
                <a:lnTo>
                  <a:pt x="129540" y="403860"/>
                </a:lnTo>
                <a:lnTo>
                  <a:pt x="152400" y="411480"/>
                </a:lnTo>
                <a:lnTo>
                  <a:pt x="167640" y="411480"/>
                </a:lnTo>
                <a:lnTo>
                  <a:pt x="190500" y="411480"/>
                </a:lnTo>
                <a:lnTo>
                  <a:pt x="205740" y="411480"/>
                </a:lnTo>
                <a:lnTo>
                  <a:pt x="228600" y="403860"/>
                </a:lnTo>
                <a:lnTo>
                  <a:pt x="243840" y="403860"/>
                </a:lnTo>
                <a:lnTo>
                  <a:pt x="251460" y="396240"/>
                </a:lnTo>
                <a:lnTo>
                  <a:pt x="266700" y="396240"/>
                </a:lnTo>
                <a:lnTo>
                  <a:pt x="281940" y="388620"/>
                </a:lnTo>
                <a:lnTo>
                  <a:pt x="281940" y="388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Freeform 9"/>
          <p:cNvSpPr/>
          <p:nvPr/>
        </p:nvSpPr>
        <p:spPr>
          <a:xfrm>
            <a:off x="3040200" y="2400480"/>
            <a:ext cx="144360" cy="136440"/>
          </a:xfrm>
          <a:custGeom>
            <a:avLst/>
            <a:gdLst>
              <a:gd name="textAreaLeft" fmla="*/ 0 w 144360"/>
              <a:gd name="textAreaRight" fmla="*/ 144720 w 14436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144781" h="137161">
                <a:moveTo>
                  <a:pt x="114300" y="15240"/>
                </a:moveTo>
                <a:lnTo>
                  <a:pt x="114300" y="15240"/>
                </a:lnTo>
                <a:lnTo>
                  <a:pt x="114300" y="15240"/>
                </a:lnTo>
                <a:lnTo>
                  <a:pt x="114300" y="15240"/>
                </a:lnTo>
                <a:lnTo>
                  <a:pt x="114300" y="15240"/>
                </a:lnTo>
                <a:lnTo>
                  <a:pt x="114300" y="15240"/>
                </a:lnTo>
                <a:lnTo>
                  <a:pt x="114300" y="15240"/>
                </a:lnTo>
                <a:lnTo>
                  <a:pt x="114300" y="22860"/>
                </a:lnTo>
                <a:lnTo>
                  <a:pt x="114300" y="22860"/>
                </a:lnTo>
                <a:lnTo>
                  <a:pt x="114300" y="30480"/>
                </a:lnTo>
                <a:lnTo>
                  <a:pt x="114300" y="30480"/>
                </a:lnTo>
                <a:lnTo>
                  <a:pt x="114300" y="38100"/>
                </a:lnTo>
                <a:lnTo>
                  <a:pt x="114300" y="38100"/>
                </a:lnTo>
                <a:lnTo>
                  <a:pt x="114300" y="38100"/>
                </a:lnTo>
                <a:lnTo>
                  <a:pt x="114300" y="45720"/>
                </a:lnTo>
                <a:lnTo>
                  <a:pt x="121920" y="45720"/>
                </a:lnTo>
                <a:lnTo>
                  <a:pt x="121920" y="45720"/>
                </a:lnTo>
                <a:lnTo>
                  <a:pt x="121920" y="45720"/>
                </a:lnTo>
                <a:lnTo>
                  <a:pt x="121920" y="45720"/>
                </a:lnTo>
                <a:lnTo>
                  <a:pt x="121920" y="45720"/>
                </a:lnTo>
                <a:lnTo>
                  <a:pt x="121920" y="45720"/>
                </a:lnTo>
                <a:lnTo>
                  <a:pt x="121920" y="38100"/>
                </a:lnTo>
                <a:lnTo>
                  <a:pt x="121920" y="38100"/>
                </a:lnTo>
                <a:lnTo>
                  <a:pt x="114300" y="30480"/>
                </a:lnTo>
                <a:lnTo>
                  <a:pt x="114300" y="22860"/>
                </a:lnTo>
                <a:lnTo>
                  <a:pt x="114300" y="22860"/>
                </a:lnTo>
                <a:lnTo>
                  <a:pt x="106680" y="15240"/>
                </a:lnTo>
                <a:lnTo>
                  <a:pt x="99060" y="7620"/>
                </a:lnTo>
                <a:lnTo>
                  <a:pt x="99060" y="0"/>
                </a:lnTo>
                <a:lnTo>
                  <a:pt x="91440" y="0"/>
                </a:lnTo>
                <a:lnTo>
                  <a:pt x="83820" y="0"/>
                </a:lnTo>
                <a:lnTo>
                  <a:pt x="76200" y="0"/>
                </a:lnTo>
                <a:lnTo>
                  <a:pt x="76200" y="0"/>
                </a:lnTo>
                <a:lnTo>
                  <a:pt x="60960" y="0"/>
                </a:lnTo>
                <a:lnTo>
                  <a:pt x="53340" y="7620"/>
                </a:lnTo>
                <a:lnTo>
                  <a:pt x="45720" y="15240"/>
                </a:lnTo>
                <a:lnTo>
                  <a:pt x="38100" y="30480"/>
                </a:lnTo>
                <a:lnTo>
                  <a:pt x="30480" y="38100"/>
                </a:lnTo>
                <a:lnTo>
                  <a:pt x="22860" y="53340"/>
                </a:lnTo>
                <a:lnTo>
                  <a:pt x="15240" y="60960"/>
                </a:lnTo>
                <a:lnTo>
                  <a:pt x="7620" y="76200"/>
                </a:lnTo>
                <a:lnTo>
                  <a:pt x="0" y="91440"/>
                </a:lnTo>
                <a:lnTo>
                  <a:pt x="0" y="99060"/>
                </a:lnTo>
                <a:lnTo>
                  <a:pt x="0" y="106680"/>
                </a:lnTo>
                <a:lnTo>
                  <a:pt x="7620" y="114300"/>
                </a:lnTo>
                <a:lnTo>
                  <a:pt x="15240" y="121920"/>
                </a:lnTo>
                <a:lnTo>
                  <a:pt x="22860" y="129540"/>
                </a:lnTo>
                <a:lnTo>
                  <a:pt x="38100" y="137160"/>
                </a:lnTo>
                <a:lnTo>
                  <a:pt x="53340" y="137160"/>
                </a:lnTo>
                <a:lnTo>
                  <a:pt x="68580" y="137160"/>
                </a:lnTo>
                <a:lnTo>
                  <a:pt x="83820" y="137160"/>
                </a:lnTo>
                <a:lnTo>
                  <a:pt x="99060" y="129540"/>
                </a:lnTo>
                <a:lnTo>
                  <a:pt x="114300" y="129540"/>
                </a:lnTo>
                <a:lnTo>
                  <a:pt x="121920" y="121920"/>
                </a:lnTo>
                <a:lnTo>
                  <a:pt x="144780" y="114300"/>
                </a:lnTo>
                <a:lnTo>
                  <a:pt x="144780" y="1143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Freeform 10"/>
          <p:cNvSpPr/>
          <p:nvPr/>
        </p:nvSpPr>
        <p:spPr>
          <a:xfrm>
            <a:off x="3208320" y="2438280"/>
            <a:ext cx="465120" cy="98640"/>
          </a:xfrm>
          <a:custGeom>
            <a:avLst/>
            <a:gdLst>
              <a:gd name="textAreaLeft" fmla="*/ 0 w 465120"/>
              <a:gd name="textAreaRight" fmla="*/ 465480 w 4651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464821" h="99061">
                <a:moveTo>
                  <a:pt x="53340" y="15240"/>
                </a:moveTo>
                <a:lnTo>
                  <a:pt x="53340" y="15240"/>
                </a:lnTo>
                <a:lnTo>
                  <a:pt x="53340" y="15240"/>
                </a:lnTo>
                <a:lnTo>
                  <a:pt x="53340" y="7620"/>
                </a:lnTo>
                <a:lnTo>
                  <a:pt x="53340" y="7620"/>
                </a:lnTo>
                <a:lnTo>
                  <a:pt x="53340" y="7620"/>
                </a:lnTo>
                <a:lnTo>
                  <a:pt x="53340" y="7620"/>
                </a:lnTo>
                <a:lnTo>
                  <a:pt x="45720" y="7620"/>
                </a:lnTo>
                <a:lnTo>
                  <a:pt x="45720" y="0"/>
                </a:lnTo>
                <a:lnTo>
                  <a:pt x="38100" y="0"/>
                </a:lnTo>
                <a:lnTo>
                  <a:pt x="30480" y="7620"/>
                </a:lnTo>
                <a:lnTo>
                  <a:pt x="30480" y="7620"/>
                </a:lnTo>
                <a:lnTo>
                  <a:pt x="22860" y="7620"/>
                </a:lnTo>
                <a:lnTo>
                  <a:pt x="15240" y="15240"/>
                </a:lnTo>
                <a:lnTo>
                  <a:pt x="7620" y="15240"/>
                </a:lnTo>
                <a:lnTo>
                  <a:pt x="7620" y="22860"/>
                </a:lnTo>
                <a:lnTo>
                  <a:pt x="0" y="22860"/>
                </a:lnTo>
                <a:lnTo>
                  <a:pt x="0" y="30480"/>
                </a:lnTo>
                <a:lnTo>
                  <a:pt x="0" y="38100"/>
                </a:lnTo>
                <a:lnTo>
                  <a:pt x="0" y="45720"/>
                </a:lnTo>
                <a:lnTo>
                  <a:pt x="0" y="45720"/>
                </a:lnTo>
                <a:lnTo>
                  <a:pt x="7620" y="53340"/>
                </a:lnTo>
                <a:lnTo>
                  <a:pt x="7620" y="53340"/>
                </a:lnTo>
                <a:lnTo>
                  <a:pt x="15240" y="60960"/>
                </a:lnTo>
                <a:lnTo>
                  <a:pt x="22860" y="60960"/>
                </a:lnTo>
                <a:lnTo>
                  <a:pt x="30480" y="60960"/>
                </a:lnTo>
                <a:lnTo>
                  <a:pt x="30480" y="60960"/>
                </a:lnTo>
                <a:lnTo>
                  <a:pt x="38100" y="60960"/>
                </a:lnTo>
                <a:lnTo>
                  <a:pt x="45720" y="68580"/>
                </a:lnTo>
                <a:lnTo>
                  <a:pt x="45720" y="68580"/>
                </a:lnTo>
                <a:lnTo>
                  <a:pt x="45720" y="68580"/>
                </a:lnTo>
                <a:lnTo>
                  <a:pt x="45720" y="68580"/>
                </a:lnTo>
                <a:lnTo>
                  <a:pt x="45720" y="60960"/>
                </a:lnTo>
                <a:lnTo>
                  <a:pt x="45720" y="60960"/>
                </a:lnTo>
                <a:lnTo>
                  <a:pt x="45720" y="60960"/>
                </a:lnTo>
                <a:lnTo>
                  <a:pt x="45720" y="60960"/>
                </a:lnTo>
                <a:lnTo>
                  <a:pt x="38100" y="60960"/>
                </a:lnTo>
                <a:lnTo>
                  <a:pt x="38100" y="68580"/>
                </a:lnTo>
                <a:lnTo>
                  <a:pt x="30480" y="68580"/>
                </a:lnTo>
                <a:lnTo>
                  <a:pt x="30480" y="76200"/>
                </a:lnTo>
                <a:lnTo>
                  <a:pt x="30480" y="76200"/>
                </a:lnTo>
                <a:lnTo>
                  <a:pt x="30480" y="83820"/>
                </a:lnTo>
                <a:lnTo>
                  <a:pt x="30480" y="83820"/>
                </a:lnTo>
                <a:lnTo>
                  <a:pt x="30480" y="91440"/>
                </a:lnTo>
                <a:lnTo>
                  <a:pt x="30480" y="91440"/>
                </a:lnTo>
                <a:lnTo>
                  <a:pt x="45720" y="99060"/>
                </a:lnTo>
                <a:lnTo>
                  <a:pt x="53340" y="99060"/>
                </a:lnTo>
                <a:lnTo>
                  <a:pt x="60960" y="99060"/>
                </a:lnTo>
                <a:lnTo>
                  <a:pt x="68580" y="99060"/>
                </a:lnTo>
                <a:lnTo>
                  <a:pt x="76200" y="99060"/>
                </a:lnTo>
                <a:lnTo>
                  <a:pt x="91440" y="91440"/>
                </a:lnTo>
                <a:lnTo>
                  <a:pt x="99060" y="91440"/>
                </a:lnTo>
                <a:lnTo>
                  <a:pt x="114300" y="83820"/>
                </a:lnTo>
                <a:lnTo>
                  <a:pt x="121920" y="83820"/>
                </a:lnTo>
                <a:lnTo>
                  <a:pt x="129540" y="76200"/>
                </a:lnTo>
                <a:lnTo>
                  <a:pt x="137160" y="68580"/>
                </a:lnTo>
                <a:lnTo>
                  <a:pt x="144780" y="60960"/>
                </a:lnTo>
                <a:lnTo>
                  <a:pt x="144780" y="53340"/>
                </a:lnTo>
                <a:lnTo>
                  <a:pt x="152400" y="45720"/>
                </a:lnTo>
                <a:lnTo>
                  <a:pt x="152400" y="38100"/>
                </a:lnTo>
                <a:lnTo>
                  <a:pt x="160020" y="30480"/>
                </a:lnTo>
                <a:lnTo>
                  <a:pt x="160020" y="22860"/>
                </a:lnTo>
                <a:lnTo>
                  <a:pt x="160020" y="15240"/>
                </a:lnTo>
                <a:lnTo>
                  <a:pt x="167640" y="15240"/>
                </a:lnTo>
                <a:lnTo>
                  <a:pt x="167640" y="15240"/>
                </a:lnTo>
                <a:lnTo>
                  <a:pt x="167640" y="15240"/>
                </a:lnTo>
                <a:lnTo>
                  <a:pt x="167640" y="15240"/>
                </a:lnTo>
                <a:lnTo>
                  <a:pt x="167640" y="15240"/>
                </a:lnTo>
                <a:lnTo>
                  <a:pt x="175260" y="15240"/>
                </a:lnTo>
                <a:lnTo>
                  <a:pt x="175260" y="15240"/>
                </a:lnTo>
                <a:lnTo>
                  <a:pt x="175260" y="15240"/>
                </a:lnTo>
                <a:lnTo>
                  <a:pt x="175260" y="22860"/>
                </a:lnTo>
                <a:lnTo>
                  <a:pt x="182880" y="30480"/>
                </a:lnTo>
                <a:lnTo>
                  <a:pt x="182880" y="38100"/>
                </a:lnTo>
                <a:lnTo>
                  <a:pt x="190500" y="45720"/>
                </a:lnTo>
                <a:lnTo>
                  <a:pt x="190500" y="53340"/>
                </a:lnTo>
                <a:lnTo>
                  <a:pt x="190500" y="60960"/>
                </a:lnTo>
                <a:lnTo>
                  <a:pt x="198120" y="68580"/>
                </a:lnTo>
                <a:lnTo>
                  <a:pt x="198120" y="76200"/>
                </a:lnTo>
                <a:lnTo>
                  <a:pt x="205740" y="83820"/>
                </a:lnTo>
                <a:lnTo>
                  <a:pt x="205740" y="91440"/>
                </a:lnTo>
                <a:lnTo>
                  <a:pt x="213360" y="99060"/>
                </a:lnTo>
                <a:lnTo>
                  <a:pt x="213360" y="99060"/>
                </a:lnTo>
                <a:lnTo>
                  <a:pt x="220980" y="99060"/>
                </a:lnTo>
                <a:lnTo>
                  <a:pt x="220980" y="99060"/>
                </a:lnTo>
                <a:lnTo>
                  <a:pt x="228600" y="99060"/>
                </a:lnTo>
                <a:lnTo>
                  <a:pt x="228600" y="99060"/>
                </a:lnTo>
                <a:lnTo>
                  <a:pt x="236220" y="99060"/>
                </a:lnTo>
                <a:lnTo>
                  <a:pt x="243840" y="91440"/>
                </a:lnTo>
                <a:lnTo>
                  <a:pt x="243840" y="83820"/>
                </a:lnTo>
                <a:lnTo>
                  <a:pt x="243840" y="76200"/>
                </a:lnTo>
                <a:lnTo>
                  <a:pt x="251460" y="68580"/>
                </a:lnTo>
                <a:lnTo>
                  <a:pt x="259080" y="60960"/>
                </a:lnTo>
                <a:lnTo>
                  <a:pt x="259080" y="45720"/>
                </a:lnTo>
                <a:lnTo>
                  <a:pt x="266700" y="45720"/>
                </a:lnTo>
                <a:lnTo>
                  <a:pt x="266700" y="38100"/>
                </a:lnTo>
                <a:lnTo>
                  <a:pt x="274320" y="30480"/>
                </a:lnTo>
                <a:lnTo>
                  <a:pt x="281940" y="30480"/>
                </a:lnTo>
                <a:lnTo>
                  <a:pt x="281940" y="22860"/>
                </a:lnTo>
                <a:lnTo>
                  <a:pt x="289560" y="22860"/>
                </a:lnTo>
                <a:lnTo>
                  <a:pt x="289560" y="22860"/>
                </a:lnTo>
                <a:lnTo>
                  <a:pt x="297180" y="30480"/>
                </a:lnTo>
                <a:lnTo>
                  <a:pt x="304800" y="30480"/>
                </a:lnTo>
                <a:lnTo>
                  <a:pt x="304800" y="38100"/>
                </a:lnTo>
                <a:lnTo>
                  <a:pt x="312420" y="45720"/>
                </a:lnTo>
                <a:lnTo>
                  <a:pt x="320040" y="53340"/>
                </a:lnTo>
                <a:lnTo>
                  <a:pt x="327660" y="60960"/>
                </a:lnTo>
                <a:lnTo>
                  <a:pt x="335280" y="68580"/>
                </a:lnTo>
                <a:lnTo>
                  <a:pt x="342900" y="76200"/>
                </a:lnTo>
                <a:lnTo>
                  <a:pt x="350520" y="76200"/>
                </a:lnTo>
                <a:lnTo>
                  <a:pt x="365760" y="76200"/>
                </a:lnTo>
                <a:lnTo>
                  <a:pt x="381000" y="83820"/>
                </a:lnTo>
                <a:lnTo>
                  <a:pt x="396240" y="83820"/>
                </a:lnTo>
                <a:lnTo>
                  <a:pt x="411480" y="83820"/>
                </a:lnTo>
                <a:lnTo>
                  <a:pt x="434340" y="76200"/>
                </a:lnTo>
                <a:lnTo>
                  <a:pt x="464820" y="76200"/>
                </a:lnTo>
                <a:lnTo>
                  <a:pt x="464820" y="762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Freeform 11"/>
          <p:cNvSpPr/>
          <p:nvPr/>
        </p:nvSpPr>
        <p:spPr>
          <a:xfrm>
            <a:off x="3703680" y="2301840"/>
            <a:ext cx="68400" cy="228600"/>
          </a:xfrm>
          <a:custGeom>
            <a:avLst/>
            <a:gdLst>
              <a:gd name="textAreaLeft" fmla="*/ 0 w 68400"/>
              <a:gd name="textAreaRight" fmla="*/ 68760 w 684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68581" h="228601">
                <a:moveTo>
                  <a:pt x="15240" y="7620"/>
                </a:moveTo>
                <a:lnTo>
                  <a:pt x="15240" y="0"/>
                </a:lnTo>
                <a:lnTo>
                  <a:pt x="7620" y="7620"/>
                </a:lnTo>
                <a:lnTo>
                  <a:pt x="7620" y="7620"/>
                </a:lnTo>
                <a:lnTo>
                  <a:pt x="0" y="15240"/>
                </a:lnTo>
                <a:lnTo>
                  <a:pt x="0" y="22860"/>
                </a:lnTo>
                <a:lnTo>
                  <a:pt x="0" y="30480"/>
                </a:lnTo>
                <a:lnTo>
                  <a:pt x="0" y="45720"/>
                </a:lnTo>
                <a:lnTo>
                  <a:pt x="0" y="60960"/>
                </a:lnTo>
                <a:lnTo>
                  <a:pt x="0" y="76200"/>
                </a:lnTo>
                <a:lnTo>
                  <a:pt x="7620" y="91440"/>
                </a:lnTo>
                <a:lnTo>
                  <a:pt x="7620" y="106680"/>
                </a:lnTo>
                <a:lnTo>
                  <a:pt x="15240" y="121920"/>
                </a:lnTo>
                <a:lnTo>
                  <a:pt x="22860" y="137160"/>
                </a:lnTo>
                <a:lnTo>
                  <a:pt x="30480" y="152400"/>
                </a:lnTo>
                <a:lnTo>
                  <a:pt x="38100" y="167640"/>
                </a:lnTo>
                <a:lnTo>
                  <a:pt x="45720" y="182880"/>
                </a:lnTo>
                <a:lnTo>
                  <a:pt x="53340" y="190500"/>
                </a:lnTo>
                <a:lnTo>
                  <a:pt x="60960" y="198120"/>
                </a:lnTo>
                <a:lnTo>
                  <a:pt x="60960" y="205740"/>
                </a:lnTo>
                <a:lnTo>
                  <a:pt x="68580" y="213360"/>
                </a:lnTo>
                <a:lnTo>
                  <a:pt x="68580" y="220980"/>
                </a:lnTo>
                <a:lnTo>
                  <a:pt x="68580" y="220980"/>
                </a:lnTo>
                <a:lnTo>
                  <a:pt x="68580" y="228600"/>
                </a:lnTo>
                <a:lnTo>
                  <a:pt x="68580" y="2286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Freeform 12"/>
          <p:cNvSpPr/>
          <p:nvPr/>
        </p:nvSpPr>
        <p:spPr>
          <a:xfrm>
            <a:off x="3665520" y="2446200"/>
            <a:ext cx="204840" cy="38160"/>
          </a:xfrm>
          <a:custGeom>
            <a:avLst/>
            <a:gdLst>
              <a:gd name="textAreaLeft" fmla="*/ 0 w 204840"/>
              <a:gd name="textAreaRight" fmla="*/ 205200 w 2048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05741" h="38101">
                <a:moveTo>
                  <a:pt x="7620" y="38100"/>
                </a:moveTo>
                <a:lnTo>
                  <a:pt x="7620" y="38100"/>
                </a:lnTo>
                <a:lnTo>
                  <a:pt x="0" y="38100"/>
                </a:lnTo>
                <a:lnTo>
                  <a:pt x="0" y="38100"/>
                </a:lnTo>
                <a:lnTo>
                  <a:pt x="0" y="30480"/>
                </a:lnTo>
                <a:lnTo>
                  <a:pt x="0" y="30480"/>
                </a:lnTo>
                <a:lnTo>
                  <a:pt x="7620" y="30480"/>
                </a:lnTo>
                <a:lnTo>
                  <a:pt x="15240" y="30480"/>
                </a:lnTo>
                <a:lnTo>
                  <a:pt x="30480" y="30480"/>
                </a:lnTo>
                <a:lnTo>
                  <a:pt x="53340" y="30480"/>
                </a:lnTo>
                <a:lnTo>
                  <a:pt x="68580" y="22860"/>
                </a:lnTo>
                <a:lnTo>
                  <a:pt x="91440" y="22860"/>
                </a:lnTo>
                <a:lnTo>
                  <a:pt x="114300" y="22860"/>
                </a:lnTo>
                <a:lnTo>
                  <a:pt x="137160" y="15240"/>
                </a:lnTo>
                <a:lnTo>
                  <a:pt x="152400" y="15240"/>
                </a:lnTo>
                <a:lnTo>
                  <a:pt x="175260" y="7620"/>
                </a:lnTo>
                <a:lnTo>
                  <a:pt x="182880" y="7620"/>
                </a:lnTo>
                <a:lnTo>
                  <a:pt x="205740" y="0"/>
                </a:lnTo>
                <a:lnTo>
                  <a:pt x="20574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Freeform 13"/>
          <p:cNvSpPr/>
          <p:nvPr/>
        </p:nvSpPr>
        <p:spPr>
          <a:xfrm>
            <a:off x="3863880" y="2384280"/>
            <a:ext cx="327240" cy="152640"/>
          </a:xfrm>
          <a:custGeom>
            <a:avLst/>
            <a:gdLst>
              <a:gd name="textAreaLeft" fmla="*/ 0 w 327240"/>
              <a:gd name="textAreaRight" fmla="*/ 327600 w 3272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327661" h="152401">
                <a:moveTo>
                  <a:pt x="60960" y="22860"/>
                </a:moveTo>
                <a:lnTo>
                  <a:pt x="60960" y="15240"/>
                </a:lnTo>
                <a:lnTo>
                  <a:pt x="68580" y="15240"/>
                </a:lnTo>
                <a:lnTo>
                  <a:pt x="68580" y="15240"/>
                </a:lnTo>
                <a:lnTo>
                  <a:pt x="68580" y="15240"/>
                </a:lnTo>
                <a:lnTo>
                  <a:pt x="68580" y="15240"/>
                </a:lnTo>
                <a:lnTo>
                  <a:pt x="68580" y="15240"/>
                </a:lnTo>
                <a:lnTo>
                  <a:pt x="68580" y="15240"/>
                </a:lnTo>
                <a:lnTo>
                  <a:pt x="68580" y="15240"/>
                </a:lnTo>
                <a:lnTo>
                  <a:pt x="60960" y="15240"/>
                </a:lnTo>
                <a:lnTo>
                  <a:pt x="60960" y="15240"/>
                </a:lnTo>
                <a:lnTo>
                  <a:pt x="53340" y="22860"/>
                </a:lnTo>
                <a:lnTo>
                  <a:pt x="45720" y="22860"/>
                </a:lnTo>
                <a:lnTo>
                  <a:pt x="38100" y="22860"/>
                </a:lnTo>
                <a:lnTo>
                  <a:pt x="30480" y="30480"/>
                </a:lnTo>
                <a:lnTo>
                  <a:pt x="22860" y="30480"/>
                </a:lnTo>
                <a:lnTo>
                  <a:pt x="15240" y="38100"/>
                </a:lnTo>
                <a:lnTo>
                  <a:pt x="7620" y="38100"/>
                </a:lnTo>
                <a:lnTo>
                  <a:pt x="7620" y="45720"/>
                </a:lnTo>
                <a:lnTo>
                  <a:pt x="0" y="45720"/>
                </a:lnTo>
                <a:lnTo>
                  <a:pt x="0" y="53340"/>
                </a:lnTo>
                <a:lnTo>
                  <a:pt x="0" y="53340"/>
                </a:lnTo>
                <a:lnTo>
                  <a:pt x="7620" y="60960"/>
                </a:lnTo>
                <a:lnTo>
                  <a:pt x="15240" y="60960"/>
                </a:lnTo>
                <a:lnTo>
                  <a:pt x="22860" y="60960"/>
                </a:lnTo>
                <a:lnTo>
                  <a:pt x="30480" y="68580"/>
                </a:lnTo>
                <a:lnTo>
                  <a:pt x="38100" y="68580"/>
                </a:lnTo>
                <a:lnTo>
                  <a:pt x="45720" y="68580"/>
                </a:lnTo>
                <a:lnTo>
                  <a:pt x="53340" y="68580"/>
                </a:lnTo>
                <a:lnTo>
                  <a:pt x="53340" y="68580"/>
                </a:lnTo>
                <a:lnTo>
                  <a:pt x="60960" y="76200"/>
                </a:lnTo>
                <a:lnTo>
                  <a:pt x="60960" y="76200"/>
                </a:lnTo>
                <a:lnTo>
                  <a:pt x="60960" y="76200"/>
                </a:lnTo>
                <a:lnTo>
                  <a:pt x="53340" y="83820"/>
                </a:lnTo>
                <a:lnTo>
                  <a:pt x="45720" y="91440"/>
                </a:lnTo>
                <a:lnTo>
                  <a:pt x="45720" y="91440"/>
                </a:lnTo>
                <a:lnTo>
                  <a:pt x="38100" y="99060"/>
                </a:lnTo>
                <a:lnTo>
                  <a:pt x="30480" y="106680"/>
                </a:lnTo>
                <a:lnTo>
                  <a:pt x="22860" y="106680"/>
                </a:lnTo>
                <a:lnTo>
                  <a:pt x="22860" y="114300"/>
                </a:lnTo>
                <a:lnTo>
                  <a:pt x="15240" y="121920"/>
                </a:lnTo>
                <a:lnTo>
                  <a:pt x="15240" y="129540"/>
                </a:lnTo>
                <a:lnTo>
                  <a:pt x="15240" y="137160"/>
                </a:lnTo>
                <a:lnTo>
                  <a:pt x="22860" y="137160"/>
                </a:lnTo>
                <a:lnTo>
                  <a:pt x="22860" y="144780"/>
                </a:lnTo>
                <a:lnTo>
                  <a:pt x="30480" y="144780"/>
                </a:lnTo>
                <a:lnTo>
                  <a:pt x="45720" y="144780"/>
                </a:lnTo>
                <a:lnTo>
                  <a:pt x="53340" y="144780"/>
                </a:lnTo>
                <a:lnTo>
                  <a:pt x="68580" y="144780"/>
                </a:lnTo>
                <a:lnTo>
                  <a:pt x="83820" y="144780"/>
                </a:lnTo>
                <a:lnTo>
                  <a:pt x="99060" y="137160"/>
                </a:lnTo>
                <a:lnTo>
                  <a:pt x="106680" y="137160"/>
                </a:lnTo>
                <a:lnTo>
                  <a:pt x="121920" y="129540"/>
                </a:lnTo>
                <a:lnTo>
                  <a:pt x="129540" y="121920"/>
                </a:lnTo>
                <a:lnTo>
                  <a:pt x="129540" y="114300"/>
                </a:lnTo>
                <a:lnTo>
                  <a:pt x="137160" y="106680"/>
                </a:lnTo>
                <a:lnTo>
                  <a:pt x="144780" y="99060"/>
                </a:lnTo>
                <a:lnTo>
                  <a:pt x="144780" y="91440"/>
                </a:lnTo>
                <a:lnTo>
                  <a:pt x="144780" y="91440"/>
                </a:lnTo>
                <a:lnTo>
                  <a:pt x="152400" y="83820"/>
                </a:lnTo>
                <a:lnTo>
                  <a:pt x="152400" y="83820"/>
                </a:lnTo>
                <a:lnTo>
                  <a:pt x="152400" y="76200"/>
                </a:lnTo>
                <a:lnTo>
                  <a:pt x="152400" y="76200"/>
                </a:lnTo>
                <a:lnTo>
                  <a:pt x="152400" y="76200"/>
                </a:lnTo>
                <a:lnTo>
                  <a:pt x="152400" y="76200"/>
                </a:lnTo>
                <a:lnTo>
                  <a:pt x="152400" y="76200"/>
                </a:lnTo>
                <a:lnTo>
                  <a:pt x="152400" y="76200"/>
                </a:lnTo>
                <a:lnTo>
                  <a:pt x="152400" y="76200"/>
                </a:lnTo>
                <a:lnTo>
                  <a:pt x="160020" y="83820"/>
                </a:lnTo>
                <a:lnTo>
                  <a:pt x="160020" y="91440"/>
                </a:lnTo>
                <a:lnTo>
                  <a:pt x="167640" y="91440"/>
                </a:lnTo>
                <a:lnTo>
                  <a:pt x="175260" y="99060"/>
                </a:lnTo>
                <a:lnTo>
                  <a:pt x="182880" y="99060"/>
                </a:lnTo>
                <a:lnTo>
                  <a:pt x="190500" y="106680"/>
                </a:lnTo>
                <a:lnTo>
                  <a:pt x="198120" y="114300"/>
                </a:lnTo>
                <a:lnTo>
                  <a:pt x="213360" y="121920"/>
                </a:lnTo>
                <a:lnTo>
                  <a:pt x="220980" y="121920"/>
                </a:lnTo>
                <a:lnTo>
                  <a:pt x="236220" y="129540"/>
                </a:lnTo>
                <a:lnTo>
                  <a:pt x="243840" y="137160"/>
                </a:lnTo>
                <a:lnTo>
                  <a:pt x="251460" y="137160"/>
                </a:lnTo>
                <a:lnTo>
                  <a:pt x="259080" y="144780"/>
                </a:lnTo>
                <a:lnTo>
                  <a:pt x="266700" y="144780"/>
                </a:lnTo>
                <a:lnTo>
                  <a:pt x="266700" y="144780"/>
                </a:lnTo>
                <a:lnTo>
                  <a:pt x="274320" y="152400"/>
                </a:lnTo>
                <a:lnTo>
                  <a:pt x="274320" y="144780"/>
                </a:lnTo>
                <a:lnTo>
                  <a:pt x="274320" y="144780"/>
                </a:lnTo>
                <a:lnTo>
                  <a:pt x="274320" y="137160"/>
                </a:lnTo>
                <a:lnTo>
                  <a:pt x="266700" y="129540"/>
                </a:lnTo>
                <a:lnTo>
                  <a:pt x="259080" y="121920"/>
                </a:lnTo>
                <a:lnTo>
                  <a:pt x="251460" y="114300"/>
                </a:lnTo>
                <a:lnTo>
                  <a:pt x="243840" y="99060"/>
                </a:lnTo>
                <a:lnTo>
                  <a:pt x="236220" y="91440"/>
                </a:lnTo>
                <a:lnTo>
                  <a:pt x="228600" y="76200"/>
                </a:lnTo>
                <a:lnTo>
                  <a:pt x="213360" y="60960"/>
                </a:lnTo>
                <a:lnTo>
                  <a:pt x="205740" y="53340"/>
                </a:lnTo>
                <a:lnTo>
                  <a:pt x="205740" y="45720"/>
                </a:lnTo>
                <a:lnTo>
                  <a:pt x="198120" y="30480"/>
                </a:lnTo>
                <a:lnTo>
                  <a:pt x="198120" y="22860"/>
                </a:lnTo>
                <a:lnTo>
                  <a:pt x="198120" y="15240"/>
                </a:lnTo>
                <a:lnTo>
                  <a:pt x="205740" y="7620"/>
                </a:lnTo>
                <a:lnTo>
                  <a:pt x="220980" y="7620"/>
                </a:lnTo>
                <a:lnTo>
                  <a:pt x="228600" y="0"/>
                </a:lnTo>
                <a:lnTo>
                  <a:pt x="251460" y="0"/>
                </a:lnTo>
                <a:lnTo>
                  <a:pt x="274320" y="0"/>
                </a:lnTo>
                <a:lnTo>
                  <a:pt x="297180" y="0"/>
                </a:lnTo>
                <a:lnTo>
                  <a:pt x="327660" y="0"/>
                </a:lnTo>
                <a:lnTo>
                  <a:pt x="32766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11430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.1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52280" y="796680"/>
            <a:ext cx="8229600" cy="17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e the standard equation of a circle with center (-8, 1) and radius of </a:t>
            </a:r>
            <a:r>
              <a:rPr b="0" lang="en-US" sz="2800" spc="-1" strike="noStrike">
                <a:solidFill>
                  <a:srgbClr val="000000"/>
                </a:solidFill>
                <a:latin typeface="Informal Roman"/>
              </a:rPr>
              <a:t>√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ph i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4267080" y="274320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 – h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(y – k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 – (-8)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(y – 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0000"/>
                </a:solidFill>
                <a:latin typeface="Informal Roman"/>
              </a:rPr>
              <a:t>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 + 8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(y – 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Line 5"/>
          <p:cNvSpPr/>
          <p:nvPr/>
        </p:nvSpPr>
        <p:spPr>
          <a:xfrm flipV="1">
            <a:off x="3535200" y="219528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Line 6"/>
          <p:cNvSpPr/>
          <p:nvPr/>
        </p:nvSpPr>
        <p:spPr>
          <a:xfrm>
            <a:off x="1020600" y="4557600"/>
            <a:ext cx="4267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Line 7"/>
          <p:cNvSpPr/>
          <p:nvPr/>
        </p:nvSpPr>
        <p:spPr>
          <a:xfrm>
            <a:off x="1477800" y="4481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1325520" y="4633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Line 9"/>
          <p:cNvSpPr/>
          <p:nvPr/>
        </p:nvSpPr>
        <p:spPr>
          <a:xfrm>
            <a:off x="3382920" y="43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687840" y="41004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Oval 11"/>
          <p:cNvSpPr/>
          <p:nvPr/>
        </p:nvSpPr>
        <p:spPr>
          <a:xfrm>
            <a:off x="1401840" y="4253040"/>
            <a:ext cx="15228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Oval 12"/>
          <p:cNvSpPr/>
          <p:nvPr/>
        </p:nvSpPr>
        <p:spPr>
          <a:xfrm>
            <a:off x="716040" y="3643200"/>
            <a:ext cx="1600200" cy="144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Line 13"/>
          <p:cNvSpPr/>
          <p:nvPr/>
        </p:nvSpPr>
        <p:spPr>
          <a:xfrm flipV="1">
            <a:off x="1477800" y="38718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1401840" y="3811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nformal Roman"/>
              </a:rPr>
              <a:t>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Freeform 1"/>
          <p:cNvSpPr/>
          <p:nvPr/>
        </p:nvSpPr>
        <p:spPr>
          <a:xfrm>
            <a:off x="2468520" y="1790640"/>
            <a:ext cx="266760" cy="503280"/>
          </a:xfrm>
          <a:custGeom>
            <a:avLst/>
            <a:gdLst>
              <a:gd name="textAreaLeft" fmla="*/ 0 w 266760"/>
              <a:gd name="textAreaRight" fmla="*/ 267120 w 2667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66701" h="502921">
                <a:moveTo>
                  <a:pt x="76200" y="0"/>
                </a:moveTo>
                <a:lnTo>
                  <a:pt x="76200" y="0"/>
                </a:lnTo>
                <a:lnTo>
                  <a:pt x="68580" y="0"/>
                </a:lnTo>
                <a:lnTo>
                  <a:pt x="68580" y="0"/>
                </a:lnTo>
                <a:lnTo>
                  <a:pt x="68580" y="0"/>
                </a:lnTo>
                <a:lnTo>
                  <a:pt x="60960" y="7620"/>
                </a:lnTo>
                <a:lnTo>
                  <a:pt x="53340" y="15240"/>
                </a:lnTo>
                <a:lnTo>
                  <a:pt x="53340" y="22860"/>
                </a:lnTo>
                <a:lnTo>
                  <a:pt x="45720" y="30480"/>
                </a:lnTo>
                <a:lnTo>
                  <a:pt x="45720" y="45720"/>
                </a:lnTo>
                <a:lnTo>
                  <a:pt x="38100" y="53340"/>
                </a:lnTo>
                <a:lnTo>
                  <a:pt x="30480" y="76200"/>
                </a:lnTo>
                <a:lnTo>
                  <a:pt x="22860" y="91440"/>
                </a:lnTo>
                <a:lnTo>
                  <a:pt x="22860" y="114300"/>
                </a:lnTo>
                <a:lnTo>
                  <a:pt x="15240" y="129540"/>
                </a:lnTo>
                <a:lnTo>
                  <a:pt x="7620" y="152400"/>
                </a:lnTo>
                <a:lnTo>
                  <a:pt x="7620" y="182880"/>
                </a:lnTo>
                <a:lnTo>
                  <a:pt x="0" y="205740"/>
                </a:lnTo>
                <a:lnTo>
                  <a:pt x="0" y="228600"/>
                </a:lnTo>
                <a:lnTo>
                  <a:pt x="0" y="251460"/>
                </a:lnTo>
                <a:lnTo>
                  <a:pt x="0" y="281940"/>
                </a:lnTo>
                <a:lnTo>
                  <a:pt x="0" y="304800"/>
                </a:lnTo>
                <a:lnTo>
                  <a:pt x="7620" y="327660"/>
                </a:lnTo>
                <a:lnTo>
                  <a:pt x="15240" y="350520"/>
                </a:lnTo>
                <a:lnTo>
                  <a:pt x="30480" y="365760"/>
                </a:lnTo>
                <a:lnTo>
                  <a:pt x="45720" y="388620"/>
                </a:lnTo>
                <a:lnTo>
                  <a:pt x="60960" y="403860"/>
                </a:lnTo>
                <a:lnTo>
                  <a:pt x="76200" y="419100"/>
                </a:lnTo>
                <a:lnTo>
                  <a:pt x="99060" y="434340"/>
                </a:lnTo>
                <a:lnTo>
                  <a:pt x="121920" y="449580"/>
                </a:lnTo>
                <a:lnTo>
                  <a:pt x="144780" y="464820"/>
                </a:lnTo>
                <a:lnTo>
                  <a:pt x="175260" y="472440"/>
                </a:lnTo>
                <a:lnTo>
                  <a:pt x="198120" y="480060"/>
                </a:lnTo>
                <a:lnTo>
                  <a:pt x="228600" y="487680"/>
                </a:lnTo>
                <a:lnTo>
                  <a:pt x="266700" y="502920"/>
                </a:lnTo>
                <a:lnTo>
                  <a:pt x="266700" y="5029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Freeform 2"/>
          <p:cNvSpPr/>
          <p:nvPr/>
        </p:nvSpPr>
        <p:spPr>
          <a:xfrm>
            <a:off x="2682720" y="1935000"/>
            <a:ext cx="250920" cy="220680"/>
          </a:xfrm>
          <a:custGeom>
            <a:avLst/>
            <a:gdLst>
              <a:gd name="textAreaLeft" fmla="*/ 0 w 250920"/>
              <a:gd name="textAreaRight" fmla="*/ 251280 w 25092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51461" h="220981">
                <a:moveTo>
                  <a:pt x="251460" y="0"/>
                </a:moveTo>
                <a:lnTo>
                  <a:pt x="251460" y="0"/>
                </a:lnTo>
                <a:lnTo>
                  <a:pt x="251460" y="0"/>
                </a:lnTo>
                <a:lnTo>
                  <a:pt x="251460" y="0"/>
                </a:lnTo>
                <a:lnTo>
                  <a:pt x="251460" y="0"/>
                </a:lnTo>
                <a:lnTo>
                  <a:pt x="251460" y="0"/>
                </a:lnTo>
                <a:lnTo>
                  <a:pt x="243840" y="7620"/>
                </a:lnTo>
                <a:lnTo>
                  <a:pt x="243840" y="7620"/>
                </a:lnTo>
                <a:lnTo>
                  <a:pt x="236220" y="15240"/>
                </a:lnTo>
                <a:lnTo>
                  <a:pt x="228600" y="22860"/>
                </a:lnTo>
                <a:lnTo>
                  <a:pt x="220980" y="38100"/>
                </a:lnTo>
                <a:lnTo>
                  <a:pt x="213360" y="45720"/>
                </a:lnTo>
                <a:lnTo>
                  <a:pt x="205740" y="53340"/>
                </a:lnTo>
                <a:lnTo>
                  <a:pt x="190500" y="68580"/>
                </a:lnTo>
                <a:lnTo>
                  <a:pt x="182880" y="83820"/>
                </a:lnTo>
                <a:lnTo>
                  <a:pt x="167640" y="99060"/>
                </a:lnTo>
                <a:lnTo>
                  <a:pt x="152400" y="114300"/>
                </a:lnTo>
                <a:lnTo>
                  <a:pt x="129540" y="129540"/>
                </a:lnTo>
                <a:lnTo>
                  <a:pt x="114300" y="144780"/>
                </a:lnTo>
                <a:lnTo>
                  <a:pt x="99060" y="160020"/>
                </a:lnTo>
                <a:lnTo>
                  <a:pt x="83820" y="175260"/>
                </a:lnTo>
                <a:lnTo>
                  <a:pt x="60960" y="190500"/>
                </a:lnTo>
                <a:lnTo>
                  <a:pt x="53340" y="205740"/>
                </a:lnTo>
                <a:lnTo>
                  <a:pt x="38100" y="205740"/>
                </a:lnTo>
                <a:lnTo>
                  <a:pt x="30480" y="213360"/>
                </a:lnTo>
                <a:lnTo>
                  <a:pt x="15240" y="220980"/>
                </a:lnTo>
                <a:lnTo>
                  <a:pt x="7620" y="220980"/>
                </a:lnTo>
                <a:lnTo>
                  <a:pt x="0" y="220980"/>
                </a:lnTo>
                <a:lnTo>
                  <a:pt x="0" y="2209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Freeform 3"/>
          <p:cNvSpPr/>
          <p:nvPr/>
        </p:nvSpPr>
        <p:spPr>
          <a:xfrm>
            <a:off x="2720880" y="1981080"/>
            <a:ext cx="243000" cy="122400"/>
          </a:xfrm>
          <a:custGeom>
            <a:avLst/>
            <a:gdLst>
              <a:gd name="textAreaLeft" fmla="*/ 0 w 243000"/>
              <a:gd name="textAreaRight" fmla="*/ 243360 w 24300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243841" h="121921">
                <a:moveTo>
                  <a:pt x="0" y="7620"/>
                </a:moveTo>
                <a:lnTo>
                  <a:pt x="0" y="0"/>
                </a:lnTo>
                <a:lnTo>
                  <a:pt x="0" y="0"/>
                </a:lnTo>
                <a:lnTo>
                  <a:pt x="7620" y="7620"/>
                </a:lnTo>
                <a:lnTo>
                  <a:pt x="15240" y="7620"/>
                </a:lnTo>
                <a:lnTo>
                  <a:pt x="15240" y="7620"/>
                </a:lnTo>
                <a:lnTo>
                  <a:pt x="22860" y="15240"/>
                </a:lnTo>
                <a:lnTo>
                  <a:pt x="30480" y="22860"/>
                </a:lnTo>
                <a:lnTo>
                  <a:pt x="38100" y="30480"/>
                </a:lnTo>
                <a:lnTo>
                  <a:pt x="53340" y="38100"/>
                </a:lnTo>
                <a:lnTo>
                  <a:pt x="60960" y="45720"/>
                </a:lnTo>
                <a:lnTo>
                  <a:pt x="68580" y="53340"/>
                </a:lnTo>
                <a:lnTo>
                  <a:pt x="83820" y="60960"/>
                </a:lnTo>
                <a:lnTo>
                  <a:pt x="99060" y="76200"/>
                </a:lnTo>
                <a:lnTo>
                  <a:pt x="106680" y="76200"/>
                </a:lnTo>
                <a:lnTo>
                  <a:pt x="121920" y="91440"/>
                </a:lnTo>
                <a:lnTo>
                  <a:pt x="144780" y="99060"/>
                </a:lnTo>
                <a:lnTo>
                  <a:pt x="160020" y="106680"/>
                </a:lnTo>
                <a:lnTo>
                  <a:pt x="175260" y="106680"/>
                </a:lnTo>
                <a:lnTo>
                  <a:pt x="190500" y="114300"/>
                </a:lnTo>
                <a:lnTo>
                  <a:pt x="205740" y="121920"/>
                </a:lnTo>
                <a:lnTo>
                  <a:pt x="220980" y="121920"/>
                </a:lnTo>
                <a:lnTo>
                  <a:pt x="243840" y="121920"/>
                </a:lnTo>
                <a:lnTo>
                  <a:pt x="243840" y="1219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Freeform 4"/>
          <p:cNvSpPr/>
          <p:nvPr/>
        </p:nvSpPr>
        <p:spPr>
          <a:xfrm>
            <a:off x="3040200" y="2019240"/>
            <a:ext cx="198360" cy="15840"/>
          </a:xfrm>
          <a:custGeom>
            <a:avLst/>
            <a:gdLst>
              <a:gd name="textAreaLeft" fmla="*/ 0 w 198360"/>
              <a:gd name="textAreaRight" fmla="*/ 198720 w 1983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98121" h="15241">
                <a:moveTo>
                  <a:pt x="15240" y="7620"/>
                </a:moveTo>
                <a:lnTo>
                  <a:pt x="7620" y="7620"/>
                </a:lnTo>
                <a:lnTo>
                  <a:pt x="7620" y="7620"/>
                </a:lnTo>
                <a:lnTo>
                  <a:pt x="7620" y="762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7620" y="7620"/>
                </a:lnTo>
                <a:lnTo>
                  <a:pt x="7620" y="7620"/>
                </a:lnTo>
                <a:lnTo>
                  <a:pt x="15240" y="7620"/>
                </a:lnTo>
                <a:lnTo>
                  <a:pt x="15240" y="15240"/>
                </a:lnTo>
                <a:lnTo>
                  <a:pt x="22860" y="15240"/>
                </a:lnTo>
                <a:lnTo>
                  <a:pt x="30480" y="15240"/>
                </a:lnTo>
                <a:lnTo>
                  <a:pt x="38100" y="15240"/>
                </a:lnTo>
                <a:lnTo>
                  <a:pt x="45720" y="7620"/>
                </a:lnTo>
                <a:lnTo>
                  <a:pt x="60960" y="7620"/>
                </a:lnTo>
                <a:lnTo>
                  <a:pt x="76200" y="7620"/>
                </a:lnTo>
                <a:lnTo>
                  <a:pt x="91440" y="7620"/>
                </a:lnTo>
                <a:lnTo>
                  <a:pt x="106680" y="7620"/>
                </a:lnTo>
                <a:lnTo>
                  <a:pt x="129540" y="0"/>
                </a:lnTo>
                <a:lnTo>
                  <a:pt x="144780" y="0"/>
                </a:lnTo>
                <a:lnTo>
                  <a:pt x="160020" y="0"/>
                </a:lnTo>
                <a:lnTo>
                  <a:pt x="175260" y="0"/>
                </a:lnTo>
                <a:lnTo>
                  <a:pt x="198120" y="0"/>
                </a:lnTo>
                <a:lnTo>
                  <a:pt x="19812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Freeform 5"/>
          <p:cNvSpPr/>
          <p:nvPr/>
        </p:nvSpPr>
        <p:spPr>
          <a:xfrm>
            <a:off x="3254400" y="1943280"/>
            <a:ext cx="120600" cy="7920"/>
          </a:xfrm>
          <a:custGeom>
            <a:avLst/>
            <a:gdLst>
              <a:gd name="textAreaLeft" fmla="*/ 0 w 120600"/>
              <a:gd name="textAreaRight" fmla="*/ 120960 w 12060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21921" h="7621">
                <a:moveTo>
                  <a:pt x="0" y="7620"/>
                </a:move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7620" y="7620"/>
                </a:lnTo>
                <a:lnTo>
                  <a:pt x="7620" y="7620"/>
                </a:lnTo>
                <a:lnTo>
                  <a:pt x="15240" y="7620"/>
                </a:lnTo>
                <a:lnTo>
                  <a:pt x="15240" y="7620"/>
                </a:lnTo>
                <a:lnTo>
                  <a:pt x="30480" y="7620"/>
                </a:lnTo>
                <a:lnTo>
                  <a:pt x="38100" y="7620"/>
                </a:lnTo>
                <a:lnTo>
                  <a:pt x="53340" y="0"/>
                </a:lnTo>
                <a:lnTo>
                  <a:pt x="68580" y="0"/>
                </a:lnTo>
                <a:lnTo>
                  <a:pt x="83820" y="0"/>
                </a:lnTo>
                <a:lnTo>
                  <a:pt x="99060" y="0"/>
                </a:lnTo>
                <a:lnTo>
                  <a:pt x="121920" y="0"/>
                </a:lnTo>
                <a:lnTo>
                  <a:pt x="12192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Freeform 6"/>
          <p:cNvSpPr/>
          <p:nvPr/>
        </p:nvSpPr>
        <p:spPr>
          <a:xfrm>
            <a:off x="3444840" y="1828800"/>
            <a:ext cx="158760" cy="152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60021" h="152401">
                <a:moveTo>
                  <a:pt x="106680" y="22860"/>
                </a:moveTo>
                <a:lnTo>
                  <a:pt x="106680" y="15240"/>
                </a:lnTo>
                <a:lnTo>
                  <a:pt x="106680" y="7620"/>
                </a:lnTo>
                <a:lnTo>
                  <a:pt x="106680" y="7620"/>
                </a:lnTo>
                <a:lnTo>
                  <a:pt x="106680" y="7620"/>
                </a:lnTo>
                <a:lnTo>
                  <a:pt x="106680" y="0"/>
                </a:lnTo>
                <a:lnTo>
                  <a:pt x="106680" y="0"/>
                </a:lnTo>
                <a:lnTo>
                  <a:pt x="106680" y="0"/>
                </a:lnTo>
                <a:lnTo>
                  <a:pt x="99060" y="0"/>
                </a:lnTo>
                <a:lnTo>
                  <a:pt x="99060" y="0"/>
                </a:lnTo>
                <a:lnTo>
                  <a:pt x="99060" y="0"/>
                </a:lnTo>
                <a:lnTo>
                  <a:pt x="91440" y="0"/>
                </a:lnTo>
                <a:lnTo>
                  <a:pt x="83820" y="7620"/>
                </a:lnTo>
                <a:lnTo>
                  <a:pt x="76200" y="7620"/>
                </a:lnTo>
                <a:lnTo>
                  <a:pt x="68580" y="22860"/>
                </a:lnTo>
                <a:lnTo>
                  <a:pt x="53340" y="30480"/>
                </a:lnTo>
                <a:lnTo>
                  <a:pt x="38100" y="45720"/>
                </a:lnTo>
                <a:lnTo>
                  <a:pt x="30480" y="53340"/>
                </a:lnTo>
                <a:lnTo>
                  <a:pt x="15240" y="68580"/>
                </a:lnTo>
                <a:lnTo>
                  <a:pt x="7620" y="91440"/>
                </a:lnTo>
                <a:lnTo>
                  <a:pt x="0" y="99060"/>
                </a:lnTo>
                <a:lnTo>
                  <a:pt x="0" y="114300"/>
                </a:lnTo>
                <a:lnTo>
                  <a:pt x="0" y="121920"/>
                </a:lnTo>
                <a:lnTo>
                  <a:pt x="7620" y="129540"/>
                </a:lnTo>
                <a:lnTo>
                  <a:pt x="7620" y="137160"/>
                </a:lnTo>
                <a:lnTo>
                  <a:pt x="22860" y="144780"/>
                </a:lnTo>
                <a:lnTo>
                  <a:pt x="30480" y="152400"/>
                </a:lnTo>
                <a:lnTo>
                  <a:pt x="45720" y="152400"/>
                </a:lnTo>
                <a:lnTo>
                  <a:pt x="60960" y="152400"/>
                </a:lnTo>
                <a:lnTo>
                  <a:pt x="76200" y="152400"/>
                </a:lnTo>
                <a:lnTo>
                  <a:pt x="99060" y="144780"/>
                </a:lnTo>
                <a:lnTo>
                  <a:pt x="114300" y="144780"/>
                </a:lnTo>
                <a:lnTo>
                  <a:pt x="121920" y="137160"/>
                </a:lnTo>
                <a:lnTo>
                  <a:pt x="137160" y="129540"/>
                </a:lnTo>
                <a:lnTo>
                  <a:pt x="144780" y="114300"/>
                </a:lnTo>
                <a:lnTo>
                  <a:pt x="152400" y="106680"/>
                </a:lnTo>
                <a:lnTo>
                  <a:pt x="160020" y="91440"/>
                </a:lnTo>
                <a:lnTo>
                  <a:pt x="160020" y="76200"/>
                </a:lnTo>
                <a:lnTo>
                  <a:pt x="160020" y="68580"/>
                </a:lnTo>
                <a:lnTo>
                  <a:pt x="160020" y="60960"/>
                </a:lnTo>
                <a:lnTo>
                  <a:pt x="152400" y="45720"/>
                </a:lnTo>
                <a:lnTo>
                  <a:pt x="152400" y="45720"/>
                </a:lnTo>
                <a:lnTo>
                  <a:pt x="144780" y="38100"/>
                </a:lnTo>
                <a:lnTo>
                  <a:pt x="129540" y="38100"/>
                </a:lnTo>
                <a:lnTo>
                  <a:pt x="121920" y="38100"/>
                </a:lnTo>
                <a:lnTo>
                  <a:pt x="114300" y="45720"/>
                </a:lnTo>
                <a:lnTo>
                  <a:pt x="99060" y="45720"/>
                </a:lnTo>
                <a:lnTo>
                  <a:pt x="91440" y="53340"/>
                </a:lnTo>
                <a:lnTo>
                  <a:pt x="76200" y="60960"/>
                </a:lnTo>
                <a:lnTo>
                  <a:pt x="68580" y="68580"/>
                </a:lnTo>
                <a:lnTo>
                  <a:pt x="53340" y="76200"/>
                </a:lnTo>
                <a:lnTo>
                  <a:pt x="53340" y="762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3413160" y="1935000"/>
            <a:ext cx="206280" cy="214560"/>
          </a:xfrm>
          <a:custGeom>
            <a:avLst/>
            <a:gdLst>
              <a:gd name="textAreaLeft" fmla="*/ 0 w 206280"/>
              <a:gd name="textAreaRight" fmla="*/ 206640 w 20628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205741" h="213361">
                <a:moveTo>
                  <a:pt x="99060" y="60960"/>
                </a:moveTo>
                <a:lnTo>
                  <a:pt x="99060" y="60960"/>
                </a:lnTo>
                <a:lnTo>
                  <a:pt x="99060" y="60960"/>
                </a:lnTo>
                <a:lnTo>
                  <a:pt x="99060" y="60960"/>
                </a:lnTo>
                <a:lnTo>
                  <a:pt x="99060" y="60960"/>
                </a:lnTo>
                <a:lnTo>
                  <a:pt x="91440" y="60960"/>
                </a:lnTo>
                <a:lnTo>
                  <a:pt x="91440" y="60960"/>
                </a:lnTo>
                <a:lnTo>
                  <a:pt x="83820" y="68580"/>
                </a:lnTo>
                <a:lnTo>
                  <a:pt x="76200" y="68580"/>
                </a:lnTo>
                <a:lnTo>
                  <a:pt x="60960" y="76200"/>
                </a:lnTo>
                <a:lnTo>
                  <a:pt x="53340" y="83820"/>
                </a:lnTo>
                <a:lnTo>
                  <a:pt x="45720" y="91440"/>
                </a:lnTo>
                <a:lnTo>
                  <a:pt x="38100" y="106680"/>
                </a:lnTo>
                <a:lnTo>
                  <a:pt x="22860" y="114300"/>
                </a:lnTo>
                <a:lnTo>
                  <a:pt x="15240" y="129540"/>
                </a:lnTo>
                <a:lnTo>
                  <a:pt x="7620" y="144780"/>
                </a:lnTo>
                <a:lnTo>
                  <a:pt x="0" y="160020"/>
                </a:lnTo>
                <a:lnTo>
                  <a:pt x="0" y="167640"/>
                </a:lnTo>
                <a:lnTo>
                  <a:pt x="0" y="182880"/>
                </a:lnTo>
                <a:lnTo>
                  <a:pt x="7620" y="190500"/>
                </a:lnTo>
                <a:lnTo>
                  <a:pt x="7620" y="198120"/>
                </a:lnTo>
                <a:lnTo>
                  <a:pt x="22860" y="205740"/>
                </a:lnTo>
                <a:lnTo>
                  <a:pt x="38100" y="205740"/>
                </a:lnTo>
                <a:lnTo>
                  <a:pt x="60960" y="213360"/>
                </a:lnTo>
                <a:lnTo>
                  <a:pt x="76200" y="213360"/>
                </a:lnTo>
                <a:lnTo>
                  <a:pt x="99060" y="213360"/>
                </a:lnTo>
                <a:lnTo>
                  <a:pt x="114300" y="205740"/>
                </a:lnTo>
                <a:lnTo>
                  <a:pt x="137160" y="198120"/>
                </a:lnTo>
                <a:lnTo>
                  <a:pt x="152400" y="190500"/>
                </a:lnTo>
                <a:lnTo>
                  <a:pt x="167640" y="175260"/>
                </a:lnTo>
                <a:lnTo>
                  <a:pt x="182880" y="160020"/>
                </a:lnTo>
                <a:lnTo>
                  <a:pt x="190500" y="144780"/>
                </a:lnTo>
                <a:lnTo>
                  <a:pt x="198120" y="121920"/>
                </a:lnTo>
                <a:lnTo>
                  <a:pt x="205740" y="106680"/>
                </a:lnTo>
                <a:lnTo>
                  <a:pt x="205740" y="83820"/>
                </a:lnTo>
                <a:lnTo>
                  <a:pt x="205740" y="68580"/>
                </a:lnTo>
                <a:lnTo>
                  <a:pt x="205740" y="53340"/>
                </a:lnTo>
                <a:lnTo>
                  <a:pt x="198120" y="45720"/>
                </a:lnTo>
                <a:lnTo>
                  <a:pt x="190500" y="30480"/>
                </a:lnTo>
                <a:lnTo>
                  <a:pt x="182880" y="22860"/>
                </a:lnTo>
                <a:lnTo>
                  <a:pt x="175260" y="15240"/>
                </a:lnTo>
                <a:lnTo>
                  <a:pt x="160020" y="7620"/>
                </a:lnTo>
                <a:lnTo>
                  <a:pt x="152400" y="7620"/>
                </a:lnTo>
                <a:lnTo>
                  <a:pt x="144780" y="0"/>
                </a:lnTo>
                <a:lnTo>
                  <a:pt x="137160" y="0"/>
                </a:lnTo>
                <a:lnTo>
                  <a:pt x="129540" y="0"/>
                </a:lnTo>
                <a:lnTo>
                  <a:pt x="12954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Freeform 8"/>
          <p:cNvSpPr/>
          <p:nvPr/>
        </p:nvSpPr>
        <p:spPr>
          <a:xfrm>
            <a:off x="3665520" y="1768320"/>
            <a:ext cx="136440" cy="425520"/>
          </a:xfrm>
          <a:custGeom>
            <a:avLst/>
            <a:gdLst>
              <a:gd name="textAreaLeft" fmla="*/ 0 w 136440"/>
              <a:gd name="textAreaRight" fmla="*/ 136800 w 13644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137161" h="42672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620" y="7620"/>
                </a:lnTo>
                <a:lnTo>
                  <a:pt x="7620" y="15240"/>
                </a:lnTo>
                <a:lnTo>
                  <a:pt x="15240" y="22860"/>
                </a:lnTo>
                <a:lnTo>
                  <a:pt x="22860" y="38100"/>
                </a:lnTo>
                <a:lnTo>
                  <a:pt x="30480" y="45720"/>
                </a:lnTo>
                <a:lnTo>
                  <a:pt x="38100" y="60960"/>
                </a:lnTo>
                <a:lnTo>
                  <a:pt x="53340" y="76200"/>
                </a:lnTo>
                <a:lnTo>
                  <a:pt x="60960" y="99060"/>
                </a:lnTo>
                <a:lnTo>
                  <a:pt x="76200" y="121920"/>
                </a:lnTo>
                <a:lnTo>
                  <a:pt x="91440" y="144780"/>
                </a:lnTo>
                <a:lnTo>
                  <a:pt x="99060" y="167640"/>
                </a:lnTo>
                <a:lnTo>
                  <a:pt x="106680" y="190500"/>
                </a:lnTo>
                <a:lnTo>
                  <a:pt x="121920" y="220980"/>
                </a:lnTo>
                <a:lnTo>
                  <a:pt x="129540" y="243840"/>
                </a:lnTo>
                <a:lnTo>
                  <a:pt x="137160" y="274320"/>
                </a:lnTo>
                <a:lnTo>
                  <a:pt x="137160" y="297180"/>
                </a:lnTo>
                <a:lnTo>
                  <a:pt x="137160" y="320040"/>
                </a:lnTo>
                <a:lnTo>
                  <a:pt x="137160" y="342900"/>
                </a:lnTo>
                <a:lnTo>
                  <a:pt x="137160" y="358140"/>
                </a:lnTo>
                <a:lnTo>
                  <a:pt x="129540" y="373380"/>
                </a:lnTo>
                <a:lnTo>
                  <a:pt x="114300" y="388620"/>
                </a:lnTo>
                <a:lnTo>
                  <a:pt x="99060" y="396240"/>
                </a:lnTo>
                <a:lnTo>
                  <a:pt x="91440" y="411480"/>
                </a:lnTo>
                <a:lnTo>
                  <a:pt x="76200" y="411480"/>
                </a:lnTo>
                <a:lnTo>
                  <a:pt x="60960" y="419100"/>
                </a:lnTo>
                <a:lnTo>
                  <a:pt x="38100" y="419100"/>
                </a:lnTo>
                <a:lnTo>
                  <a:pt x="22860" y="419100"/>
                </a:lnTo>
                <a:lnTo>
                  <a:pt x="0" y="426720"/>
                </a:lnTo>
                <a:lnTo>
                  <a:pt x="0" y="4267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Freeform 9"/>
          <p:cNvSpPr/>
          <p:nvPr/>
        </p:nvSpPr>
        <p:spPr>
          <a:xfrm>
            <a:off x="3848040" y="1722600"/>
            <a:ext cx="160560" cy="220680"/>
          </a:xfrm>
          <a:custGeom>
            <a:avLst/>
            <a:gdLst>
              <a:gd name="textAreaLeft" fmla="*/ 0 w 160560"/>
              <a:gd name="textAreaRight" fmla="*/ 160920 w 16056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60021" h="220981">
                <a:moveTo>
                  <a:pt x="15240" y="60960"/>
                </a:moveTo>
                <a:lnTo>
                  <a:pt x="15240" y="53340"/>
                </a:lnTo>
                <a:lnTo>
                  <a:pt x="15240" y="45720"/>
                </a:lnTo>
                <a:lnTo>
                  <a:pt x="7620" y="30480"/>
                </a:lnTo>
                <a:lnTo>
                  <a:pt x="7620" y="22860"/>
                </a:lnTo>
                <a:lnTo>
                  <a:pt x="0" y="15240"/>
                </a:lnTo>
                <a:lnTo>
                  <a:pt x="0" y="15240"/>
                </a:lnTo>
                <a:lnTo>
                  <a:pt x="0" y="7620"/>
                </a:lnTo>
                <a:lnTo>
                  <a:pt x="7620" y="7620"/>
                </a:lnTo>
                <a:lnTo>
                  <a:pt x="7620" y="0"/>
                </a:lnTo>
                <a:lnTo>
                  <a:pt x="15240" y="0"/>
                </a:lnTo>
                <a:lnTo>
                  <a:pt x="22860" y="0"/>
                </a:lnTo>
                <a:lnTo>
                  <a:pt x="38100" y="0"/>
                </a:lnTo>
                <a:lnTo>
                  <a:pt x="53340" y="0"/>
                </a:lnTo>
                <a:lnTo>
                  <a:pt x="68580" y="7620"/>
                </a:lnTo>
                <a:lnTo>
                  <a:pt x="76200" y="7620"/>
                </a:lnTo>
                <a:lnTo>
                  <a:pt x="91440" y="15240"/>
                </a:lnTo>
                <a:lnTo>
                  <a:pt x="106680" y="22860"/>
                </a:lnTo>
                <a:lnTo>
                  <a:pt x="114300" y="30480"/>
                </a:lnTo>
                <a:lnTo>
                  <a:pt x="129540" y="30480"/>
                </a:lnTo>
                <a:lnTo>
                  <a:pt x="137160" y="45720"/>
                </a:lnTo>
                <a:lnTo>
                  <a:pt x="137160" y="45720"/>
                </a:lnTo>
                <a:lnTo>
                  <a:pt x="137160" y="60960"/>
                </a:lnTo>
                <a:lnTo>
                  <a:pt x="137160" y="68580"/>
                </a:lnTo>
                <a:lnTo>
                  <a:pt x="121920" y="83820"/>
                </a:lnTo>
                <a:lnTo>
                  <a:pt x="114300" y="91440"/>
                </a:lnTo>
                <a:lnTo>
                  <a:pt x="99060" y="99060"/>
                </a:lnTo>
                <a:lnTo>
                  <a:pt x="91440" y="114300"/>
                </a:lnTo>
                <a:lnTo>
                  <a:pt x="76200" y="129540"/>
                </a:lnTo>
                <a:lnTo>
                  <a:pt x="60960" y="137160"/>
                </a:lnTo>
                <a:lnTo>
                  <a:pt x="45720" y="152400"/>
                </a:lnTo>
                <a:lnTo>
                  <a:pt x="38100" y="160020"/>
                </a:lnTo>
                <a:lnTo>
                  <a:pt x="22860" y="167640"/>
                </a:lnTo>
                <a:lnTo>
                  <a:pt x="22860" y="175260"/>
                </a:lnTo>
                <a:lnTo>
                  <a:pt x="15240" y="182880"/>
                </a:lnTo>
                <a:lnTo>
                  <a:pt x="15240" y="198120"/>
                </a:lnTo>
                <a:lnTo>
                  <a:pt x="22860" y="205740"/>
                </a:lnTo>
                <a:lnTo>
                  <a:pt x="38100" y="213360"/>
                </a:lnTo>
                <a:lnTo>
                  <a:pt x="45720" y="213360"/>
                </a:lnTo>
                <a:lnTo>
                  <a:pt x="60960" y="220980"/>
                </a:lnTo>
                <a:lnTo>
                  <a:pt x="76200" y="220980"/>
                </a:lnTo>
                <a:lnTo>
                  <a:pt x="99060" y="220980"/>
                </a:lnTo>
                <a:lnTo>
                  <a:pt x="114300" y="220980"/>
                </a:lnTo>
                <a:lnTo>
                  <a:pt x="137160" y="220980"/>
                </a:lnTo>
                <a:lnTo>
                  <a:pt x="160020" y="220980"/>
                </a:lnTo>
                <a:lnTo>
                  <a:pt x="160020" y="2209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Freeform 10"/>
          <p:cNvSpPr/>
          <p:nvPr/>
        </p:nvSpPr>
        <p:spPr>
          <a:xfrm>
            <a:off x="4152960" y="1851120"/>
            <a:ext cx="7920" cy="266760"/>
          </a:xfrm>
          <a:custGeom>
            <a:avLst/>
            <a:gdLst>
              <a:gd name="textAreaLeft" fmla="*/ 0 w 7920"/>
              <a:gd name="textAreaRight" fmla="*/ 8280 w 792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7621" h="26670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620"/>
                </a:lnTo>
                <a:lnTo>
                  <a:pt x="0" y="22860"/>
                </a:lnTo>
                <a:lnTo>
                  <a:pt x="0" y="30480"/>
                </a:lnTo>
                <a:lnTo>
                  <a:pt x="0" y="45720"/>
                </a:lnTo>
                <a:lnTo>
                  <a:pt x="0" y="53340"/>
                </a:lnTo>
                <a:lnTo>
                  <a:pt x="0" y="76200"/>
                </a:lnTo>
                <a:lnTo>
                  <a:pt x="0" y="91440"/>
                </a:lnTo>
                <a:lnTo>
                  <a:pt x="0" y="106680"/>
                </a:lnTo>
                <a:lnTo>
                  <a:pt x="0" y="129540"/>
                </a:lnTo>
                <a:lnTo>
                  <a:pt x="0" y="152400"/>
                </a:lnTo>
                <a:lnTo>
                  <a:pt x="0" y="175260"/>
                </a:lnTo>
                <a:lnTo>
                  <a:pt x="0" y="190500"/>
                </a:lnTo>
                <a:lnTo>
                  <a:pt x="0" y="205740"/>
                </a:lnTo>
                <a:lnTo>
                  <a:pt x="0" y="220980"/>
                </a:lnTo>
                <a:lnTo>
                  <a:pt x="7620" y="236220"/>
                </a:lnTo>
                <a:lnTo>
                  <a:pt x="7620" y="243840"/>
                </a:lnTo>
                <a:lnTo>
                  <a:pt x="7620" y="259080"/>
                </a:lnTo>
                <a:lnTo>
                  <a:pt x="7620" y="266700"/>
                </a:lnTo>
                <a:lnTo>
                  <a:pt x="7620" y="2667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Freeform 11"/>
          <p:cNvSpPr/>
          <p:nvPr/>
        </p:nvSpPr>
        <p:spPr>
          <a:xfrm>
            <a:off x="4046400" y="2011320"/>
            <a:ext cx="198720" cy="7920"/>
          </a:xfrm>
          <a:custGeom>
            <a:avLst/>
            <a:gdLst>
              <a:gd name="textAreaLeft" fmla="*/ 0 w 198720"/>
              <a:gd name="textAreaRight" fmla="*/ 199080 w 1987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98121" h="7621">
                <a:moveTo>
                  <a:pt x="0" y="7620"/>
                </a:moveTo>
                <a:lnTo>
                  <a:pt x="0" y="7620"/>
                </a:lnTo>
                <a:lnTo>
                  <a:pt x="0" y="0"/>
                </a:lnTo>
                <a:lnTo>
                  <a:pt x="7620" y="0"/>
                </a:lnTo>
                <a:lnTo>
                  <a:pt x="15240" y="0"/>
                </a:lnTo>
                <a:lnTo>
                  <a:pt x="30480" y="0"/>
                </a:lnTo>
                <a:lnTo>
                  <a:pt x="45720" y="0"/>
                </a:lnTo>
                <a:lnTo>
                  <a:pt x="60960" y="0"/>
                </a:lnTo>
                <a:lnTo>
                  <a:pt x="76200" y="0"/>
                </a:lnTo>
                <a:lnTo>
                  <a:pt x="99060" y="0"/>
                </a:lnTo>
                <a:lnTo>
                  <a:pt x="114300" y="0"/>
                </a:lnTo>
                <a:lnTo>
                  <a:pt x="137160" y="0"/>
                </a:lnTo>
                <a:lnTo>
                  <a:pt x="160020" y="0"/>
                </a:lnTo>
                <a:lnTo>
                  <a:pt x="198120" y="0"/>
                </a:lnTo>
                <a:lnTo>
                  <a:pt x="19812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2"/>
          <p:cNvSpPr/>
          <p:nvPr/>
        </p:nvSpPr>
        <p:spPr>
          <a:xfrm>
            <a:off x="4403880" y="1760400"/>
            <a:ext cx="236520" cy="457200"/>
          </a:xfrm>
          <a:custGeom>
            <a:avLst/>
            <a:gdLst>
              <a:gd name="textAreaLeft" fmla="*/ 0 w 236520"/>
              <a:gd name="textAreaRight" fmla="*/ 236880 w 236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36221" h="457201">
                <a:moveTo>
                  <a:pt x="91440" y="0"/>
                </a:moveTo>
                <a:lnTo>
                  <a:pt x="91440" y="0"/>
                </a:lnTo>
                <a:lnTo>
                  <a:pt x="91440" y="0"/>
                </a:lnTo>
                <a:lnTo>
                  <a:pt x="91440" y="0"/>
                </a:lnTo>
                <a:lnTo>
                  <a:pt x="99060" y="0"/>
                </a:lnTo>
                <a:lnTo>
                  <a:pt x="99060" y="7620"/>
                </a:lnTo>
                <a:lnTo>
                  <a:pt x="99060" y="7620"/>
                </a:lnTo>
                <a:lnTo>
                  <a:pt x="99060" y="22860"/>
                </a:lnTo>
                <a:lnTo>
                  <a:pt x="99060" y="30480"/>
                </a:lnTo>
                <a:lnTo>
                  <a:pt x="99060" y="45720"/>
                </a:lnTo>
                <a:lnTo>
                  <a:pt x="91440" y="60960"/>
                </a:lnTo>
                <a:lnTo>
                  <a:pt x="83820" y="83820"/>
                </a:lnTo>
                <a:lnTo>
                  <a:pt x="68580" y="106680"/>
                </a:lnTo>
                <a:lnTo>
                  <a:pt x="53340" y="137160"/>
                </a:lnTo>
                <a:lnTo>
                  <a:pt x="45720" y="160020"/>
                </a:lnTo>
                <a:lnTo>
                  <a:pt x="30480" y="190500"/>
                </a:lnTo>
                <a:lnTo>
                  <a:pt x="22860" y="213360"/>
                </a:lnTo>
                <a:lnTo>
                  <a:pt x="7620" y="243840"/>
                </a:lnTo>
                <a:lnTo>
                  <a:pt x="0" y="266700"/>
                </a:lnTo>
                <a:lnTo>
                  <a:pt x="0" y="289560"/>
                </a:lnTo>
                <a:lnTo>
                  <a:pt x="0" y="312420"/>
                </a:lnTo>
                <a:lnTo>
                  <a:pt x="15240" y="335280"/>
                </a:lnTo>
                <a:lnTo>
                  <a:pt x="30480" y="358140"/>
                </a:lnTo>
                <a:lnTo>
                  <a:pt x="45720" y="373380"/>
                </a:lnTo>
                <a:lnTo>
                  <a:pt x="76200" y="396240"/>
                </a:lnTo>
                <a:lnTo>
                  <a:pt x="99060" y="403860"/>
                </a:lnTo>
                <a:lnTo>
                  <a:pt x="137160" y="419100"/>
                </a:lnTo>
                <a:lnTo>
                  <a:pt x="175260" y="434340"/>
                </a:lnTo>
                <a:lnTo>
                  <a:pt x="236220" y="457200"/>
                </a:lnTo>
                <a:lnTo>
                  <a:pt x="236220" y="4572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Freeform 13"/>
          <p:cNvSpPr/>
          <p:nvPr/>
        </p:nvSpPr>
        <p:spPr>
          <a:xfrm>
            <a:off x="4640400" y="1927080"/>
            <a:ext cx="198360" cy="320760"/>
          </a:xfrm>
          <a:custGeom>
            <a:avLst/>
            <a:gdLst>
              <a:gd name="textAreaLeft" fmla="*/ 0 w 198360"/>
              <a:gd name="textAreaRight" fmla="*/ 198720 w 19836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w="198121" h="32004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620"/>
                </a:lnTo>
                <a:lnTo>
                  <a:pt x="0" y="7620"/>
                </a:lnTo>
                <a:lnTo>
                  <a:pt x="0" y="15240"/>
                </a:lnTo>
                <a:lnTo>
                  <a:pt x="0" y="15240"/>
                </a:lnTo>
                <a:lnTo>
                  <a:pt x="0" y="22860"/>
                </a:lnTo>
                <a:lnTo>
                  <a:pt x="0" y="30480"/>
                </a:lnTo>
                <a:lnTo>
                  <a:pt x="0" y="38100"/>
                </a:lnTo>
                <a:lnTo>
                  <a:pt x="0" y="45720"/>
                </a:lnTo>
                <a:lnTo>
                  <a:pt x="0" y="53340"/>
                </a:lnTo>
                <a:lnTo>
                  <a:pt x="0" y="60960"/>
                </a:lnTo>
                <a:lnTo>
                  <a:pt x="0" y="68580"/>
                </a:lnTo>
                <a:lnTo>
                  <a:pt x="0" y="76200"/>
                </a:lnTo>
                <a:lnTo>
                  <a:pt x="0" y="83820"/>
                </a:lnTo>
                <a:lnTo>
                  <a:pt x="0" y="91440"/>
                </a:lnTo>
                <a:lnTo>
                  <a:pt x="7620" y="99060"/>
                </a:lnTo>
                <a:lnTo>
                  <a:pt x="15240" y="106680"/>
                </a:lnTo>
                <a:lnTo>
                  <a:pt x="15240" y="114300"/>
                </a:lnTo>
                <a:lnTo>
                  <a:pt x="22860" y="114300"/>
                </a:lnTo>
                <a:lnTo>
                  <a:pt x="38100" y="121920"/>
                </a:lnTo>
                <a:lnTo>
                  <a:pt x="45720" y="129540"/>
                </a:lnTo>
                <a:lnTo>
                  <a:pt x="53340" y="129540"/>
                </a:lnTo>
                <a:lnTo>
                  <a:pt x="68580" y="129540"/>
                </a:lnTo>
                <a:lnTo>
                  <a:pt x="76200" y="129540"/>
                </a:lnTo>
                <a:lnTo>
                  <a:pt x="91440" y="129540"/>
                </a:lnTo>
                <a:lnTo>
                  <a:pt x="99060" y="121920"/>
                </a:lnTo>
                <a:lnTo>
                  <a:pt x="106680" y="114300"/>
                </a:lnTo>
                <a:lnTo>
                  <a:pt x="121920" y="114300"/>
                </a:lnTo>
                <a:lnTo>
                  <a:pt x="129540" y="106680"/>
                </a:lnTo>
                <a:lnTo>
                  <a:pt x="137160" y="99060"/>
                </a:lnTo>
                <a:lnTo>
                  <a:pt x="144780" y="83820"/>
                </a:lnTo>
                <a:lnTo>
                  <a:pt x="144780" y="76200"/>
                </a:lnTo>
                <a:lnTo>
                  <a:pt x="152400" y="68580"/>
                </a:lnTo>
                <a:lnTo>
                  <a:pt x="152400" y="60960"/>
                </a:lnTo>
                <a:lnTo>
                  <a:pt x="152400" y="53340"/>
                </a:lnTo>
                <a:lnTo>
                  <a:pt x="152400" y="45720"/>
                </a:lnTo>
                <a:lnTo>
                  <a:pt x="152400" y="38100"/>
                </a:lnTo>
                <a:lnTo>
                  <a:pt x="152400" y="30480"/>
                </a:lnTo>
                <a:lnTo>
                  <a:pt x="152400" y="30480"/>
                </a:lnTo>
                <a:lnTo>
                  <a:pt x="152400" y="30480"/>
                </a:lnTo>
                <a:lnTo>
                  <a:pt x="152400" y="22860"/>
                </a:lnTo>
                <a:lnTo>
                  <a:pt x="152400" y="22860"/>
                </a:lnTo>
                <a:lnTo>
                  <a:pt x="152400" y="22860"/>
                </a:lnTo>
                <a:lnTo>
                  <a:pt x="152400" y="22860"/>
                </a:lnTo>
                <a:lnTo>
                  <a:pt x="152400" y="22860"/>
                </a:lnTo>
                <a:lnTo>
                  <a:pt x="152400" y="22860"/>
                </a:lnTo>
                <a:lnTo>
                  <a:pt x="152400" y="22860"/>
                </a:lnTo>
                <a:lnTo>
                  <a:pt x="152400" y="30480"/>
                </a:lnTo>
                <a:lnTo>
                  <a:pt x="152400" y="38100"/>
                </a:lnTo>
                <a:lnTo>
                  <a:pt x="152400" y="45720"/>
                </a:lnTo>
                <a:lnTo>
                  <a:pt x="152400" y="53340"/>
                </a:lnTo>
                <a:lnTo>
                  <a:pt x="152400" y="60960"/>
                </a:lnTo>
                <a:lnTo>
                  <a:pt x="160020" y="76200"/>
                </a:lnTo>
                <a:lnTo>
                  <a:pt x="160020" y="83820"/>
                </a:lnTo>
                <a:lnTo>
                  <a:pt x="167640" y="99060"/>
                </a:lnTo>
                <a:lnTo>
                  <a:pt x="167640" y="114300"/>
                </a:lnTo>
                <a:lnTo>
                  <a:pt x="175260" y="129540"/>
                </a:lnTo>
                <a:lnTo>
                  <a:pt x="182880" y="144780"/>
                </a:lnTo>
                <a:lnTo>
                  <a:pt x="182880" y="160020"/>
                </a:lnTo>
                <a:lnTo>
                  <a:pt x="190500" y="175260"/>
                </a:lnTo>
                <a:lnTo>
                  <a:pt x="190500" y="190500"/>
                </a:lnTo>
                <a:lnTo>
                  <a:pt x="198120" y="205740"/>
                </a:lnTo>
                <a:lnTo>
                  <a:pt x="198120" y="220980"/>
                </a:lnTo>
                <a:lnTo>
                  <a:pt x="198120" y="236220"/>
                </a:lnTo>
                <a:lnTo>
                  <a:pt x="198120" y="251460"/>
                </a:lnTo>
                <a:lnTo>
                  <a:pt x="198120" y="259080"/>
                </a:lnTo>
                <a:lnTo>
                  <a:pt x="190500" y="266700"/>
                </a:lnTo>
                <a:lnTo>
                  <a:pt x="182880" y="281940"/>
                </a:lnTo>
                <a:lnTo>
                  <a:pt x="175260" y="289560"/>
                </a:lnTo>
                <a:lnTo>
                  <a:pt x="167640" y="297180"/>
                </a:lnTo>
                <a:lnTo>
                  <a:pt x="160020" y="304800"/>
                </a:lnTo>
                <a:lnTo>
                  <a:pt x="144780" y="312420"/>
                </a:lnTo>
                <a:lnTo>
                  <a:pt x="129540" y="312420"/>
                </a:lnTo>
                <a:lnTo>
                  <a:pt x="114300" y="320040"/>
                </a:lnTo>
                <a:lnTo>
                  <a:pt x="99060" y="320040"/>
                </a:lnTo>
                <a:lnTo>
                  <a:pt x="91440" y="320040"/>
                </a:lnTo>
                <a:lnTo>
                  <a:pt x="68580" y="312420"/>
                </a:lnTo>
                <a:lnTo>
                  <a:pt x="53340" y="312420"/>
                </a:lnTo>
                <a:lnTo>
                  <a:pt x="45720" y="304800"/>
                </a:lnTo>
                <a:lnTo>
                  <a:pt x="30480" y="304800"/>
                </a:lnTo>
                <a:lnTo>
                  <a:pt x="22860" y="297180"/>
                </a:lnTo>
                <a:lnTo>
                  <a:pt x="15240" y="289560"/>
                </a:lnTo>
                <a:lnTo>
                  <a:pt x="0" y="281940"/>
                </a:lnTo>
                <a:lnTo>
                  <a:pt x="0" y="2819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Freeform 14"/>
          <p:cNvSpPr/>
          <p:nvPr/>
        </p:nvSpPr>
        <p:spPr>
          <a:xfrm>
            <a:off x="4898880" y="1965240"/>
            <a:ext cx="190800" cy="23760"/>
          </a:xfrm>
          <a:custGeom>
            <a:avLst/>
            <a:gdLst>
              <a:gd name="textAreaLeft" fmla="*/ 0 w 190800"/>
              <a:gd name="textAreaRight" fmla="*/ 191160 w 19080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90501" h="22861">
                <a:moveTo>
                  <a:pt x="0" y="22860"/>
                </a:moveTo>
                <a:lnTo>
                  <a:pt x="0" y="22860"/>
                </a:lnTo>
                <a:lnTo>
                  <a:pt x="0" y="22860"/>
                </a:lnTo>
                <a:lnTo>
                  <a:pt x="0" y="22860"/>
                </a:lnTo>
                <a:lnTo>
                  <a:pt x="0" y="22860"/>
                </a:lnTo>
                <a:lnTo>
                  <a:pt x="7620" y="22860"/>
                </a:lnTo>
                <a:lnTo>
                  <a:pt x="15240" y="22860"/>
                </a:lnTo>
                <a:lnTo>
                  <a:pt x="22860" y="22860"/>
                </a:lnTo>
                <a:lnTo>
                  <a:pt x="38100" y="22860"/>
                </a:lnTo>
                <a:lnTo>
                  <a:pt x="45720" y="22860"/>
                </a:lnTo>
                <a:lnTo>
                  <a:pt x="60960" y="22860"/>
                </a:lnTo>
                <a:lnTo>
                  <a:pt x="76200" y="22860"/>
                </a:lnTo>
                <a:lnTo>
                  <a:pt x="91440" y="22860"/>
                </a:lnTo>
                <a:lnTo>
                  <a:pt x="106680" y="15240"/>
                </a:lnTo>
                <a:lnTo>
                  <a:pt x="121920" y="15240"/>
                </a:lnTo>
                <a:lnTo>
                  <a:pt x="137160" y="15240"/>
                </a:lnTo>
                <a:lnTo>
                  <a:pt x="152400" y="7620"/>
                </a:lnTo>
                <a:lnTo>
                  <a:pt x="175260" y="7620"/>
                </a:lnTo>
                <a:lnTo>
                  <a:pt x="190500" y="0"/>
                </a:lnTo>
                <a:lnTo>
                  <a:pt x="19050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reeform 15"/>
          <p:cNvSpPr/>
          <p:nvPr/>
        </p:nvSpPr>
        <p:spPr>
          <a:xfrm>
            <a:off x="5165640" y="1790640"/>
            <a:ext cx="31680" cy="250920"/>
          </a:xfrm>
          <a:custGeom>
            <a:avLst/>
            <a:gdLst>
              <a:gd name="textAreaLeft" fmla="*/ 0 w 31680"/>
              <a:gd name="textAreaRight" fmla="*/ 32040 w 3168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30481" h="251461">
                <a:moveTo>
                  <a:pt x="15240" y="0"/>
                </a:moveTo>
                <a:lnTo>
                  <a:pt x="15240" y="0"/>
                </a:lnTo>
                <a:lnTo>
                  <a:pt x="15240" y="0"/>
                </a:lnTo>
                <a:lnTo>
                  <a:pt x="15240" y="0"/>
                </a:lnTo>
                <a:lnTo>
                  <a:pt x="15240" y="0"/>
                </a:lnTo>
                <a:lnTo>
                  <a:pt x="15240" y="7620"/>
                </a:lnTo>
                <a:lnTo>
                  <a:pt x="15240" y="15240"/>
                </a:lnTo>
                <a:lnTo>
                  <a:pt x="15240" y="22860"/>
                </a:lnTo>
                <a:lnTo>
                  <a:pt x="15240" y="30480"/>
                </a:lnTo>
                <a:lnTo>
                  <a:pt x="7620" y="45720"/>
                </a:lnTo>
                <a:lnTo>
                  <a:pt x="7620" y="53340"/>
                </a:lnTo>
                <a:lnTo>
                  <a:pt x="7620" y="68580"/>
                </a:lnTo>
                <a:lnTo>
                  <a:pt x="7620" y="83820"/>
                </a:lnTo>
                <a:lnTo>
                  <a:pt x="0" y="99060"/>
                </a:lnTo>
                <a:lnTo>
                  <a:pt x="0" y="114300"/>
                </a:lnTo>
                <a:lnTo>
                  <a:pt x="0" y="129540"/>
                </a:lnTo>
                <a:lnTo>
                  <a:pt x="0" y="144780"/>
                </a:lnTo>
                <a:lnTo>
                  <a:pt x="0" y="160020"/>
                </a:lnTo>
                <a:lnTo>
                  <a:pt x="0" y="175260"/>
                </a:lnTo>
                <a:lnTo>
                  <a:pt x="0" y="190500"/>
                </a:lnTo>
                <a:lnTo>
                  <a:pt x="7620" y="205740"/>
                </a:lnTo>
                <a:lnTo>
                  <a:pt x="7620" y="213360"/>
                </a:lnTo>
                <a:lnTo>
                  <a:pt x="15240" y="228600"/>
                </a:lnTo>
                <a:lnTo>
                  <a:pt x="15240" y="236220"/>
                </a:lnTo>
                <a:lnTo>
                  <a:pt x="22860" y="243840"/>
                </a:lnTo>
                <a:lnTo>
                  <a:pt x="30480" y="251460"/>
                </a:lnTo>
                <a:lnTo>
                  <a:pt x="30480" y="2514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16"/>
          <p:cNvSpPr/>
          <p:nvPr/>
        </p:nvSpPr>
        <p:spPr>
          <a:xfrm>
            <a:off x="5280120" y="1698480"/>
            <a:ext cx="129960" cy="465120"/>
          </a:xfrm>
          <a:custGeom>
            <a:avLst/>
            <a:gdLst>
              <a:gd name="textAreaLeft" fmla="*/ 0 w 129960"/>
              <a:gd name="textAreaRight" fmla="*/ 130320 w 129960"/>
              <a:gd name="textAreaTop" fmla="*/ 0 h 465120"/>
              <a:gd name="textAreaBottom" fmla="*/ 465480 h 465120"/>
            </a:gdLst>
            <a:ahLst/>
            <a:rect l="textAreaLeft" t="textAreaTop" r="textAreaRight" b="textAreaBottom"/>
            <a:pathLst>
              <a:path w="129541" h="464821">
                <a:moveTo>
                  <a:pt x="0" y="0"/>
                </a:moveTo>
                <a:lnTo>
                  <a:pt x="0" y="0"/>
                </a:lnTo>
                <a:lnTo>
                  <a:pt x="7620" y="0"/>
                </a:lnTo>
                <a:lnTo>
                  <a:pt x="7620" y="7620"/>
                </a:lnTo>
                <a:lnTo>
                  <a:pt x="15240" y="7620"/>
                </a:lnTo>
                <a:lnTo>
                  <a:pt x="22860" y="15240"/>
                </a:lnTo>
                <a:lnTo>
                  <a:pt x="30480" y="22860"/>
                </a:lnTo>
                <a:lnTo>
                  <a:pt x="38100" y="38100"/>
                </a:lnTo>
                <a:lnTo>
                  <a:pt x="45720" y="45720"/>
                </a:lnTo>
                <a:lnTo>
                  <a:pt x="60960" y="60960"/>
                </a:lnTo>
                <a:lnTo>
                  <a:pt x="68580" y="76200"/>
                </a:lnTo>
                <a:lnTo>
                  <a:pt x="76200" y="91440"/>
                </a:lnTo>
                <a:lnTo>
                  <a:pt x="83820" y="114300"/>
                </a:lnTo>
                <a:lnTo>
                  <a:pt x="99060" y="137160"/>
                </a:lnTo>
                <a:lnTo>
                  <a:pt x="99060" y="160020"/>
                </a:lnTo>
                <a:lnTo>
                  <a:pt x="106680" y="182880"/>
                </a:lnTo>
                <a:lnTo>
                  <a:pt x="114300" y="205740"/>
                </a:lnTo>
                <a:lnTo>
                  <a:pt x="121920" y="236220"/>
                </a:lnTo>
                <a:lnTo>
                  <a:pt x="121920" y="259080"/>
                </a:lnTo>
                <a:lnTo>
                  <a:pt x="129540" y="281940"/>
                </a:lnTo>
                <a:lnTo>
                  <a:pt x="129540" y="304800"/>
                </a:lnTo>
                <a:lnTo>
                  <a:pt x="129540" y="327660"/>
                </a:lnTo>
                <a:lnTo>
                  <a:pt x="121920" y="350520"/>
                </a:lnTo>
                <a:lnTo>
                  <a:pt x="121920" y="373380"/>
                </a:lnTo>
                <a:lnTo>
                  <a:pt x="114300" y="396240"/>
                </a:lnTo>
                <a:lnTo>
                  <a:pt x="106680" y="411480"/>
                </a:lnTo>
                <a:lnTo>
                  <a:pt x="99060" y="426720"/>
                </a:lnTo>
                <a:lnTo>
                  <a:pt x="91440" y="441960"/>
                </a:lnTo>
                <a:lnTo>
                  <a:pt x="76200" y="464820"/>
                </a:lnTo>
                <a:lnTo>
                  <a:pt x="76200" y="4648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Freeform 17"/>
          <p:cNvSpPr/>
          <p:nvPr/>
        </p:nvSpPr>
        <p:spPr>
          <a:xfrm>
            <a:off x="5456160" y="1630440"/>
            <a:ext cx="166680" cy="176040"/>
          </a:xfrm>
          <a:custGeom>
            <a:avLst/>
            <a:gdLst>
              <a:gd name="textAreaLeft" fmla="*/ 0 w 166680"/>
              <a:gd name="textAreaRight" fmla="*/ 167040 w 16668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67641" h="175261">
                <a:moveTo>
                  <a:pt x="0" y="22860"/>
                </a:moveTo>
                <a:lnTo>
                  <a:pt x="0" y="22860"/>
                </a:lnTo>
                <a:lnTo>
                  <a:pt x="0" y="22860"/>
                </a:lnTo>
                <a:lnTo>
                  <a:pt x="7620" y="15240"/>
                </a:lnTo>
                <a:lnTo>
                  <a:pt x="15240" y="15240"/>
                </a:lnTo>
                <a:lnTo>
                  <a:pt x="22860" y="15240"/>
                </a:lnTo>
                <a:lnTo>
                  <a:pt x="30480" y="7620"/>
                </a:lnTo>
                <a:lnTo>
                  <a:pt x="38100" y="7620"/>
                </a:lnTo>
                <a:lnTo>
                  <a:pt x="53340" y="7620"/>
                </a:lnTo>
                <a:lnTo>
                  <a:pt x="68580" y="0"/>
                </a:lnTo>
                <a:lnTo>
                  <a:pt x="83820" y="0"/>
                </a:lnTo>
                <a:lnTo>
                  <a:pt x="99060" y="0"/>
                </a:lnTo>
                <a:lnTo>
                  <a:pt x="114300" y="0"/>
                </a:lnTo>
                <a:lnTo>
                  <a:pt x="121920" y="0"/>
                </a:lnTo>
                <a:lnTo>
                  <a:pt x="137160" y="0"/>
                </a:lnTo>
                <a:lnTo>
                  <a:pt x="152400" y="0"/>
                </a:lnTo>
                <a:lnTo>
                  <a:pt x="160020" y="7620"/>
                </a:lnTo>
                <a:lnTo>
                  <a:pt x="160020" y="7620"/>
                </a:lnTo>
                <a:lnTo>
                  <a:pt x="167640" y="15240"/>
                </a:lnTo>
                <a:lnTo>
                  <a:pt x="167640" y="22860"/>
                </a:lnTo>
                <a:lnTo>
                  <a:pt x="167640" y="22860"/>
                </a:lnTo>
                <a:lnTo>
                  <a:pt x="160020" y="30480"/>
                </a:lnTo>
                <a:lnTo>
                  <a:pt x="152400" y="38100"/>
                </a:lnTo>
                <a:lnTo>
                  <a:pt x="144780" y="53340"/>
                </a:lnTo>
                <a:lnTo>
                  <a:pt x="137160" y="60960"/>
                </a:lnTo>
                <a:lnTo>
                  <a:pt x="121920" y="68580"/>
                </a:lnTo>
                <a:lnTo>
                  <a:pt x="106680" y="83820"/>
                </a:lnTo>
                <a:lnTo>
                  <a:pt x="91440" y="91440"/>
                </a:lnTo>
                <a:lnTo>
                  <a:pt x="83820" y="106680"/>
                </a:lnTo>
                <a:lnTo>
                  <a:pt x="68580" y="114300"/>
                </a:lnTo>
                <a:lnTo>
                  <a:pt x="60960" y="121920"/>
                </a:lnTo>
                <a:lnTo>
                  <a:pt x="53340" y="137160"/>
                </a:lnTo>
                <a:lnTo>
                  <a:pt x="53340" y="144780"/>
                </a:lnTo>
                <a:lnTo>
                  <a:pt x="53340" y="152400"/>
                </a:lnTo>
                <a:lnTo>
                  <a:pt x="53340" y="152400"/>
                </a:lnTo>
                <a:lnTo>
                  <a:pt x="60960" y="160020"/>
                </a:lnTo>
                <a:lnTo>
                  <a:pt x="68580" y="160020"/>
                </a:lnTo>
                <a:lnTo>
                  <a:pt x="83820" y="167640"/>
                </a:lnTo>
                <a:lnTo>
                  <a:pt x="99060" y="167640"/>
                </a:lnTo>
                <a:lnTo>
                  <a:pt x="114300" y="175260"/>
                </a:lnTo>
                <a:lnTo>
                  <a:pt x="129540" y="175260"/>
                </a:lnTo>
                <a:lnTo>
                  <a:pt x="152400" y="175260"/>
                </a:lnTo>
                <a:lnTo>
                  <a:pt x="152400" y="1752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Freeform 18"/>
          <p:cNvSpPr/>
          <p:nvPr/>
        </p:nvSpPr>
        <p:spPr>
          <a:xfrm>
            <a:off x="5570640" y="1927080"/>
            <a:ext cx="166680" cy="7920"/>
          </a:xfrm>
          <a:custGeom>
            <a:avLst/>
            <a:gdLst>
              <a:gd name="textAreaLeft" fmla="*/ 0 w 166680"/>
              <a:gd name="textAreaRight" fmla="*/ 167040 w 1666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67641" h="762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7620" y="7620"/>
                </a:lnTo>
                <a:lnTo>
                  <a:pt x="15240" y="7620"/>
                </a:lnTo>
                <a:lnTo>
                  <a:pt x="22860" y="0"/>
                </a:lnTo>
                <a:lnTo>
                  <a:pt x="38100" y="0"/>
                </a:lnTo>
                <a:lnTo>
                  <a:pt x="45720" y="0"/>
                </a:lnTo>
                <a:lnTo>
                  <a:pt x="60960" y="0"/>
                </a:lnTo>
                <a:lnTo>
                  <a:pt x="83820" y="0"/>
                </a:lnTo>
                <a:lnTo>
                  <a:pt x="99060" y="0"/>
                </a:lnTo>
                <a:lnTo>
                  <a:pt x="114300" y="0"/>
                </a:lnTo>
                <a:lnTo>
                  <a:pt x="129540" y="0"/>
                </a:lnTo>
                <a:lnTo>
                  <a:pt x="144780" y="0"/>
                </a:lnTo>
                <a:lnTo>
                  <a:pt x="167640" y="0"/>
                </a:lnTo>
                <a:lnTo>
                  <a:pt x="16764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Freeform 19"/>
          <p:cNvSpPr/>
          <p:nvPr/>
        </p:nvSpPr>
        <p:spPr>
          <a:xfrm>
            <a:off x="5608800" y="2011320"/>
            <a:ext cx="152280" cy="7920"/>
          </a:xfrm>
          <a:custGeom>
            <a:avLst/>
            <a:gdLst>
              <a:gd name="textAreaLeft" fmla="*/ 0 w 152280"/>
              <a:gd name="textAreaRight" fmla="*/ 152640 w 1522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52401" h="762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7620"/>
                </a:lnTo>
                <a:lnTo>
                  <a:pt x="7620" y="7620"/>
                </a:lnTo>
                <a:lnTo>
                  <a:pt x="15240" y="7620"/>
                </a:lnTo>
                <a:lnTo>
                  <a:pt x="30480" y="7620"/>
                </a:lnTo>
                <a:lnTo>
                  <a:pt x="45720" y="7620"/>
                </a:lnTo>
                <a:lnTo>
                  <a:pt x="60960" y="7620"/>
                </a:lnTo>
                <a:lnTo>
                  <a:pt x="76200" y="7620"/>
                </a:lnTo>
                <a:lnTo>
                  <a:pt x="99060" y="0"/>
                </a:lnTo>
                <a:lnTo>
                  <a:pt x="114300" y="0"/>
                </a:lnTo>
                <a:lnTo>
                  <a:pt x="129540" y="0"/>
                </a:lnTo>
                <a:lnTo>
                  <a:pt x="152400" y="0"/>
                </a:lnTo>
                <a:lnTo>
                  <a:pt x="15240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Freeform 20"/>
          <p:cNvSpPr/>
          <p:nvPr/>
        </p:nvSpPr>
        <p:spPr>
          <a:xfrm>
            <a:off x="6035760" y="1806480"/>
            <a:ext cx="372960" cy="250920"/>
          </a:xfrm>
          <a:custGeom>
            <a:avLst/>
            <a:gdLst>
              <a:gd name="textAreaLeft" fmla="*/ 0 w 372960"/>
              <a:gd name="textAreaRight" fmla="*/ 373320 w 3729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373381" h="251461">
                <a:moveTo>
                  <a:pt x="0" y="38100"/>
                </a:moveTo>
                <a:lnTo>
                  <a:pt x="0" y="38100"/>
                </a:lnTo>
                <a:lnTo>
                  <a:pt x="0" y="38100"/>
                </a:lnTo>
                <a:lnTo>
                  <a:pt x="0" y="38100"/>
                </a:lnTo>
                <a:lnTo>
                  <a:pt x="0" y="38100"/>
                </a:lnTo>
                <a:lnTo>
                  <a:pt x="0" y="38100"/>
                </a:lnTo>
                <a:lnTo>
                  <a:pt x="7620" y="30480"/>
                </a:lnTo>
                <a:lnTo>
                  <a:pt x="15240" y="30480"/>
                </a:lnTo>
                <a:lnTo>
                  <a:pt x="22860" y="30480"/>
                </a:lnTo>
                <a:lnTo>
                  <a:pt x="30480" y="30480"/>
                </a:lnTo>
                <a:lnTo>
                  <a:pt x="38100" y="30480"/>
                </a:lnTo>
                <a:lnTo>
                  <a:pt x="45720" y="22860"/>
                </a:lnTo>
                <a:lnTo>
                  <a:pt x="60960" y="22860"/>
                </a:lnTo>
                <a:lnTo>
                  <a:pt x="68580" y="22860"/>
                </a:lnTo>
                <a:lnTo>
                  <a:pt x="83820" y="22860"/>
                </a:lnTo>
                <a:lnTo>
                  <a:pt x="91440" y="22860"/>
                </a:lnTo>
                <a:lnTo>
                  <a:pt x="106680" y="30480"/>
                </a:lnTo>
                <a:lnTo>
                  <a:pt x="114300" y="30480"/>
                </a:lnTo>
                <a:lnTo>
                  <a:pt x="121920" y="30480"/>
                </a:lnTo>
                <a:lnTo>
                  <a:pt x="129540" y="38100"/>
                </a:lnTo>
                <a:lnTo>
                  <a:pt x="129540" y="45720"/>
                </a:lnTo>
                <a:lnTo>
                  <a:pt x="137160" y="45720"/>
                </a:lnTo>
                <a:lnTo>
                  <a:pt x="137160" y="53340"/>
                </a:lnTo>
                <a:lnTo>
                  <a:pt x="144780" y="60960"/>
                </a:lnTo>
                <a:lnTo>
                  <a:pt x="144780" y="76200"/>
                </a:lnTo>
                <a:lnTo>
                  <a:pt x="144780" y="83820"/>
                </a:lnTo>
                <a:lnTo>
                  <a:pt x="137160" y="99060"/>
                </a:lnTo>
                <a:lnTo>
                  <a:pt x="137160" y="114300"/>
                </a:lnTo>
                <a:lnTo>
                  <a:pt x="129540" y="121920"/>
                </a:lnTo>
                <a:lnTo>
                  <a:pt x="129540" y="137160"/>
                </a:lnTo>
                <a:lnTo>
                  <a:pt x="121920" y="152400"/>
                </a:lnTo>
                <a:lnTo>
                  <a:pt x="121920" y="167640"/>
                </a:lnTo>
                <a:lnTo>
                  <a:pt x="114300" y="182880"/>
                </a:lnTo>
                <a:lnTo>
                  <a:pt x="106680" y="198120"/>
                </a:lnTo>
                <a:lnTo>
                  <a:pt x="106680" y="213360"/>
                </a:lnTo>
                <a:lnTo>
                  <a:pt x="99060" y="220980"/>
                </a:lnTo>
                <a:lnTo>
                  <a:pt x="99060" y="228600"/>
                </a:lnTo>
                <a:lnTo>
                  <a:pt x="91440" y="236220"/>
                </a:lnTo>
                <a:lnTo>
                  <a:pt x="91440" y="243840"/>
                </a:lnTo>
                <a:lnTo>
                  <a:pt x="91440" y="251460"/>
                </a:lnTo>
                <a:lnTo>
                  <a:pt x="83820" y="251460"/>
                </a:lnTo>
                <a:lnTo>
                  <a:pt x="83820" y="251460"/>
                </a:lnTo>
                <a:lnTo>
                  <a:pt x="83820" y="251460"/>
                </a:lnTo>
                <a:lnTo>
                  <a:pt x="83820" y="251460"/>
                </a:lnTo>
                <a:lnTo>
                  <a:pt x="83820" y="251460"/>
                </a:lnTo>
                <a:lnTo>
                  <a:pt x="83820" y="243840"/>
                </a:lnTo>
                <a:lnTo>
                  <a:pt x="83820" y="236220"/>
                </a:lnTo>
                <a:lnTo>
                  <a:pt x="83820" y="228600"/>
                </a:lnTo>
                <a:lnTo>
                  <a:pt x="83820" y="220980"/>
                </a:lnTo>
                <a:lnTo>
                  <a:pt x="83820" y="205740"/>
                </a:lnTo>
                <a:lnTo>
                  <a:pt x="83820" y="198120"/>
                </a:lnTo>
                <a:lnTo>
                  <a:pt x="91440" y="182880"/>
                </a:lnTo>
                <a:lnTo>
                  <a:pt x="91440" y="167640"/>
                </a:lnTo>
                <a:lnTo>
                  <a:pt x="99060" y="160020"/>
                </a:lnTo>
                <a:lnTo>
                  <a:pt x="106680" y="144780"/>
                </a:lnTo>
                <a:lnTo>
                  <a:pt x="106680" y="137160"/>
                </a:lnTo>
                <a:lnTo>
                  <a:pt x="114300" y="121920"/>
                </a:lnTo>
                <a:lnTo>
                  <a:pt x="121920" y="114300"/>
                </a:lnTo>
                <a:lnTo>
                  <a:pt x="121920" y="99060"/>
                </a:lnTo>
                <a:lnTo>
                  <a:pt x="129540" y="91440"/>
                </a:lnTo>
                <a:lnTo>
                  <a:pt x="129540" y="83820"/>
                </a:lnTo>
                <a:lnTo>
                  <a:pt x="137160" y="68580"/>
                </a:lnTo>
                <a:lnTo>
                  <a:pt x="137160" y="60960"/>
                </a:lnTo>
                <a:lnTo>
                  <a:pt x="144780" y="53340"/>
                </a:lnTo>
                <a:lnTo>
                  <a:pt x="152400" y="45720"/>
                </a:lnTo>
                <a:lnTo>
                  <a:pt x="160020" y="45720"/>
                </a:lnTo>
                <a:lnTo>
                  <a:pt x="160020" y="38100"/>
                </a:lnTo>
                <a:lnTo>
                  <a:pt x="167640" y="30480"/>
                </a:lnTo>
                <a:lnTo>
                  <a:pt x="167640" y="30480"/>
                </a:lnTo>
                <a:lnTo>
                  <a:pt x="175260" y="30480"/>
                </a:lnTo>
                <a:lnTo>
                  <a:pt x="182880" y="22860"/>
                </a:lnTo>
                <a:lnTo>
                  <a:pt x="190500" y="22860"/>
                </a:lnTo>
                <a:lnTo>
                  <a:pt x="198120" y="22860"/>
                </a:lnTo>
                <a:lnTo>
                  <a:pt x="205740" y="15240"/>
                </a:lnTo>
                <a:lnTo>
                  <a:pt x="213360" y="15240"/>
                </a:lnTo>
                <a:lnTo>
                  <a:pt x="220980" y="15240"/>
                </a:lnTo>
                <a:lnTo>
                  <a:pt x="236220" y="15240"/>
                </a:lnTo>
                <a:lnTo>
                  <a:pt x="251460" y="7620"/>
                </a:lnTo>
                <a:lnTo>
                  <a:pt x="266700" y="7620"/>
                </a:lnTo>
                <a:lnTo>
                  <a:pt x="281940" y="0"/>
                </a:lnTo>
                <a:lnTo>
                  <a:pt x="297180" y="0"/>
                </a:lnTo>
                <a:lnTo>
                  <a:pt x="312420" y="0"/>
                </a:lnTo>
                <a:lnTo>
                  <a:pt x="327660" y="0"/>
                </a:lnTo>
                <a:lnTo>
                  <a:pt x="342900" y="0"/>
                </a:lnTo>
                <a:lnTo>
                  <a:pt x="358140" y="0"/>
                </a:lnTo>
                <a:lnTo>
                  <a:pt x="373380" y="0"/>
                </a:lnTo>
                <a:lnTo>
                  <a:pt x="37338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Freeform 21"/>
          <p:cNvSpPr/>
          <p:nvPr/>
        </p:nvSpPr>
        <p:spPr>
          <a:xfrm>
            <a:off x="6248520" y="1851120"/>
            <a:ext cx="206280" cy="176040"/>
          </a:xfrm>
          <a:custGeom>
            <a:avLst/>
            <a:gdLst>
              <a:gd name="textAreaLeft" fmla="*/ 0 w 206280"/>
              <a:gd name="textAreaRight" fmla="*/ 206640 w 20628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205741" h="175261">
                <a:moveTo>
                  <a:pt x="83820" y="7620"/>
                </a:moveTo>
                <a:lnTo>
                  <a:pt x="83820" y="7620"/>
                </a:lnTo>
                <a:lnTo>
                  <a:pt x="76200" y="0"/>
                </a:lnTo>
                <a:lnTo>
                  <a:pt x="76200" y="0"/>
                </a:lnTo>
                <a:lnTo>
                  <a:pt x="76200" y="0"/>
                </a:lnTo>
                <a:lnTo>
                  <a:pt x="76200" y="0"/>
                </a:lnTo>
                <a:lnTo>
                  <a:pt x="76200" y="0"/>
                </a:lnTo>
                <a:lnTo>
                  <a:pt x="76200" y="0"/>
                </a:lnTo>
                <a:lnTo>
                  <a:pt x="76200" y="0"/>
                </a:lnTo>
                <a:lnTo>
                  <a:pt x="76200" y="0"/>
                </a:lnTo>
                <a:lnTo>
                  <a:pt x="76200" y="0"/>
                </a:lnTo>
                <a:lnTo>
                  <a:pt x="76200" y="0"/>
                </a:lnTo>
                <a:lnTo>
                  <a:pt x="76200" y="0"/>
                </a:lnTo>
                <a:lnTo>
                  <a:pt x="76200" y="7620"/>
                </a:lnTo>
                <a:lnTo>
                  <a:pt x="76200" y="7620"/>
                </a:lnTo>
                <a:lnTo>
                  <a:pt x="68580" y="7620"/>
                </a:lnTo>
                <a:lnTo>
                  <a:pt x="68580" y="15240"/>
                </a:lnTo>
                <a:lnTo>
                  <a:pt x="60960" y="15240"/>
                </a:lnTo>
                <a:lnTo>
                  <a:pt x="53340" y="22860"/>
                </a:lnTo>
                <a:lnTo>
                  <a:pt x="45720" y="30480"/>
                </a:lnTo>
                <a:lnTo>
                  <a:pt x="38100" y="30480"/>
                </a:lnTo>
                <a:lnTo>
                  <a:pt x="30480" y="38100"/>
                </a:lnTo>
                <a:lnTo>
                  <a:pt x="22860" y="45720"/>
                </a:lnTo>
                <a:lnTo>
                  <a:pt x="22860" y="45720"/>
                </a:lnTo>
                <a:lnTo>
                  <a:pt x="15240" y="53340"/>
                </a:lnTo>
                <a:lnTo>
                  <a:pt x="7620" y="53340"/>
                </a:lnTo>
                <a:lnTo>
                  <a:pt x="7620" y="60960"/>
                </a:lnTo>
                <a:lnTo>
                  <a:pt x="7620" y="60960"/>
                </a:lnTo>
                <a:lnTo>
                  <a:pt x="0" y="68580"/>
                </a:lnTo>
                <a:lnTo>
                  <a:pt x="0" y="68580"/>
                </a:lnTo>
                <a:lnTo>
                  <a:pt x="0" y="68580"/>
                </a:lnTo>
                <a:lnTo>
                  <a:pt x="0" y="76200"/>
                </a:lnTo>
                <a:lnTo>
                  <a:pt x="0" y="76200"/>
                </a:lnTo>
                <a:lnTo>
                  <a:pt x="0" y="76200"/>
                </a:lnTo>
                <a:lnTo>
                  <a:pt x="7620" y="76200"/>
                </a:lnTo>
                <a:lnTo>
                  <a:pt x="7620" y="83820"/>
                </a:lnTo>
                <a:lnTo>
                  <a:pt x="7620" y="83820"/>
                </a:lnTo>
                <a:lnTo>
                  <a:pt x="15240" y="83820"/>
                </a:lnTo>
                <a:lnTo>
                  <a:pt x="15240" y="83820"/>
                </a:lnTo>
                <a:lnTo>
                  <a:pt x="22860" y="83820"/>
                </a:lnTo>
                <a:lnTo>
                  <a:pt x="30480" y="83820"/>
                </a:lnTo>
                <a:lnTo>
                  <a:pt x="38100" y="91440"/>
                </a:lnTo>
                <a:lnTo>
                  <a:pt x="45720" y="91440"/>
                </a:lnTo>
                <a:lnTo>
                  <a:pt x="60960" y="91440"/>
                </a:lnTo>
                <a:lnTo>
                  <a:pt x="68580" y="91440"/>
                </a:lnTo>
                <a:lnTo>
                  <a:pt x="91440" y="91440"/>
                </a:lnTo>
                <a:lnTo>
                  <a:pt x="106680" y="91440"/>
                </a:lnTo>
                <a:lnTo>
                  <a:pt x="121920" y="99060"/>
                </a:lnTo>
                <a:lnTo>
                  <a:pt x="137160" y="99060"/>
                </a:lnTo>
                <a:lnTo>
                  <a:pt x="144780" y="106680"/>
                </a:lnTo>
                <a:lnTo>
                  <a:pt x="160020" y="106680"/>
                </a:lnTo>
                <a:lnTo>
                  <a:pt x="175260" y="114300"/>
                </a:lnTo>
                <a:lnTo>
                  <a:pt x="182880" y="114300"/>
                </a:lnTo>
                <a:lnTo>
                  <a:pt x="190500" y="121920"/>
                </a:lnTo>
                <a:lnTo>
                  <a:pt x="198120" y="129540"/>
                </a:lnTo>
                <a:lnTo>
                  <a:pt x="198120" y="137160"/>
                </a:lnTo>
                <a:lnTo>
                  <a:pt x="205740" y="137160"/>
                </a:lnTo>
                <a:lnTo>
                  <a:pt x="198120" y="144780"/>
                </a:lnTo>
                <a:lnTo>
                  <a:pt x="198120" y="152400"/>
                </a:lnTo>
                <a:lnTo>
                  <a:pt x="190500" y="160020"/>
                </a:lnTo>
                <a:lnTo>
                  <a:pt x="182880" y="160020"/>
                </a:lnTo>
                <a:lnTo>
                  <a:pt x="175260" y="167640"/>
                </a:lnTo>
                <a:lnTo>
                  <a:pt x="160020" y="167640"/>
                </a:lnTo>
                <a:lnTo>
                  <a:pt x="152400" y="175260"/>
                </a:lnTo>
                <a:lnTo>
                  <a:pt x="137160" y="175260"/>
                </a:lnTo>
                <a:lnTo>
                  <a:pt x="121920" y="175260"/>
                </a:lnTo>
                <a:lnTo>
                  <a:pt x="114300" y="175260"/>
                </a:lnTo>
                <a:lnTo>
                  <a:pt x="91440" y="175260"/>
                </a:lnTo>
                <a:lnTo>
                  <a:pt x="76200" y="167640"/>
                </a:lnTo>
                <a:lnTo>
                  <a:pt x="68580" y="160020"/>
                </a:lnTo>
                <a:lnTo>
                  <a:pt x="53340" y="160020"/>
                </a:lnTo>
                <a:lnTo>
                  <a:pt x="45720" y="152400"/>
                </a:lnTo>
                <a:lnTo>
                  <a:pt x="22860" y="144780"/>
                </a:lnTo>
                <a:lnTo>
                  <a:pt x="22860" y="1447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Freeform 22"/>
          <p:cNvSpPr/>
          <p:nvPr/>
        </p:nvSpPr>
        <p:spPr>
          <a:xfrm>
            <a:off x="6316560" y="1844640"/>
            <a:ext cx="168480" cy="6480"/>
          </a:xfrm>
          <a:custGeom>
            <a:avLst/>
            <a:gdLst>
              <a:gd name="textAreaLeft" fmla="*/ 0 w 168480"/>
              <a:gd name="textAreaRight" fmla="*/ 168840 w 16848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167641" h="7621">
                <a:moveTo>
                  <a:pt x="0" y="7620"/>
                </a:moveTo>
                <a:lnTo>
                  <a:pt x="0" y="7620"/>
                </a:lnTo>
                <a:lnTo>
                  <a:pt x="0" y="7620"/>
                </a:lnTo>
                <a:lnTo>
                  <a:pt x="7620" y="7620"/>
                </a:lnTo>
                <a:lnTo>
                  <a:pt x="7620" y="7620"/>
                </a:lnTo>
                <a:lnTo>
                  <a:pt x="15240" y="0"/>
                </a:lnTo>
                <a:lnTo>
                  <a:pt x="22860" y="0"/>
                </a:lnTo>
                <a:lnTo>
                  <a:pt x="38100" y="0"/>
                </a:lnTo>
                <a:lnTo>
                  <a:pt x="45720" y="0"/>
                </a:lnTo>
                <a:lnTo>
                  <a:pt x="60960" y="0"/>
                </a:lnTo>
                <a:lnTo>
                  <a:pt x="76200" y="0"/>
                </a:lnTo>
                <a:lnTo>
                  <a:pt x="91440" y="0"/>
                </a:lnTo>
                <a:lnTo>
                  <a:pt x="106680" y="0"/>
                </a:lnTo>
                <a:lnTo>
                  <a:pt x="121920" y="0"/>
                </a:lnTo>
                <a:lnTo>
                  <a:pt x="137160" y="0"/>
                </a:lnTo>
                <a:lnTo>
                  <a:pt x="167640" y="7620"/>
                </a:lnTo>
                <a:lnTo>
                  <a:pt x="167640" y="7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Freeform 23"/>
          <p:cNvSpPr/>
          <p:nvPr/>
        </p:nvSpPr>
        <p:spPr>
          <a:xfrm>
            <a:off x="6431040" y="1654200"/>
            <a:ext cx="244440" cy="471600"/>
          </a:xfrm>
          <a:custGeom>
            <a:avLst/>
            <a:gdLst>
              <a:gd name="textAreaLeft" fmla="*/ 0 w 244440"/>
              <a:gd name="textAreaRight" fmla="*/ 244800 w 24444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243841" h="472441">
                <a:moveTo>
                  <a:pt x="0" y="0"/>
                </a:moveTo>
                <a:lnTo>
                  <a:pt x="7620" y="0"/>
                </a:lnTo>
                <a:lnTo>
                  <a:pt x="30480" y="0"/>
                </a:lnTo>
                <a:lnTo>
                  <a:pt x="53340" y="7620"/>
                </a:lnTo>
                <a:lnTo>
                  <a:pt x="68580" y="22860"/>
                </a:lnTo>
                <a:lnTo>
                  <a:pt x="91440" y="30480"/>
                </a:lnTo>
                <a:lnTo>
                  <a:pt x="114300" y="45720"/>
                </a:lnTo>
                <a:lnTo>
                  <a:pt x="129540" y="60960"/>
                </a:lnTo>
                <a:lnTo>
                  <a:pt x="152400" y="83820"/>
                </a:lnTo>
                <a:lnTo>
                  <a:pt x="167640" y="106680"/>
                </a:lnTo>
                <a:lnTo>
                  <a:pt x="182881" y="129540"/>
                </a:lnTo>
                <a:lnTo>
                  <a:pt x="205740" y="152400"/>
                </a:lnTo>
                <a:lnTo>
                  <a:pt x="213360" y="175260"/>
                </a:lnTo>
                <a:lnTo>
                  <a:pt x="228600" y="205740"/>
                </a:lnTo>
                <a:lnTo>
                  <a:pt x="236220" y="236220"/>
                </a:lnTo>
                <a:lnTo>
                  <a:pt x="243840" y="259080"/>
                </a:lnTo>
                <a:lnTo>
                  <a:pt x="243840" y="289560"/>
                </a:lnTo>
                <a:lnTo>
                  <a:pt x="243840" y="320040"/>
                </a:lnTo>
                <a:lnTo>
                  <a:pt x="243840" y="342900"/>
                </a:lnTo>
                <a:lnTo>
                  <a:pt x="236220" y="365760"/>
                </a:lnTo>
                <a:lnTo>
                  <a:pt x="228600" y="388620"/>
                </a:lnTo>
                <a:lnTo>
                  <a:pt x="220981" y="411480"/>
                </a:lnTo>
                <a:lnTo>
                  <a:pt x="205740" y="426720"/>
                </a:lnTo>
                <a:lnTo>
                  <a:pt x="190500" y="441960"/>
                </a:lnTo>
                <a:lnTo>
                  <a:pt x="167640" y="457200"/>
                </a:lnTo>
                <a:lnTo>
                  <a:pt x="144781" y="472440"/>
                </a:lnTo>
                <a:lnTo>
                  <a:pt x="144781" y="4724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Freeform 24"/>
          <p:cNvSpPr/>
          <p:nvPr/>
        </p:nvSpPr>
        <p:spPr>
          <a:xfrm>
            <a:off x="5867280" y="1698480"/>
            <a:ext cx="206640" cy="435240"/>
          </a:xfrm>
          <a:custGeom>
            <a:avLst/>
            <a:gdLst>
              <a:gd name="textAreaLeft" fmla="*/ 0 w 206640"/>
              <a:gd name="textAreaRight" fmla="*/ 207000 w 206640"/>
              <a:gd name="textAreaTop" fmla="*/ 0 h 435240"/>
              <a:gd name="textAreaBottom" fmla="*/ 435600 h 435240"/>
            </a:gdLst>
            <a:ahLst/>
            <a:rect l="textAreaLeft" t="textAreaTop" r="textAreaRight" b="textAreaBottom"/>
            <a:pathLst>
              <a:path w="205741" h="434341">
                <a:moveTo>
                  <a:pt x="68580" y="0"/>
                </a:moveTo>
                <a:lnTo>
                  <a:pt x="60960" y="7620"/>
                </a:lnTo>
                <a:lnTo>
                  <a:pt x="53340" y="15240"/>
                </a:lnTo>
                <a:lnTo>
                  <a:pt x="45720" y="22860"/>
                </a:lnTo>
                <a:lnTo>
                  <a:pt x="38100" y="38100"/>
                </a:lnTo>
                <a:lnTo>
                  <a:pt x="30480" y="53340"/>
                </a:lnTo>
                <a:lnTo>
                  <a:pt x="22860" y="68580"/>
                </a:lnTo>
                <a:lnTo>
                  <a:pt x="15240" y="91440"/>
                </a:lnTo>
                <a:lnTo>
                  <a:pt x="7620" y="106680"/>
                </a:lnTo>
                <a:lnTo>
                  <a:pt x="7620" y="129540"/>
                </a:lnTo>
                <a:lnTo>
                  <a:pt x="0" y="152400"/>
                </a:lnTo>
                <a:lnTo>
                  <a:pt x="0" y="175260"/>
                </a:lnTo>
                <a:lnTo>
                  <a:pt x="7620" y="205740"/>
                </a:lnTo>
                <a:lnTo>
                  <a:pt x="7620" y="228600"/>
                </a:lnTo>
                <a:lnTo>
                  <a:pt x="7620" y="251460"/>
                </a:lnTo>
                <a:lnTo>
                  <a:pt x="15240" y="274320"/>
                </a:lnTo>
                <a:lnTo>
                  <a:pt x="22860" y="297180"/>
                </a:lnTo>
                <a:lnTo>
                  <a:pt x="38100" y="320040"/>
                </a:lnTo>
                <a:lnTo>
                  <a:pt x="45720" y="342900"/>
                </a:lnTo>
                <a:lnTo>
                  <a:pt x="60960" y="358140"/>
                </a:lnTo>
                <a:lnTo>
                  <a:pt x="76200" y="373380"/>
                </a:lnTo>
                <a:lnTo>
                  <a:pt x="99060" y="388620"/>
                </a:lnTo>
                <a:lnTo>
                  <a:pt x="114300" y="403860"/>
                </a:lnTo>
                <a:lnTo>
                  <a:pt x="144780" y="411480"/>
                </a:lnTo>
                <a:lnTo>
                  <a:pt x="167640" y="426720"/>
                </a:lnTo>
                <a:lnTo>
                  <a:pt x="205740" y="434340"/>
                </a:lnTo>
                <a:lnTo>
                  <a:pt x="205740" y="4343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Freeform 25"/>
          <p:cNvSpPr/>
          <p:nvPr/>
        </p:nvSpPr>
        <p:spPr>
          <a:xfrm>
            <a:off x="6629400" y="1592280"/>
            <a:ext cx="228600" cy="198360"/>
          </a:xfrm>
          <a:custGeom>
            <a:avLst/>
            <a:gdLst>
              <a:gd name="textAreaLeft" fmla="*/ 0 w 228600"/>
              <a:gd name="textAreaRight" fmla="*/ 228960 w 22860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228601" h="198121">
                <a:moveTo>
                  <a:pt x="0" y="45720"/>
                </a:moveTo>
                <a:lnTo>
                  <a:pt x="0" y="38100"/>
                </a:lnTo>
                <a:lnTo>
                  <a:pt x="0" y="38100"/>
                </a:lnTo>
                <a:lnTo>
                  <a:pt x="0" y="30480"/>
                </a:lnTo>
                <a:lnTo>
                  <a:pt x="7620" y="22860"/>
                </a:lnTo>
                <a:lnTo>
                  <a:pt x="7620" y="15240"/>
                </a:lnTo>
                <a:lnTo>
                  <a:pt x="15240" y="15240"/>
                </a:lnTo>
                <a:lnTo>
                  <a:pt x="30480" y="7620"/>
                </a:lnTo>
                <a:lnTo>
                  <a:pt x="38100" y="7620"/>
                </a:lnTo>
                <a:lnTo>
                  <a:pt x="53340" y="0"/>
                </a:lnTo>
                <a:lnTo>
                  <a:pt x="68580" y="0"/>
                </a:lnTo>
                <a:lnTo>
                  <a:pt x="83820" y="0"/>
                </a:lnTo>
                <a:lnTo>
                  <a:pt x="99061" y="0"/>
                </a:lnTo>
                <a:lnTo>
                  <a:pt x="114300" y="0"/>
                </a:lnTo>
                <a:lnTo>
                  <a:pt x="129540" y="0"/>
                </a:lnTo>
                <a:lnTo>
                  <a:pt x="137161" y="7620"/>
                </a:lnTo>
                <a:lnTo>
                  <a:pt x="144780" y="7620"/>
                </a:lnTo>
                <a:lnTo>
                  <a:pt x="152400" y="15240"/>
                </a:lnTo>
                <a:lnTo>
                  <a:pt x="160020" y="22860"/>
                </a:lnTo>
                <a:lnTo>
                  <a:pt x="160020" y="30480"/>
                </a:lnTo>
                <a:lnTo>
                  <a:pt x="152400" y="38100"/>
                </a:lnTo>
                <a:lnTo>
                  <a:pt x="152400" y="45720"/>
                </a:lnTo>
                <a:lnTo>
                  <a:pt x="144780" y="53340"/>
                </a:lnTo>
                <a:lnTo>
                  <a:pt x="129540" y="68580"/>
                </a:lnTo>
                <a:lnTo>
                  <a:pt x="121920" y="76200"/>
                </a:lnTo>
                <a:lnTo>
                  <a:pt x="114300" y="91440"/>
                </a:lnTo>
                <a:lnTo>
                  <a:pt x="106680" y="99060"/>
                </a:lnTo>
                <a:lnTo>
                  <a:pt x="91440" y="114300"/>
                </a:lnTo>
                <a:lnTo>
                  <a:pt x="83820" y="121920"/>
                </a:lnTo>
                <a:lnTo>
                  <a:pt x="76200" y="129540"/>
                </a:lnTo>
                <a:lnTo>
                  <a:pt x="76200" y="137160"/>
                </a:lnTo>
                <a:lnTo>
                  <a:pt x="76200" y="144780"/>
                </a:lnTo>
                <a:lnTo>
                  <a:pt x="76200" y="152400"/>
                </a:lnTo>
                <a:lnTo>
                  <a:pt x="83820" y="160020"/>
                </a:lnTo>
                <a:lnTo>
                  <a:pt x="91440" y="167640"/>
                </a:lnTo>
                <a:lnTo>
                  <a:pt x="106680" y="175260"/>
                </a:lnTo>
                <a:lnTo>
                  <a:pt x="114300" y="182880"/>
                </a:lnTo>
                <a:lnTo>
                  <a:pt x="129540" y="182880"/>
                </a:lnTo>
                <a:lnTo>
                  <a:pt x="152400" y="190500"/>
                </a:lnTo>
                <a:lnTo>
                  <a:pt x="167640" y="190500"/>
                </a:lnTo>
                <a:lnTo>
                  <a:pt x="190500" y="190500"/>
                </a:lnTo>
                <a:lnTo>
                  <a:pt x="205740" y="190500"/>
                </a:lnTo>
                <a:lnTo>
                  <a:pt x="228600" y="198120"/>
                </a:lnTo>
                <a:lnTo>
                  <a:pt x="228600" y="1981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Freeform 26"/>
          <p:cNvSpPr/>
          <p:nvPr/>
        </p:nvSpPr>
        <p:spPr>
          <a:xfrm>
            <a:off x="2751120" y="2506680"/>
            <a:ext cx="297000" cy="465120"/>
          </a:xfrm>
          <a:custGeom>
            <a:avLst/>
            <a:gdLst>
              <a:gd name="textAreaLeft" fmla="*/ 0 w 297000"/>
              <a:gd name="textAreaRight" fmla="*/ 297360 w 297000"/>
              <a:gd name="textAreaTop" fmla="*/ 0 h 465120"/>
              <a:gd name="textAreaBottom" fmla="*/ 465480 h 465120"/>
            </a:gdLst>
            <a:ahLst/>
            <a:rect l="textAreaLeft" t="textAreaTop" r="textAreaRight" b="textAreaBottom"/>
            <a:pathLst>
              <a:path w="297181" h="464821">
                <a:moveTo>
                  <a:pt x="68580" y="15240"/>
                </a:moveTo>
                <a:lnTo>
                  <a:pt x="68580" y="7620"/>
                </a:lnTo>
                <a:lnTo>
                  <a:pt x="68580" y="0"/>
                </a:lnTo>
                <a:lnTo>
                  <a:pt x="68580" y="0"/>
                </a:lnTo>
                <a:lnTo>
                  <a:pt x="68580" y="0"/>
                </a:lnTo>
                <a:lnTo>
                  <a:pt x="68580" y="0"/>
                </a:lnTo>
                <a:lnTo>
                  <a:pt x="68580" y="0"/>
                </a:lnTo>
                <a:lnTo>
                  <a:pt x="68580" y="0"/>
                </a:lnTo>
                <a:lnTo>
                  <a:pt x="68580" y="7620"/>
                </a:lnTo>
                <a:lnTo>
                  <a:pt x="68580" y="15240"/>
                </a:lnTo>
                <a:lnTo>
                  <a:pt x="60960" y="30480"/>
                </a:lnTo>
                <a:lnTo>
                  <a:pt x="53340" y="45720"/>
                </a:lnTo>
                <a:lnTo>
                  <a:pt x="45720" y="60960"/>
                </a:lnTo>
                <a:lnTo>
                  <a:pt x="45720" y="76200"/>
                </a:lnTo>
                <a:lnTo>
                  <a:pt x="38100" y="99060"/>
                </a:lnTo>
                <a:lnTo>
                  <a:pt x="30480" y="121920"/>
                </a:lnTo>
                <a:lnTo>
                  <a:pt x="22860" y="144780"/>
                </a:lnTo>
                <a:lnTo>
                  <a:pt x="15240" y="167640"/>
                </a:lnTo>
                <a:lnTo>
                  <a:pt x="7620" y="198120"/>
                </a:lnTo>
                <a:lnTo>
                  <a:pt x="7620" y="220980"/>
                </a:lnTo>
                <a:lnTo>
                  <a:pt x="0" y="251460"/>
                </a:lnTo>
                <a:lnTo>
                  <a:pt x="7620" y="274320"/>
                </a:lnTo>
                <a:lnTo>
                  <a:pt x="15240" y="297180"/>
                </a:lnTo>
                <a:lnTo>
                  <a:pt x="22860" y="327660"/>
                </a:lnTo>
                <a:lnTo>
                  <a:pt x="30480" y="350520"/>
                </a:lnTo>
                <a:lnTo>
                  <a:pt x="45720" y="373380"/>
                </a:lnTo>
                <a:lnTo>
                  <a:pt x="68580" y="388620"/>
                </a:lnTo>
                <a:lnTo>
                  <a:pt x="91440" y="403860"/>
                </a:lnTo>
                <a:lnTo>
                  <a:pt x="121920" y="426720"/>
                </a:lnTo>
                <a:lnTo>
                  <a:pt x="144780" y="434340"/>
                </a:lnTo>
                <a:lnTo>
                  <a:pt x="175260" y="449580"/>
                </a:lnTo>
                <a:lnTo>
                  <a:pt x="213360" y="457200"/>
                </a:lnTo>
                <a:lnTo>
                  <a:pt x="243840" y="457200"/>
                </a:lnTo>
                <a:lnTo>
                  <a:pt x="297180" y="464820"/>
                </a:lnTo>
                <a:lnTo>
                  <a:pt x="297180" y="4648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Freeform 27"/>
          <p:cNvSpPr/>
          <p:nvPr/>
        </p:nvSpPr>
        <p:spPr>
          <a:xfrm>
            <a:off x="2911320" y="2629080"/>
            <a:ext cx="243000" cy="198360"/>
          </a:xfrm>
          <a:custGeom>
            <a:avLst/>
            <a:gdLst>
              <a:gd name="textAreaLeft" fmla="*/ 0 w 243000"/>
              <a:gd name="textAreaRight" fmla="*/ 243360 w 24300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243841" h="198121">
                <a:moveTo>
                  <a:pt x="243840" y="0"/>
                </a:moveTo>
                <a:lnTo>
                  <a:pt x="243840" y="7620"/>
                </a:lnTo>
                <a:lnTo>
                  <a:pt x="243840" y="7620"/>
                </a:lnTo>
                <a:lnTo>
                  <a:pt x="236220" y="15240"/>
                </a:lnTo>
                <a:lnTo>
                  <a:pt x="228600" y="22860"/>
                </a:lnTo>
                <a:lnTo>
                  <a:pt x="220980" y="30480"/>
                </a:lnTo>
                <a:lnTo>
                  <a:pt x="213360" y="38100"/>
                </a:lnTo>
                <a:lnTo>
                  <a:pt x="205740" y="53340"/>
                </a:lnTo>
                <a:lnTo>
                  <a:pt x="198120" y="60960"/>
                </a:lnTo>
                <a:lnTo>
                  <a:pt x="182880" y="76200"/>
                </a:lnTo>
                <a:lnTo>
                  <a:pt x="167640" y="91440"/>
                </a:lnTo>
                <a:lnTo>
                  <a:pt x="160020" y="99060"/>
                </a:lnTo>
                <a:lnTo>
                  <a:pt x="144780" y="114300"/>
                </a:lnTo>
                <a:lnTo>
                  <a:pt x="129540" y="129540"/>
                </a:lnTo>
                <a:lnTo>
                  <a:pt x="114300" y="137160"/>
                </a:lnTo>
                <a:lnTo>
                  <a:pt x="99060" y="152400"/>
                </a:lnTo>
                <a:lnTo>
                  <a:pt x="83820" y="160020"/>
                </a:lnTo>
                <a:lnTo>
                  <a:pt x="68580" y="175260"/>
                </a:lnTo>
                <a:lnTo>
                  <a:pt x="53340" y="182880"/>
                </a:lnTo>
                <a:lnTo>
                  <a:pt x="38100" y="190500"/>
                </a:lnTo>
                <a:lnTo>
                  <a:pt x="22860" y="190500"/>
                </a:lnTo>
                <a:lnTo>
                  <a:pt x="15240" y="190500"/>
                </a:lnTo>
                <a:lnTo>
                  <a:pt x="0" y="198120"/>
                </a:lnTo>
                <a:lnTo>
                  <a:pt x="0" y="1981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Freeform 28"/>
          <p:cNvSpPr/>
          <p:nvPr/>
        </p:nvSpPr>
        <p:spPr>
          <a:xfrm>
            <a:off x="2941560" y="2658960"/>
            <a:ext cx="289080" cy="19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198720"/>
              <a:gd name="textAreaBottom" fmla="*/ 199080 h 198720"/>
            </a:gdLst>
            <a:ahLst/>
            <a:rect l="textAreaLeft" t="textAreaTop" r="textAreaRight" b="textAreaBottom"/>
            <a:pathLst>
              <a:path w="289561" h="198121">
                <a:moveTo>
                  <a:pt x="0" y="0"/>
                </a:moveTo>
                <a:lnTo>
                  <a:pt x="7620" y="0"/>
                </a:lnTo>
                <a:lnTo>
                  <a:pt x="15240" y="0"/>
                </a:lnTo>
                <a:lnTo>
                  <a:pt x="30480" y="7620"/>
                </a:lnTo>
                <a:lnTo>
                  <a:pt x="38100" y="7620"/>
                </a:lnTo>
                <a:lnTo>
                  <a:pt x="45720" y="22860"/>
                </a:lnTo>
                <a:lnTo>
                  <a:pt x="60960" y="30480"/>
                </a:lnTo>
                <a:lnTo>
                  <a:pt x="76200" y="38100"/>
                </a:lnTo>
                <a:lnTo>
                  <a:pt x="83820" y="53340"/>
                </a:lnTo>
                <a:lnTo>
                  <a:pt x="99060" y="60960"/>
                </a:lnTo>
                <a:lnTo>
                  <a:pt x="114300" y="76200"/>
                </a:lnTo>
                <a:lnTo>
                  <a:pt x="129540" y="91440"/>
                </a:lnTo>
                <a:lnTo>
                  <a:pt x="144780" y="106680"/>
                </a:lnTo>
                <a:lnTo>
                  <a:pt x="160020" y="121920"/>
                </a:lnTo>
                <a:lnTo>
                  <a:pt x="182880" y="137160"/>
                </a:lnTo>
                <a:lnTo>
                  <a:pt x="198120" y="144780"/>
                </a:lnTo>
                <a:lnTo>
                  <a:pt x="213360" y="160020"/>
                </a:lnTo>
                <a:lnTo>
                  <a:pt x="228600" y="167640"/>
                </a:lnTo>
                <a:lnTo>
                  <a:pt x="251460" y="175260"/>
                </a:lnTo>
                <a:lnTo>
                  <a:pt x="266700" y="182880"/>
                </a:lnTo>
                <a:lnTo>
                  <a:pt x="289560" y="198120"/>
                </a:lnTo>
                <a:lnTo>
                  <a:pt x="289560" y="1981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Freeform 29"/>
          <p:cNvSpPr/>
          <p:nvPr/>
        </p:nvSpPr>
        <p:spPr>
          <a:xfrm>
            <a:off x="3368520" y="2612880"/>
            <a:ext cx="14400" cy="198720"/>
          </a:xfrm>
          <a:custGeom>
            <a:avLst/>
            <a:gdLst>
              <a:gd name="textAreaLeft" fmla="*/ 0 w 14400"/>
              <a:gd name="textAreaRight" fmla="*/ 14760 w 14400"/>
              <a:gd name="textAreaTop" fmla="*/ 0 h 198720"/>
              <a:gd name="textAreaBottom" fmla="*/ 199080 h 198720"/>
            </a:gdLst>
            <a:ahLst/>
            <a:rect l="textAreaLeft" t="textAreaTop" r="textAreaRight" b="textAreaBottom"/>
            <a:pathLst>
              <a:path w="15241" h="198121">
                <a:moveTo>
                  <a:pt x="15240" y="0"/>
                </a:moveTo>
                <a:lnTo>
                  <a:pt x="15240" y="0"/>
                </a:lnTo>
                <a:lnTo>
                  <a:pt x="15240" y="0"/>
                </a:lnTo>
                <a:lnTo>
                  <a:pt x="15240" y="0"/>
                </a:lnTo>
                <a:lnTo>
                  <a:pt x="15240" y="7620"/>
                </a:lnTo>
                <a:lnTo>
                  <a:pt x="15240" y="7620"/>
                </a:lnTo>
                <a:lnTo>
                  <a:pt x="15240" y="15240"/>
                </a:lnTo>
                <a:lnTo>
                  <a:pt x="15240" y="30480"/>
                </a:lnTo>
                <a:lnTo>
                  <a:pt x="7620" y="38100"/>
                </a:lnTo>
                <a:lnTo>
                  <a:pt x="7620" y="45720"/>
                </a:lnTo>
                <a:lnTo>
                  <a:pt x="7620" y="60960"/>
                </a:lnTo>
                <a:lnTo>
                  <a:pt x="7620" y="76200"/>
                </a:lnTo>
                <a:lnTo>
                  <a:pt x="7620" y="91440"/>
                </a:lnTo>
                <a:lnTo>
                  <a:pt x="0" y="106680"/>
                </a:lnTo>
                <a:lnTo>
                  <a:pt x="0" y="121920"/>
                </a:lnTo>
                <a:lnTo>
                  <a:pt x="0" y="129540"/>
                </a:lnTo>
                <a:lnTo>
                  <a:pt x="0" y="144780"/>
                </a:lnTo>
                <a:lnTo>
                  <a:pt x="0" y="160020"/>
                </a:lnTo>
                <a:lnTo>
                  <a:pt x="7620" y="167640"/>
                </a:lnTo>
                <a:lnTo>
                  <a:pt x="7620" y="175260"/>
                </a:lnTo>
                <a:lnTo>
                  <a:pt x="7620" y="182880"/>
                </a:lnTo>
                <a:lnTo>
                  <a:pt x="7620" y="198120"/>
                </a:lnTo>
                <a:lnTo>
                  <a:pt x="7620" y="1981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Freeform 30"/>
          <p:cNvSpPr/>
          <p:nvPr/>
        </p:nvSpPr>
        <p:spPr>
          <a:xfrm>
            <a:off x="3276720" y="2712960"/>
            <a:ext cx="190440" cy="22320"/>
          </a:xfrm>
          <a:custGeom>
            <a:avLst/>
            <a:gdLst>
              <a:gd name="textAreaLeft" fmla="*/ 0 w 190440"/>
              <a:gd name="textAreaRight" fmla="*/ 190800 w 1904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90501" h="22861">
                <a:moveTo>
                  <a:pt x="0" y="22860"/>
                </a:moveTo>
                <a:lnTo>
                  <a:pt x="0" y="22860"/>
                </a:lnTo>
                <a:lnTo>
                  <a:pt x="7620" y="22860"/>
                </a:lnTo>
                <a:lnTo>
                  <a:pt x="15240" y="15240"/>
                </a:lnTo>
                <a:lnTo>
                  <a:pt x="30480" y="15240"/>
                </a:lnTo>
                <a:lnTo>
                  <a:pt x="38100" y="7620"/>
                </a:lnTo>
                <a:lnTo>
                  <a:pt x="53340" y="7620"/>
                </a:lnTo>
                <a:lnTo>
                  <a:pt x="76200" y="7620"/>
                </a:lnTo>
                <a:lnTo>
                  <a:pt x="91440" y="7620"/>
                </a:lnTo>
                <a:lnTo>
                  <a:pt x="114300" y="7620"/>
                </a:lnTo>
                <a:lnTo>
                  <a:pt x="137160" y="7620"/>
                </a:lnTo>
                <a:lnTo>
                  <a:pt x="160020" y="0"/>
                </a:lnTo>
                <a:lnTo>
                  <a:pt x="190500" y="0"/>
                </a:lnTo>
                <a:lnTo>
                  <a:pt x="19050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Freeform 4095"/>
          <p:cNvSpPr/>
          <p:nvPr/>
        </p:nvSpPr>
        <p:spPr>
          <a:xfrm>
            <a:off x="3521160" y="2536920"/>
            <a:ext cx="120600" cy="145800"/>
          </a:xfrm>
          <a:custGeom>
            <a:avLst/>
            <a:gdLst>
              <a:gd name="textAreaLeft" fmla="*/ 0 w 120600"/>
              <a:gd name="textAreaRight" fmla="*/ 120960 w 12060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121921" h="144781">
                <a:moveTo>
                  <a:pt x="106680" y="22860"/>
                </a:moveTo>
                <a:lnTo>
                  <a:pt x="106680" y="15240"/>
                </a:lnTo>
                <a:lnTo>
                  <a:pt x="106680" y="15240"/>
                </a:lnTo>
                <a:lnTo>
                  <a:pt x="106680" y="7620"/>
                </a:lnTo>
                <a:lnTo>
                  <a:pt x="106680" y="0"/>
                </a:lnTo>
                <a:lnTo>
                  <a:pt x="106680" y="0"/>
                </a:lnTo>
                <a:lnTo>
                  <a:pt x="106680" y="0"/>
                </a:lnTo>
                <a:lnTo>
                  <a:pt x="99060" y="0"/>
                </a:lnTo>
                <a:lnTo>
                  <a:pt x="99060" y="0"/>
                </a:lnTo>
                <a:lnTo>
                  <a:pt x="83820" y="0"/>
                </a:lnTo>
                <a:lnTo>
                  <a:pt x="76200" y="0"/>
                </a:lnTo>
                <a:lnTo>
                  <a:pt x="68580" y="7620"/>
                </a:lnTo>
                <a:lnTo>
                  <a:pt x="53340" y="15240"/>
                </a:lnTo>
                <a:lnTo>
                  <a:pt x="45720" y="22860"/>
                </a:lnTo>
                <a:lnTo>
                  <a:pt x="38100" y="30480"/>
                </a:lnTo>
                <a:lnTo>
                  <a:pt x="22860" y="45720"/>
                </a:lnTo>
                <a:lnTo>
                  <a:pt x="15240" y="53340"/>
                </a:lnTo>
                <a:lnTo>
                  <a:pt x="7620" y="68580"/>
                </a:lnTo>
                <a:lnTo>
                  <a:pt x="0" y="83820"/>
                </a:lnTo>
                <a:lnTo>
                  <a:pt x="0" y="91440"/>
                </a:lnTo>
                <a:lnTo>
                  <a:pt x="0" y="106680"/>
                </a:lnTo>
                <a:lnTo>
                  <a:pt x="0" y="114300"/>
                </a:lnTo>
                <a:lnTo>
                  <a:pt x="0" y="121920"/>
                </a:lnTo>
                <a:lnTo>
                  <a:pt x="7620" y="129540"/>
                </a:lnTo>
                <a:lnTo>
                  <a:pt x="15240" y="137160"/>
                </a:lnTo>
                <a:lnTo>
                  <a:pt x="22860" y="144780"/>
                </a:lnTo>
                <a:lnTo>
                  <a:pt x="38100" y="144780"/>
                </a:lnTo>
                <a:lnTo>
                  <a:pt x="45720" y="144780"/>
                </a:lnTo>
                <a:lnTo>
                  <a:pt x="60960" y="144780"/>
                </a:lnTo>
                <a:lnTo>
                  <a:pt x="76200" y="144780"/>
                </a:lnTo>
                <a:lnTo>
                  <a:pt x="83820" y="137160"/>
                </a:lnTo>
                <a:lnTo>
                  <a:pt x="99060" y="129540"/>
                </a:lnTo>
                <a:lnTo>
                  <a:pt x="106680" y="129540"/>
                </a:lnTo>
                <a:lnTo>
                  <a:pt x="114300" y="114300"/>
                </a:lnTo>
                <a:lnTo>
                  <a:pt x="121920" y="106680"/>
                </a:lnTo>
                <a:lnTo>
                  <a:pt x="121920" y="99060"/>
                </a:lnTo>
                <a:lnTo>
                  <a:pt x="121920" y="91440"/>
                </a:lnTo>
                <a:lnTo>
                  <a:pt x="114300" y="83820"/>
                </a:lnTo>
                <a:lnTo>
                  <a:pt x="106680" y="68580"/>
                </a:lnTo>
                <a:lnTo>
                  <a:pt x="99060" y="68580"/>
                </a:lnTo>
                <a:lnTo>
                  <a:pt x="91440" y="60960"/>
                </a:lnTo>
                <a:lnTo>
                  <a:pt x="83820" y="60960"/>
                </a:lnTo>
                <a:lnTo>
                  <a:pt x="68580" y="60960"/>
                </a:lnTo>
                <a:lnTo>
                  <a:pt x="60960" y="60960"/>
                </a:lnTo>
                <a:lnTo>
                  <a:pt x="45720" y="60960"/>
                </a:lnTo>
                <a:lnTo>
                  <a:pt x="38100" y="60960"/>
                </a:lnTo>
                <a:lnTo>
                  <a:pt x="30480" y="68580"/>
                </a:lnTo>
                <a:lnTo>
                  <a:pt x="22860" y="68580"/>
                </a:lnTo>
                <a:lnTo>
                  <a:pt x="22860" y="685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Freeform 4096"/>
          <p:cNvSpPr/>
          <p:nvPr/>
        </p:nvSpPr>
        <p:spPr>
          <a:xfrm>
            <a:off x="3535200" y="2682720"/>
            <a:ext cx="130320" cy="152640"/>
          </a:xfrm>
          <a:custGeom>
            <a:avLst/>
            <a:gdLst>
              <a:gd name="textAreaLeft" fmla="*/ 0 w 130320"/>
              <a:gd name="textAreaRight" fmla="*/ 130680 w 1303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29541" h="152401">
                <a:moveTo>
                  <a:pt x="60960" y="30480"/>
                </a:moveTo>
                <a:lnTo>
                  <a:pt x="53340" y="30480"/>
                </a:lnTo>
                <a:lnTo>
                  <a:pt x="45720" y="22860"/>
                </a:lnTo>
                <a:lnTo>
                  <a:pt x="45720" y="22860"/>
                </a:lnTo>
                <a:lnTo>
                  <a:pt x="38100" y="22860"/>
                </a:lnTo>
                <a:lnTo>
                  <a:pt x="30480" y="22860"/>
                </a:lnTo>
                <a:lnTo>
                  <a:pt x="30480" y="22860"/>
                </a:lnTo>
                <a:lnTo>
                  <a:pt x="22860" y="30480"/>
                </a:lnTo>
                <a:lnTo>
                  <a:pt x="15240" y="30480"/>
                </a:lnTo>
                <a:lnTo>
                  <a:pt x="15240" y="38100"/>
                </a:lnTo>
                <a:lnTo>
                  <a:pt x="7620" y="45720"/>
                </a:lnTo>
                <a:lnTo>
                  <a:pt x="7620" y="53340"/>
                </a:lnTo>
                <a:lnTo>
                  <a:pt x="0" y="60960"/>
                </a:lnTo>
                <a:lnTo>
                  <a:pt x="0" y="76200"/>
                </a:lnTo>
                <a:lnTo>
                  <a:pt x="0" y="83820"/>
                </a:lnTo>
                <a:lnTo>
                  <a:pt x="7620" y="91440"/>
                </a:lnTo>
                <a:lnTo>
                  <a:pt x="7620" y="106680"/>
                </a:lnTo>
                <a:lnTo>
                  <a:pt x="15240" y="114300"/>
                </a:lnTo>
                <a:lnTo>
                  <a:pt x="22860" y="121920"/>
                </a:lnTo>
                <a:lnTo>
                  <a:pt x="30480" y="137160"/>
                </a:lnTo>
                <a:lnTo>
                  <a:pt x="45720" y="144780"/>
                </a:lnTo>
                <a:lnTo>
                  <a:pt x="60960" y="144780"/>
                </a:lnTo>
                <a:lnTo>
                  <a:pt x="68580" y="152400"/>
                </a:lnTo>
                <a:lnTo>
                  <a:pt x="83820" y="152400"/>
                </a:lnTo>
                <a:lnTo>
                  <a:pt x="91440" y="144780"/>
                </a:lnTo>
                <a:lnTo>
                  <a:pt x="106680" y="144780"/>
                </a:lnTo>
                <a:lnTo>
                  <a:pt x="114300" y="137160"/>
                </a:lnTo>
                <a:lnTo>
                  <a:pt x="121920" y="137160"/>
                </a:lnTo>
                <a:lnTo>
                  <a:pt x="129540" y="121920"/>
                </a:lnTo>
                <a:lnTo>
                  <a:pt x="129540" y="106680"/>
                </a:lnTo>
                <a:lnTo>
                  <a:pt x="129540" y="99060"/>
                </a:lnTo>
                <a:lnTo>
                  <a:pt x="121920" y="83820"/>
                </a:lnTo>
                <a:lnTo>
                  <a:pt x="114300" y="76200"/>
                </a:lnTo>
                <a:lnTo>
                  <a:pt x="106680" y="60960"/>
                </a:lnTo>
                <a:lnTo>
                  <a:pt x="91440" y="45720"/>
                </a:lnTo>
                <a:lnTo>
                  <a:pt x="83820" y="38100"/>
                </a:lnTo>
                <a:lnTo>
                  <a:pt x="76200" y="30480"/>
                </a:lnTo>
                <a:lnTo>
                  <a:pt x="60960" y="22860"/>
                </a:lnTo>
                <a:lnTo>
                  <a:pt x="60960" y="7620"/>
                </a:lnTo>
                <a:lnTo>
                  <a:pt x="45720" y="0"/>
                </a:lnTo>
                <a:lnTo>
                  <a:pt x="4572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Freeform 4098"/>
          <p:cNvSpPr/>
          <p:nvPr/>
        </p:nvSpPr>
        <p:spPr>
          <a:xfrm>
            <a:off x="3695760" y="2514600"/>
            <a:ext cx="106200" cy="396720"/>
          </a:xfrm>
          <a:custGeom>
            <a:avLst/>
            <a:gdLst>
              <a:gd name="textAreaLeft" fmla="*/ 0 w 106200"/>
              <a:gd name="textAreaRight" fmla="*/ 106560 w 10620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106681" h="396241">
                <a:moveTo>
                  <a:pt x="0" y="0"/>
                </a:moveTo>
                <a:lnTo>
                  <a:pt x="0" y="0"/>
                </a:lnTo>
                <a:lnTo>
                  <a:pt x="0" y="7620"/>
                </a:lnTo>
                <a:lnTo>
                  <a:pt x="0" y="15240"/>
                </a:lnTo>
                <a:lnTo>
                  <a:pt x="0" y="22860"/>
                </a:lnTo>
                <a:lnTo>
                  <a:pt x="7620" y="30480"/>
                </a:lnTo>
                <a:lnTo>
                  <a:pt x="7620" y="45720"/>
                </a:lnTo>
                <a:lnTo>
                  <a:pt x="15240" y="60960"/>
                </a:lnTo>
                <a:lnTo>
                  <a:pt x="22860" y="76200"/>
                </a:lnTo>
                <a:lnTo>
                  <a:pt x="38100" y="91440"/>
                </a:lnTo>
                <a:lnTo>
                  <a:pt x="45720" y="114300"/>
                </a:lnTo>
                <a:lnTo>
                  <a:pt x="60960" y="137160"/>
                </a:lnTo>
                <a:lnTo>
                  <a:pt x="68580" y="160020"/>
                </a:lnTo>
                <a:lnTo>
                  <a:pt x="76200" y="182880"/>
                </a:lnTo>
                <a:lnTo>
                  <a:pt x="91440" y="205740"/>
                </a:lnTo>
                <a:lnTo>
                  <a:pt x="99060" y="228600"/>
                </a:lnTo>
                <a:lnTo>
                  <a:pt x="106680" y="259080"/>
                </a:lnTo>
                <a:lnTo>
                  <a:pt x="106680" y="274320"/>
                </a:lnTo>
                <a:lnTo>
                  <a:pt x="106680" y="297180"/>
                </a:lnTo>
                <a:lnTo>
                  <a:pt x="99060" y="320040"/>
                </a:lnTo>
                <a:lnTo>
                  <a:pt x="91440" y="335280"/>
                </a:lnTo>
                <a:lnTo>
                  <a:pt x="76200" y="350520"/>
                </a:lnTo>
                <a:lnTo>
                  <a:pt x="68580" y="365760"/>
                </a:lnTo>
                <a:lnTo>
                  <a:pt x="53340" y="373380"/>
                </a:lnTo>
                <a:lnTo>
                  <a:pt x="45720" y="381000"/>
                </a:lnTo>
                <a:lnTo>
                  <a:pt x="22860" y="396240"/>
                </a:lnTo>
                <a:lnTo>
                  <a:pt x="22860" y="3962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Freeform 4099"/>
          <p:cNvSpPr/>
          <p:nvPr/>
        </p:nvSpPr>
        <p:spPr>
          <a:xfrm>
            <a:off x="3809880" y="2446200"/>
            <a:ext cx="160560" cy="174600"/>
          </a:xfrm>
          <a:custGeom>
            <a:avLst/>
            <a:gdLst>
              <a:gd name="textAreaLeft" fmla="*/ 0 w 160560"/>
              <a:gd name="textAreaRight" fmla="*/ 160920 w 1605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60021" h="175261">
                <a:moveTo>
                  <a:pt x="0" y="38100"/>
                </a:moveTo>
                <a:lnTo>
                  <a:pt x="0" y="30480"/>
                </a:lnTo>
                <a:lnTo>
                  <a:pt x="0" y="22860"/>
                </a:lnTo>
                <a:lnTo>
                  <a:pt x="0" y="22860"/>
                </a:lnTo>
                <a:lnTo>
                  <a:pt x="0" y="1524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7620" y="0"/>
                </a:lnTo>
                <a:lnTo>
                  <a:pt x="7620" y="0"/>
                </a:lnTo>
                <a:lnTo>
                  <a:pt x="15240" y="0"/>
                </a:lnTo>
                <a:lnTo>
                  <a:pt x="22860" y="0"/>
                </a:lnTo>
                <a:lnTo>
                  <a:pt x="30480" y="0"/>
                </a:lnTo>
                <a:lnTo>
                  <a:pt x="38100" y="0"/>
                </a:lnTo>
                <a:lnTo>
                  <a:pt x="53340" y="0"/>
                </a:lnTo>
                <a:lnTo>
                  <a:pt x="60960" y="0"/>
                </a:lnTo>
                <a:lnTo>
                  <a:pt x="76200" y="0"/>
                </a:lnTo>
                <a:lnTo>
                  <a:pt x="91440" y="7620"/>
                </a:lnTo>
                <a:lnTo>
                  <a:pt x="99060" y="7620"/>
                </a:lnTo>
                <a:lnTo>
                  <a:pt x="114300" y="15240"/>
                </a:lnTo>
                <a:lnTo>
                  <a:pt x="121920" y="22860"/>
                </a:lnTo>
                <a:lnTo>
                  <a:pt x="129540" y="30480"/>
                </a:lnTo>
                <a:lnTo>
                  <a:pt x="129540" y="38100"/>
                </a:lnTo>
                <a:lnTo>
                  <a:pt x="137160" y="45720"/>
                </a:lnTo>
                <a:lnTo>
                  <a:pt x="137160" y="53340"/>
                </a:lnTo>
                <a:lnTo>
                  <a:pt x="129540" y="60960"/>
                </a:lnTo>
                <a:lnTo>
                  <a:pt x="121920" y="68580"/>
                </a:lnTo>
                <a:lnTo>
                  <a:pt x="114300" y="76200"/>
                </a:lnTo>
                <a:lnTo>
                  <a:pt x="106680" y="91440"/>
                </a:lnTo>
                <a:lnTo>
                  <a:pt x="91440" y="99060"/>
                </a:lnTo>
                <a:lnTo>
                  <a:pt x="83820" y="106680"/>
                </a:lnTo>
                <a:lnTo>
                  <a:pt x="76200" y="121920"/>
                </a:lnTo>
                <a:lnTo>
                  <a:pt x="60960" y="129540"/>
                </a:lnTo>
                <a:lnTo>
                  <a:pt x="60960" y="137160"/>
                </a:lnTo>
                <a:lnTo>
                  <a:pt x="53340" y="144780"/>
                </a:lnTo>
                <a:lnTo>
                  <a:pt x="53340" y="152400"/>
                </a:lnTo>
                <a:lnTo>
                  <a:pt x="53340" y="160020"/>
                </a:lnTo>
                <a:lnTo>
                  <a:pt x="53340" y="160020"/>
                </a:lnTo>
                <a:lnTo>
                  <a:pt x="60960" y="167640"/>
                </a:lnTo>
                <a:lnTo>
                  <a:pt x="76200" y="167640"/>
                </a:lnTo>
                <a:lnTo>
                  <a:pt x="83820" y="167640"/>
                </a:lnTo>
                <a:lnTo>
                  <a:pt x="99060" y="175260"/>
                </a:lnTo>
                <a:lnTo>
                  <a:pt x="114300" y="175260"/>
                </a:lnTo>
                <a:lnTo>
                  <a:pt x="137160" y="175260"/>
                </a:lnTo>
                <a:lnTo>
                  <a:pt x="160020" y="175260"/>
                </a:lnTo>
                <a:lnTo>
                  <a:pt x="160020" y="1752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Freeform 4100"/>
          <p:cNvSpPr/>
          <p:nvPr/>
        </p:nvSpPr>
        <p:spPr>
          <a:xfrm>
            <a:off x="4106880" y="2606760"/>
            <a:ext cx="30240" cy="204840"/>
          </a:xfrm>
          <a:custGeom>
            <a:avLst/>
            <a:gdLst>
              <a:gd name="textAreaLeft" fmla="*/ 0 w 30240"/>
              <a:gd name="textAreaRight" fmla="*/ 30600 w 3024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30481" h="205741">
                <a:moveTo>
                  <a:pt x="30480" y="0"/>
                </a:moveTo>
                <a:lnTo>
                  <a:pt x="30480" y="0"/>
                </a:lnTo>
                <a:lnTo>
                  <a:pt x="30480" y="7620"/>
                </a:lnTo>
                <a:lnTo>
                  <a:pt x="22860" y="7620"/>
                </a:lnTo>
                <a:lnTo>
                  <a:pt x="22860" y="15240"/>
                </a:lnTo>
                <a:lnTo>
                  <a:pt x="22860" y="22860"/>
                </a:lnTo>
                <a:lnTo>
                  <a:pt x="22860" y="30480"/>
                </a:lnTo>
                <a:lnTo>
                  <a:pt x="15240" y="38100"/>
                </a:lnTo>
                <a:lnTo>
                  <a:pt x="15240" y="45720"/>
                </a:lnTo>
                <a:lnTo>
                  <a:pt x="15240" y="60960"/>
                </a:lnTo>
                <a:lnTo>
                  <a:pt x="7620" y="68580"/>
                </a:lnTo>
                <a:lnTo>
                  <a:pt x="7620" y="83820"/>
                </a:lnTo>
                <a:lnTo>
                  <a:pt x="0" y="99060"/>
                </a:lnTo>
                <a:lnTo>
                  <a:pt x="0" y="114300"/>
                </a:lnTo>
                <a:lnTo>
                  <a:pt x="0" y="129540"/>
                </a:lnTo>
                <a:lnTo>
                  <a:pt x="0" y="144780"/>
                </a:lnTo>
                <a:lnTo>
                  <a:pt x="0" y="160020"/>
                </a:lnTo>
                <a:lnTo>
                  <a:pt x="0" y="167640"/>
                </a:lnTo>
                <a:lnTo>
                  <a:pt x="0" y="182880"/>
                </a:lnTo>
                <a:lnTo>
                  <a:pt x="0" y="190500"/>
                </a:lnTo>
                <a:lnTo>
                  <a:pt x="0" y="205740"/>
                </a:lnTo>
                <a:lnTo>
                  <a:pt x="0" y="2057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Freeform 4101"/>
          <p:cNvSpPr/>
          <p:nvPr/>
        </p:nvSpPr>
        <p:spPr>
          <a:xfrm>
            <a:off x="4076640" y="2727360"/>
            <a:ext cx="152640" cy="31680"/>
          </a:xfrm>
          <a:custGeom>
            <a:avLst/>
            <a:gdLst>
              <a:gd name="textAreaLeft" fmla="*/ 0 w 152640"/>
              <a:gd name="textAreaRight" fmla="*/ 153000 w 15264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152401" h="30481">
                <a:moveTo>
                  <a:pt x="0" y="30480"/>
                </a:moveTo>
                <a:lnTo>
                  <a:pt x="0" y="22860"/>
                </a:lnTo>
                <a:lnTo>
                  <a:pt x="7620" y="15240"/>
                </a:lnTo>
                <a:lnTo>
                  <a:pt x="15240" y="15240"/>
                </a:lnTo>
                <a:lnTo>
                  <a:pt x="22860" y="7620"/>
                </a:lnTo>
                <a:lnTo>
                  <a:pt x="38100" y="7620"/>
                </a:lnTo>
                <a:lnTo>
                  <a:pt x="45720" y="7620"/>
                </a:lnTo>
                <a:lnTo>
                  <a:pt x="68580" y="7620"/>
                </a:lnTo>
                <a:lnTo>
                  <a:pt x="76200" y="0"/>
                </a:lnTo>
                <a:lnTo>
                  <a:pt x="91440" y="0"/>
                </a:lnTo>
                <a:lnTo>
                  <a:pt x="114300" y="0"/>
                </a:lnTo>
                <a:lnTo>
                  <a:pt x="129540" y="0"/>
                </a:lnTo>
                <a:lnTo>
                  <a:pt x="152400" y="0"/>
                </a:lnTo>
                <a:lnTo>
                  <a:pt x="15240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Freeform 4102"/>
          <p:cNvSpPr/>
          <p:nvPr/>
        </p:nvSpPr>
        <p:spPr>
          <a:xfrm>
            <a:off x="4389480" y="2498760"/>
            <a:ext cx="198360" cy="342720"/>
          </a:xfrm>
          <a:custGeom>
            <a:avLst/>
            <a:gdLst>
              <a:gd name="textAreaLeft" fmla="*/ 0 w 198360"/>
              <a:gd name="textAreaRight" fmla="*/ 198720 w 19836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198121" h="342901">
                <a:moveTo>
                  <a:pt x="83820" y="0"/>
                </a:moveTo>
                <a:lnTo>
                  <a:pt x="83820" y="0"/>
                </a:lnTo>
                <a:lnTo>
                  <a:pt x="83820" y="0"/>
                </a:lnTo>
                <a:lnTo>
                  <a:pt x="83820" y="0"/>
                </a:lnTo>
                <a:lnTo>
                  <a:pt x="76200" y="0"/>
                </a:lnTo>
                <a:lnTo>
                  <a:pt x="76200" y="7620"/>
                </a:lnTo>
                <a:lnTo>
                  <a:pt x="76200" y="7620"/>
                </a:lnTo>
                <a:lnTo>
                  <a:pt x="68580" y="15240"/>
                </a:lnTo>
                <a:lnTo>
                  <a:pt x="68580" y="22860"/>
                </a:lnTo>
                <a:lnTo>
                  <a:pt x="68580" y="38100"/>
                </a:lnTo>
                <a:lnTo>
                  <a:pt x="60960" y="45720"/>
                </a:lnTo>
                <a:lnTo>
                  <a:pt x="53340" y="60960"/>
                </a:lnTo>
                <a:lnTo>
                  <a:pt x="45720" y="76200"/>
                </a:lnTo>
                <a:lnTo>
                  <a:pt x="38100" y="99060"/>
                </a:lnTo>
                <a:lnTo>
                  <a:pt x="30480" y="114300"/>
                </a:lnTo>
                <a:lnTo>
                  <a:pt x="22860" y="129540"/>
                </a:lnTo>
                <a:lnTo>
                  <a:pt x="15240" y="152400"/>
                </a:lnTo>
                <a:lnTo>
                  <a:pt x="7620" y="167640"/>
                </a:lnTo>
                <a:lnTo>
                  <a:pt x="0" y="190500"/>
                </a:lnTo>
                <a:lnTo>
                  <a:pt x="0" y="205740"/>
                </a:lnTo>
                <a:lnTo>
                  <a:pt x="0" y="228600"/>
                </a:lnTo>
                <a:lnTo>
                  <a:pt x="0" y="243840"/>
                </a:lnTo>
                <a:lnTo>
                  <a:pt x="7620" y="259080"/>
                </a:lnTo>
                <a:lnTo>
                  <a:pt x="15240" y="274320"/>
                </a:lnTo>
                <a:lnTo>
                  <a:pt x="30480" y="289560"/>
                </a:lnTo>
                <a:lnTo>
                  <a:pt x="45720" y="304800"/>
                </a:lnTo>
                <a:lnTo>
                  <a:pt x="68580" y="320040"/>
                </a:lnTo>
                <a:lnTo>
                  <a:pt x="99060" y="327660"/>
                </a:lnTo>
                <a:lnTo>
                  <a:pt x="121920" y="327660"/>
                </a:lnTo>
                <a:lnTo>
                  <a:pt x="152400" y="335280"/>
                </a:lnTo>
                <a:lnTo>
                  <a:pt x="198120" y="342900"/>
                </a:lnTo>
                <a:lnTo>
                  <a:pt x="198120" y="3429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Freeform 4103"/>
          <p:cNvSpPr/>
          <p:nvPr/>
        </p:nvSpPr>
        <p:spPr>
          <a:xfrm>
            <a:off x="4626000" y="2629080"/>
            <a:ext cx="297000" cy="312480"/>
          </a:xfrm>
          <a:custGeom>
            <a:avLst/>
            <a:gdLst>
              <a:gd name="textAreaLeft" fmla="*/ 0 w 297000"/>
              <a:gd name="textAreaRight" fmla="*/ 297360 w 297000"/>
              <a:gd name="textAreaTop" fmla="*/ 0 h 312480"/>
              <a:gd name="textAreaBottom" fmla="*/ 312840 h 312480"/>
            </a:gdLst>
            <a:ahLst/>
            <a:rect l="textAreaLeft" t="textAreaTop" r="textAreaRight" b="textAreaBottom"/>
            <a:pathLst>
              <a:path w="297181" h="31242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620"/>
                </a:lnTo>
                <a:lnTo>
                  <a:pt x="0" y="7620"/>
                </a:lnTo>
                <a:lnTo>
                  <a:pt x="0" y="15240"/>
                </a:lnTo>
                <a:lnTo>
                  <a:pt x="0" y="22860"/>
                </a:lnTo>
                <a:lnTo>
                  <a:pt x="0" y="30480"/>
                </a:lnTo>
                <a:lnTo>
                  <a:pt x="0" y="38100"/>
                </a:lnTo>
                <a:lnTo>
                  <a:pt x="7620" y="45720"/>
                </a:lnTo>
                <a:lnTo>
                  <a:pt x="7620" y="53340"/>
                </a:lnTo>
                <a:lnTo>
                  <a:pt x="22860" y="60960"/>
                </a:lnTo>
                <a:lnTo>
                  <a:pt x="22860" y="68580"/>
                </a:lnTo>
                <a:lnTo>
                  <a:pt x="38100" y="83820"/>
                </a:lnTo>
                <a:lnTo>
                  <a:pt x="45720" y="91440"/>
                </a:lnTo>
                <a:lnTo>
                  <a:pt x="60960" y="91440"/>
                </a:lnTo>
                <a:lnTo>
                  <a:pt x="68580" y="99060"/>
                </a:lnTo>
                <a:lnTo>
                  <a:pt x="83820" y="106680"/>
                </a:lnTo>
                <a:lnTo>
                  <a:pt x="99060" y="106680"/>
                </a:lnTo>
                <a:lnTo>
                  <a:pt x="114300" y="106680"/>
                </a:lnTo>
                <a:lnTo>
                  <a:pt x="129540" y="106680"/>
                </a:lnTo>
                <a:lnTo>
                  <a:pt x="144780" y="106680"/>
                </a:lnTo>
                <a:lnTo>
                  <a:pt x="160020" y="99060"/>
                </a:lnTo>
                <a:lnTo>
                  <a:pt x="175260" y="91440"/>
                </a:lnTo>
                <a:lnTo>
                  <a:pt x="182880" y="91440"/>
                </a:lnTo>
                <a:lnTo>
                  <a:pt x="190500" y="83820"/>
                </a:lnTo>
                <a:lnTo>
                  <a:pt x="198120" y="68580"/>
                </a:lnTo>
                <a:lnTo>
                  <a:pt x="205740" y="60960"/>
                </a:lnTo>
                <a:lnTo>
                  <a:pt x="205740" y="53340"/>
                </a:lnTo>
                <a:lnTo>
                  <a:pt x="205740" y="45720"/>
                </a:lnTo>
                <a:lnTo>
                  <a:pt x="213360" y="38100"/>
                </a:lnTo>
                <a:lnTo>
                  <a:pt x="213360" y="30480"/>
                </a:lnTo>
                <a:lnTo>
                  <a:pt x="213360" y="22860"/>
                </a:lnTo>
                <a:lnTo>
                  <a:pt x="213360" y="22860"/>
                </a:lnTo>
                <a:lnTo>
                  <a:pt x="213360" y="15240"/>
                </a:lnTo>
                <a:lnTo>
                  <a:pt x="213360" y="15240"/>
                </a:lnTo>
                <a:lnTo>
                  <a:pt x="213360" y="15240"/>
                </a:lnTo>
                <a:lnTo>
                  <a:pt x="213360" y="15240"/>
                </a:lnTo>
                <a:lnTo>
                  <a:pt x="220980" y="15240"/>
                </a:lnTo>
                <a:lnTo>
                  <a:pt x="220980" y="22860"/>
                </a:lnTo>
                <a:lnTo>
                  <a:pt x="220980" y="30480"/>
                </a:lnTo>
                <a:lnTo>
                  <a:pt x="228600" y="38100"/>
                </a:lnTo>
                <a:lnTo>
                  <a:pt x="228600" y="45720"/>
                </a:lnTo>
                <a:lnTo>
                  <a:pt x="236220" y="53340"/>
                </a:lnTo>
                <a:lnTo>
                  <a:pt x="243840" y="60960"/>
                </a:lnTo>
                <a:lnTo>
                  <a:pt x="243840" y="76200"/>
                </a:lnTo>
                <a:lnTo>
                  <a:pt x="251460" y="91440"/>
                </a:lnTo>
                <a:lnTo>
                  <a:pt x="259080" y="106680"/>
                </a:lnTo>
                <a:lnTo>
                  <a:pt x="266700" y="121920"/>
                </a:lnTo>
                <a:lnTo>
                  <a:pt x="266700" y="144780"/>
                </a:lnTo>
                <a:lnTo>
                  <a:pt x="274320" y="160020"/>
                </a:lnTo>
                <a:lnTo>
                  <a:pt x="281940" y="175260"/>
                </a:lnTo>
                <a:lnTo>
                  <a:pt x="289560" y="190500"/>
                </a:lnTo>
                <a:lnTo>
                  <a:pt x="289560" y="213360"/>
                </a:lnTo>
                <a:lnTo>
                  <a:pt x="297180" y="228600"/>
                </a:lnTo>
                <a:lnTo>
                  <a:pt x="297180" y="243840"/>
                </a:lnTo>
                <a:lnTo>
                  <a:pt x="297180" y="251460"/>
                </a:lnTo>
                <a:lnTo>
                  <a:pt x="289560" y="266700"/>
                </a:lnTo>
                <a:lnTo>
                  <a:pt x="289560" y="281940"/>
                </a:lnTo>
                <a:lnTo>
                  <a:pt x="281940" y="289560"/>
                </a:lnTo>
                <a:lnTo>
                  <a:pt x="266700" y="297180"/>
                </a:lnTo>
                <a:lnTo>
                  <a:pt x="259080" y="304800"/>
                </a:lnTo>
                <a:lnTo>
                  <a:pt x="243840" y="304800"/>
                </a:lnTo>
                <a:lnTo>
                  <a:pt x="228600" y="312420"/>
                </a:lnTo>
                <a:lnTo>
                  <a:pt x="213360" y="312420"/>
                </a:lnTo>
                <a:lnTo>
                  <a:pt x="198120" y="312420"/>
                </a:lnTo>
                <a:lnTo>
                  <a:pt x="175260" y="312420"/>
                </a:lnTo>
                <a:lnTo>
                  <a:pt x="160020" y="312420"/>
                </a:lnTo>
                <a:lnTo>
                  <a:pt x="144780" y="304800"/>
                </a:lnTo>
                <a:lnTo>
                  <a:pt x="121920" y="304800"/>
                </a:lnTo>
                <a:lnTo>
                  <a:pt x="106680" y="297180"/>
                </a:lnTo>
                <a:lnTo>
                  <a:pt x="91440" y="289560"/>
                </a:lnTo>
                <a:lnTo>
                  <a:pt x="76200" y="281940"/>
                </a:lnTo>
                <a:lnTo>
                  <a:pt x="76200" y="2819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Freeform 4104"/>
          <p:cNvSpPr/>
          <p:nvPr/>
        </p:nvSpPr>
        <p:spPr>
          <a:xfrm>
            <a:off x="4975200" y="2644920"/>
            <a:ext cx="122400" cy="21960"/>
          </a:xfrm>
          <a:custGeom>
            <a:avLst/>
            <a:gdLst>
              <a:gd name="textAreaLeft" fmla="*/ 0 w 122400"/>
              <a:gd name="textAreaRight" fmla="*/ 122760 w 12240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21921" h="22861">
                <a:moveTo>
                  <a:pt x="0" y="22860"/>
                </a:moveTo>
                <a:lnTo>
                  <a:pt x="0" y="15240"/>
                </a:lnTo>
                <a:lnTo>
                  <a:pt x="0" y="15240"/>
                </a:lnTo>
                <a:lnTo>
                  <a:pt x="7620" y="15240"/>
                </a:lnTo>
                <a:lnTo>
                  <a:pt x="15240" y="15240"/>
                </a:lnTo>
                <a:lnTo>
                  <a:pt x="22860" y="7620"/>
                </a:lnTo>
                <a:lnTo>
                  <a:pt x="30480" y="7620"/>
                </a:lnTo>
                <a:lnTo>
                  <a:pt x="38100" y="7620"/>
                </a:lnTo>
                <a:lnTo>
                  <a:pt x="53340" y="7620"/>
                </a:lnTo>
                <a:lnTo>
                  <a:pt x="60960" y="7620"/>
                </a:lnTo>
                <a:lnTo>
                  <a:pt x="76200" y="7620"/>
                </a:lnTo>
                <a:lnTo>
                  <a:pt x="91440" y="0"/>
                </a:lnTo>
                <a:lnTo>
                  <a:pt x="99060" y="0"/>
                </a:lnTo>
                <a:lnTo>
                  <a:pt x="121920" y="0"/>
                </a:lnTo>
                <a:lnTo>
                  <a:pt x="12192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400" bIns="-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Freeform 4105"/>
          <p:cNvSpPr/>
          <p:nvPr/>
        </p:nvSpPr>
        <p:spPr>
          <a:xfrm>
            <a:off x="5203800" y="2575080"/>
            <a:ext cx="38160" cy="152280"/>
          </a:xfrm>
          <a:custGeom>
            <a:avLst/>
            <a:gdLst>
              <a:gd name="textAreaLeft" fmla="*/ 0 w 38160"/>
              <a:gd name="textAreaRight" fmla="*/ 38520 w 38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38101" h="152401">
                <a:moveTo>
                  <a:pt x="0" y="0"/>
                </a:moveTo>
                <a:lnTo>
                  <a:pt x="0" y="0"/>
                </a:lnTo>
                <a:lnTo>
                  <a:pt x="0" y="7620"/>
                </a:lnTo>
                <a:lnTo>
                  <a:pt x="0" y="7620"/>
                </a:lnTo>
                <a:lnTo>
                  <a:pt x="7620" y="15240"/>
                </a:lnTo>
                <a:lnTo>
                  <a:pt x="7620" y="22860"/>
                </a:lnTo>
                <a:lnTo>
                  <a:pt x="7620" y="30480"/>
                </a:lnTo>
                <a:lnTo>
                  <a:pt x="15240" y="38100"/>
                </a:lnTo>
                <a:lnTo>
                  <a:pt x="15240" y="53340"/>
                </a:lnTo>
                <a:lnTo>
                  <a:pt x="15240" y="60960"/>
                </a:lnTo>
                <a:lnTo>
                  <a:pt x="22860" y="76200"/>
                </a:lnTo>
                <a:lnTo>
                  <a:pt x="22860" y="83820"/>
                </a:lnTo>
                <a:lnTo>
                  <a:pt x="22860" y="99060"/>
                </a:lnTo>
                <a:lnTo>
                  <a:pt x="22860" y="106680"/>
                </a:lnTo>
                <a:lnTo>
                  <a:pt x="22860" y="121920"/>
                </a:lnTo>
                <a:lnTo>
                  <a:pt x="30480" y="129540"/>
                </a:lnTo>
                <a:lnTo>
                  <a:pt x="30480" y="137160"/>
                </a:lnTo>
                <a:lnTo>
                  <a:pt x="30480" y="144780"/>
                </a:lnTo>
                <a:lnTo>
                  <a:pt x="38100" y="152400"/>
                </a:lnTo>
                <a:lnTo>
                  <a:pt x="38100" y="1524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Freeform 4106"/>
          <p:cNvSpPr/>
          <p:nvPr/>
        </p:nvSpPr>
        <p:spPr>
          <a:xfrm>
            <a:off x="5326200" y="2484360"/>
            <a:ext cx="75960" cy="312840"/>
          </a:xfrm>
          <a:custGeom>
            <a:avLst/>
            <a:gdLst>
              <a:gd name="textAreaLeft" fmla="*/ 0 w 75960"/>
              <a:gd name="textAreaRight" fmla="*/ 76320 w 75960"/>
              <a:gd name="textAreaTop" fmla="*/ 0 h 312840"/>
              <a:gd name="textAreaBottom" fmla="*/ 313200 h 312840"/>
            </a:gdLst>
            <a:ahLst/>
            <a:rect l="textAreaLeft" t="textAreaTop" r="textAreaRight" b="textAreaBottom"/>
            <a:pathLst>
              <a:path w="76201" h="312421">
                <a:moveTo>
                  <a:pt x="0" y="0"/>
                </a:moveTo>
                <a:lnTo>
                  <a:pt x="0" y="0"/>
                </a:lnTo>
                <a:lnTo>
                  <a:pt x="0" y="7620"/>
                </a:lnTo>
                <a:lnTo>
                  <a:pt x="0" y="15240"/>
                </a:lnTo>
                <a:lnTo>
                  <a:pt x="7620" y="30480"/>
                </a:lnTo>
                <a:lnTo>
                  <a:pt x="15240" y="38100"/>
                </a:lnTo>
                <a:lnTo>
                  <a:pt x="15240" y="53340"/>
                </a:lnTo>
                <a:lnTo>
                  <a:pt x="30480" y="68580"/>
                </a:lnTo>
                <a:lnTo>
                  <a:pt x="30480" y="83820"/>
                </a:lnTo>
                <a:lnTo>
                  <a:pt x="45720" y="106680"/>
                </a:lnTo>
                <a:lnTo>
                  <a:pt x="53340" y="121920"/>
                </a:lnTo>
                <a:lnTo>
                  <a:pt x="53340" y="144780"/>
                </a:lnTo>
                <a:lnTo>
                  <a:pt x="60960" y="160020"/>
                </a:lnTo>
                <a:lnTo>
                  <a:pt x="68580" y="182880"/>
                </a:lnTo>
                <a:lnTo>
                  <a:pt x="76200" y="198120"/>
                </a:lnTo>
                <a:lnTo>
                  <a:pt x="76200" y="220980"/>
                </a:lnTo>
                <a:lnTo>
                  <a:pt x="76200" y="236220"/>
                </a:lnTo>
                <a:lnTo>
                  <a:pt x="76200" y="251460"/>
                </a:lnTo>
                <a:lnTo>
                  <a:pt x="68580" y="266700"/>
                </a:lnTo>
                <a:lnTo>
                  <a:pt x="68580" y="274320"/>
                </a:lnTo>
                <a:lnTo>
                  <a:pt x="60960" y="289560"/>
                </a:lnTo>
                <a:lnTo>
                  <a:pt x="53340" y="297180"/>
                </a:lnTo>
                <a:lnTo>
                  <a:pt x="45720" y="304800"/>
                </a:lnTo>
                <a:lnTo>
                  <a:pt x="38100" y="312420"/>
                </a:lnTo>
                <a:lnTo>
                  <a:pt x="38100" y="3124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Freeform 4107"/>
          <p:cNvSpPr/>
          <p:nvPr/>
        </p:nvSpPr>
        <p:spPr>
          <a:xfrm>
            <a:off x="5470560" y="2454120"/>
            <a:ext cx="7920" cy="38160"/>
          </a:xfrm>
          <a:custGeom>
            <a:avLst/>
            <a:gdLst>
              <a:gd name="textAreaLeft" fmla="*/ 0 w 7920"/>
              <a:gd name="textAreaRight" fmla="*/ 8280 w 792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7621" h="38101">
                <a:moveTo>
                  <a:pt x="0" y="-27436"/>
                </a:moveTo>
                <a:lnTo>
                  <a:pt x="0" y="30480"/>
                </a:lnTo>
                <a:lnTo>
                  <a:pt x="0" y="22860"/>
                </a:lnTo>
                <a:lnTo>
                  <a:pt x="0" y="15240"/>
                </a:lnTo>
                <a:lnTo>
                  <a:pt x="7620" y="0"/>
                </a:lnTo>
                <a:lnTo>
                  <a:pt x="762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Freeform 4108"/>
          <p:cNvSpPr/>
          <p:nvPr/>
        </p:nvSpPr>
        <p:spPr>
          <a:xfrm>
            <a:off x="5532480" y="2422440"/>
            <a:ext cx="174600" cy="198360"/>
          </a:xfrm>
          <a:custGeom>
            <a:avLst/>
            <a:gdLst>
              <a:gd name="textAreaLeft" fmla="*/ 0 w 174600"/>
              <a:gd name="textAreaRight" fmla="*/ 174960 w 17460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75261" h="198121">
                <a:moveTo>
                  <a:pt x="22860" y="0"/>
                </a:moveTo>
                <a:lnTo>
                  <a:pt x="22860" y="0"/>
                </a:lnTo>
                <a:lnTo>
                  <a:pt x="30480" y="0"/>
                </a:lnTo>
                <a:lnTo>
                  <a:pt x="38100" y="0"/>
                </a:lnTo>
                <a:lnTo>
                  <a:pt x="45720" y="7620"/>
                </a:lnTo>
                <a:lnTo>
                  <a:pt x="53340" y="7620"/>
                </a:lnTo>
                <a:lnTo>
                  <a:pt x="60960" y="15240"/>
                </a:lnTo>
                <a:lnTo>
                  <a:pt x="68580" y="15240"/>
                </a:lnTo>
                <a:lnTo>
                  <a:pt x="76200" y="22860"/>
                </a:lnTo>
                <a:lnTo>
                  <a:pt x="76200" y="30480"/>
                </a:lnTo>
                <a:lnTo>
                  <a:pt x="76200" y="38100"/>
                </a:lnTo>
                <a:lnTo>
                  <a:pt x="83820" y="45720"/>
                </a:lnTo>
                <a:lnTo>
                  <a:pt x="83820" y="53340"/>
                </a:lnTo>
                <a:lnTo>
                  <a:pt x="83820" y="60960"/>
                </a:lnTo>
                <a:lnTo>
                  <a:pt x="76200" y="68580"/>
                </a:lnTo>
                <a:lnTo>
                  <a:pt x="76200" y="76200"/>
                </a:lnTo>
                <a:lnTo>
                  <a:pt x="68580" y="83820"/>
                </a:lnTo>
                <a:lnTo>
                  <a:pt x="68580" y="91440"/>
                </a:lnTo>
                <a:lnTo>
                  <a:pt x="60960" y="106680"/>
                </a:lnTo>
                <a:lnTo>
                  <a:pt x="53340" y="114300"/>
                </a:lnTo>
                <a:lnTo>
                  <a:pt x="45720" y="121920"/>
                </a:lnTo>
                <a:lnTo>
                  <a:pt x="30480" y="129540"/>
                </a:lnTo>
                <a:lnTo>
                  <a:pt x="22860" y="137160"/>
                </a:lnTo>
                <a:lnTo>
                  <a:pt x="15240" y="144780"/>
                </a:lnTo>
                <a:lnTo>
                  <a:pt x="7620" y="144780"/>
                </a:lnTo>
                <a:lnTo>
                  <a:pt x="0" y="152400"/>
                </a:lnTo>
                <a:lnTo>
                  <a:pt x="0" y="160020"/>
                </a:lnTo>
                <a:lnTo>
                  <a:pt x="0" y="167640"/>
                </a:lnTo>
                <a:lnTo>
                  <a:pt x="0" y="167640"/>
                </a:lnTo>
                <a:lnTo>
                  <a:pt x="0" y="175260"/>
                </a:lnTo>
                <a:lnTo>
                  <a:pt x="7620" y="175260"/>
                </a:lnTo>
                <a:lnTo>
                  <a:pt x="15240" y="175260"/>
                </a:lnTo>
                <a:lnTo>
                  <a:pt x="22860" y="182880"/>
                </a:lnTo>
                <a:lnTo>
                  <a:pt x="38100" y="182880"/>
                </a:lnTo>
                <a:lnTo>
                  <a:pt x="53340" y="182880"/>
                </a:lnTo>
                <a:lnTo>
                  <a:pt x="68580" y="182880"/>
                </a:lnTo>
                <a:lnTo>
                  <a:pt x="83820" y="182880"/>
                </a:lnTo>
                <a:lnTo>
                  <a:pt x="99060" y="182880"/>
                </a:lnTo>
                <a:lnTo>
                  <a:pt x="114300" y="190500"/>
                </a:lnTo>
                <a:lnTo>
                  <a:pt x="129540" y="190500"/>
                </a:lnTo>
                <a:lnTo>
                  <a:pt x="144780" y="190500"/>
                </a:lnTo>
                <a:lnTo>
                  <a:pt x="152400" y="190500"/>
                </a:lnTo>
                <a:lnTo>
                  <a:pt x="175260" y="198120"/>
                </a:lnTo>
                <a:lnTo>
                  <a:pt x="175260" y="1981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Freeform 4109"/>
          <p:cNvSpPr/>
          <p:nvPr/>
        </p:nvSpPr>
        <p:spPr>
          <a:xfrm>
            <a:off x="5456160" y="2408400"/>
            <a:ext cx="128520" cy="190440"/>
          </a:xfrm>
          <a:custGeom>
            <a:avLst/>
            <a:gdLst>
              <a:gd name="textAreaLeft" fmla="*/ 0 w 128520"/>
              <a:gd name="textAreaRight" fmla="*/ 128880 w 12852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9541" h="190501">
                <a:moveTo>
                  <a:pt x="7620" y="76200"/>
                </a:moveTo>
                <a:lnTo>
                  <a:pt x="0" y="76200"/>
                </a:lnTo>
                <a:lnTo>
                  <a:pt x="0" y="76200"/>
                </a:lnTo>
                <a:lnTo>
                  <a:pt x="0" y="76200"/>
                </a:lnTo>
                <a:lnTo>
                  <a:pt x="0" y="76200"/>
                </a:lnTo>
                <a:lnTo>
                  <a:pt x="0" y="76200"/>
                </a:lnTo>
                <a:lnTo>
                  <a:pt x="0" y="76200"/>
                </a:lnTo>
                <a:lnTo>
                  <a:pt x="0" y="76200"/>
                </a:lnTo>
                <a:lnTo>
                  <a:pt x="0" y="76200"/>
                </a:lnTo>
                <a:lnTo>
                  <a:pt x="0" y="76200"/>
                </a:lnTo>
                <a:lnTo>
                  <a:pt x="0" y="68580"/>
                </a:lnTo>
                <a:lnTo>
                  <a:pt x="0" y="68580"/>
                </a:lnTo>
                <a:lnTo>
                  <a:pt x="0" y="68580"/>
                </a:lnTo>
                <a:lnTo>
                  <a:pt x="0" y="68580"/>
                </a:lnTo>
                <a:lnTo>
                  <a:pt x="0" y="68580"/>
                </a:lnTo>
                <a:lnTo>
                  <a:pt x="0" y="60960"/>
                </a:lnTo>
                <a:lnTo>
                  <a:pt x="7620" y="60960"/>
                </a:lnTo>
                <a:lnTo>
                  <a:pt x="7620" y="60960"/>
                </a:lnTo>
                <a:lnTo>
                  <a:pt x="7620" y="53340"/>
                </a:lnTo>
                <a:lnTo>
                  <a:pt x="7620" y="53340"/>
                </a:lnTo>
                <a:lnTo>
                  <a:pt x="7620" y="45720"/>
                </a:lnTo>
                <a:lnTo>
                  <a:pt x="15240" y="45720"/>
                </a:lnTo>
                <a:lnTo>
                  <a:pt x="15240" y="38100"/>
                </a:lnTo>
                <a:lnTo>
                  <a:pt x="15240" y="38100"/>
                </a:lnTo>
                <a:lnTo>
                  <a:pt x="22860" y="30480"/>
                </a:lnTo>
                <a:lnTo>
                  <a:pt x="30480" y="22860"/>
                </a:lnTo>
                <a:lnTo>
                  <a:pt x="30480" y="22860"/>
                </a:lnTo>
                <a:lnTo>
                  <a:pt x="38100" y="15240"/>
                </a:lnTo>
                <a:lnTo>
                  <a:pt x="45720" y="15240"/>
                </a:lnTo>
                <a:lnTo>
                  <a:pt x="53340" y="7620"/>
                </a:lnTo>
                <a:lnTo>
                  <a:pt x="60960" y="7620"/>
                </a:lnTo>
                <a:lnTo>
                  <a:pt x="68580" y="7620"/>
                </a:lnTo>
                <a:lnTo>
                  <a:pt x="76200" y="0"/>
                </a:lnTo>
                <a:lnTo>
                  <a:pt x="83820" y="0"/>
                </a:lnTo>
                <a:lnTo>
                  <a:pt x="91440" y="0"/>
                </a:lnTo>
                <a:lnTo>
                  <a:pt x="99060" y="0"/>
                </a:lnTo>
                <a:lnTo>
                  <a:pt x="99060" y="0"/>
                </a:lnTo>
                <a:lnTo>
                  <a:pt x="106680" y="7620"/>
                </a:lnTo>
                <a:lnTo>
                  <a:pt x="106680" y="7620"/>
                </a:lnTo>
                <a:lnTo>
                  <a:pt x="114300" y="7620"/>
                </a:lnTo>
                <a:lnTo>
                  <a:pt x="114300" y="7620"/>
                </a:lnTo>
                <a:lnTo>
                  <a:pt x="121920" y="15240"/>
                </a:lnTo>
                <a:lnTo>
                  <a:pt x="121920" y="15240"/>
                </a:lnTo>
                <a:lnTo>
                  <a:pt x="121920" y="22860"/>
                </a:lnTo>
                <a:lnTo>
                  <a:pt x="129540" y="22860"/>
                </a:lnTo>
                <a:lnTo>
                  <a:pt x="129540" y="30480"/>
                </a:lnTo>
                <a:lnTo>
                  <a:pt x="129540" y="38100"/>
                </a:lnTo>
                <a:lnTo>
                  <a:pt x="129540" y="38100"/>
                </a:lnTo>
                <a:lnTo>
                  <a:pt x="129540" y="45720"/>
                </a:lnTo>
                <a:lnTo>
                  <a:pt x="129540" y="45720"/>
                </a:lnTo>
                <a:lnTo>
                  <a:pt x="129540" y="53340"/>
                </a:lnTo>
                <a:lnTo>
                  <a:pt x="129540" y="60960"/>
                </a:lnTo>
                <a:lnTo>
                  <a:pt x="129540" y="60960"/>
                </a:lnTo>
                <a:lnTo>
                  <a:pt x="121920" y="68580"/>
                </a:lnTo>
                <a:lnTo>
                  <a:pt x="121920" y="76200"/>
                </a:lnTo>
                <a:lnTo>
                  <a:pt x="114300" y="83820"/>
                </a:lnTo>
                <a:lnTo>
                  <a:pt x="114300" y="83820"/>
                </a:lnTo>
                <a:lnTo>
                  <a:pt x="106680" y="91440"/>
                </a:lnTo>
                <a:lnTo>
                  <a:pt x="106680" y="99060"/>
                </a:lnTo>
                <a:lnTo>
                  <a:pt x="99060" y="106680"/>
                </a:lnTo>
                <a:lnTo>
                  <a:pt x="99060" y="114300"/>
                </a:lnTo>
                <a:lnTo>
                  <a:pt x="99060" y="121920"/>
                </a:lnTo>
                <a:lnTo>
                  <a:pt x="91440" y="129540"/>
                </a:lnTo>
                <a:lnTo>
                  <a:pt x="91440" y="137160"/>
                </a:lnTo>
                <a:lnTo>
                  <a:pt x="83820" y="137160"/>
                </a:lnTo>
                <a:lnTo>
                  <a:pt x="83820" y="144780"/>
                </a:lnTo>
                <a:lnTo>
                  <a:pt x="83820" y="152400"/>
                </a:lnTo>
                <a:lnTo>
                  <a:pt x="83820" y="160020"/>
                </a:lnTo>
                <a:lnTo>
                  <a:pt x="83820" y="160020"/>
                </a:lnTo>
                <a:lnTo>
                  <a:pt x="83820" y="167640"/>
                </a:lnTo>
                <a:lnTo>
                  <a:pt x="83820" y="175260"/>
                </a:lnTo>
                <a:lnTo>
                  <a:pt x="83820" y="175260"/>
                </a:lnTo>
                <a:lnTo>
                  <a:pt x="83820" y="182880"/>
                </a:lnTo>
                <a:lnTo>
                  <a:pt x="91440" y="182880"/>
                </a:lnTo>
                <a:lnTo>
                  <a:pt x="99060" y="190500"/>
                </a:lnTo>
                <a:lnTo>
                  <a:pt x="99060" y="190500"/>
                </a:lnTo>
                <a:lnTo>
                  <a:pt x="106680" y="190500"/>
                </a:lnTo>
                <a:lnTo>
                  <a:pt x="114300" y="190500"/>
                </a:lnTo>
                <a:lnTo>
                  <a:pt x="114300" y="1905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Freeform 4110"/>
          <p:cNvSpPr/>
          <p:nvPr/>
        </p:nvSpPr>
        <p:spPr>
          <a:xfrm>
            <a:off x="5813280" y="2606760"/>
            <a:ext cx="108000" cy="360"/>
          </a:xfrm>
          <a:custGeom>
            <a:avLst/>
            <a:gdLst>
              <a:gd name="textAreaLeft" fmla="*/ 0 w 108000"/>
              <a:gd name="textAreaRight" fmla="*/ 108360 w 10800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06681" h="1">
                <a:moveTo>
                  <a:pt x="0" y="0"/>
                </a:moveTo>
                <a:lnTo>
                  <a:pt x="7620" y="0"/>
                </a:lnTo>
                <a:lnTo>
                  <a:pt x="22860" y="0"/>
                </a:lnTo>
                <a:lnTo>
                  <a:pt x="38100" y="0"/>
                </a:lnTo>
                <a:lnTo>
                  <a:pt x="53340" y="0"/>
                </a:lnTo>
                <a:lnTo>
                  <a:pt x="68580" y="0"/>
                </a:lnTo>
                <a:lnTo>
                  <a:pt x="83820" y="0"/>
                </a:lnTo>
                <a:lnTo>
                  <a:pt x="106680" y="0"/>
                </a:lnTo>
                <a:lnTo>
                  <a:pt x="10668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Freeform 4111"/>
          <p:cNvSpPr/>
          <p:nvPr/>
        </p:nvSpPr>
        <p:spPr>
          <a:xfrm>
            <a:off x="5783400" y="2712960"/>
            <a:ext cx="198360" cy="7920"/>
          </a:xfrm>
          <a:custGeom>
            <a:avLst/>
            <a:gdLst>
              <a:gd name="textAreaLeft" fmla="*/ 0 w 198360"/>
              <a:gd name="textAreaRight" fmla="*/ 198720 w 1983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98121" h="7621">
                <a:moveTo>
                  <a:pt x="0" y="7620"/>
                </a:moveTo>
                <a:lnTo>
                  <a:pt x="0" y="7620"/>
                </a:lnTo>
                <a:lnTo>
                  <a:pt x="7620" y="7620"/>
                </a:lnTo>
                <a:lnTo>
                  <a:pt x="15240" y="7620"/>
                </a:lnTo>
                <a:lnTo>
                  <a:pt x="22860" y="7620"/>
                </a:lnTo>
                <a:lnTo>
                  <a:pt x="38100" y="7620"/>
                </a:lnTo>
                <a:lnTo>
                  <a:pt x="45720" y="7620"/>
                </a:lnTo>
                <a:lnTo>
                  <a:pt x="68580" y="7620"/>
                </a:lnTo>
                <a:lnTo>
                  <a:pt x="83820" y="7620"/>
                </a:lnTo>
                <a:lnTo>
                  <a:pt x="106680" y="7620"/>
                </a:lnTo>
                <a:lnTo>
                  <a:pt x="129540" y="0"/>
                </a:lnTo>
                <a:lnTo>
                  <a:pt x="144780" y="0"/>
                </a:lnTo>
                <a:lnTo>
                  <a:pt x="167640" y="0"/>
                </a:lnTo>
                <a:lnTo>
                  <a:pt x="198120" y="0"/>
                </a:lnTo>
                <a:lnTo>
                  <a:pt x="19812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Freeform 4112"/>
          <p:cNvSpPr/>
          <p:nvPr/>
        </p:nvSpPr>
        <p:spPr>
          <a:xfrm>
            <a:off x="6210360" y="2530440"/>
            <a:ext cx="198360" cy="235080"/>
          </a:xfrm>
          <a:custGeom>
            <a:avLst/>
            <a:gdLst>
              <a:gd name="textAreaLeft" fmla="*/ 0 w 198360"/>
              <a:gd name="textAreaRight" fmla="*/ 198720 w 19836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198121" h="236221">
                <a:moveTo>
                  <a:pt x="30480" y="0"/>
                </a:moveTo>
                <a:lnTo>
                  <a:pt x="22860" y="0"/>
                </a:lnTo>
                <a:lnTo>
                  <a:pt x="22860" y="7620"/>
                </a:lnTo>
                <a:lnTo>
                  <a:pt x="15240" y="15240"/>
                </a:lnTo>
                <a:lnTo>
                  <a:pt x="15240" y="22860"/>
                </a:lnTo>
                <a:lnTo>
                  <a:pt x="15240" y="30480"/>
                </a:lnTo>
                <a:lnTo>
                  <a:pt x="15240" y="38100"/>
                </a:lnTo>
                <a:lnTo>
                  <a:pt x="15240" y="45720"/>
                </a:lnTo>
                <a:lnTo>
                  <a:pt x="7620" y="53340"/>
                </a:lnTo>
                <a:lnTo>
                  <a:pt x="7620" y="60960"/>
                </a:lnTo>
                <a:lnTo>
                  <a:pt x="7620" y="68580"/>
                </a:lnTo>
                <a:lnTo>
                  <a:pt x="7620" y="76200"/>
                </a:lnTo>
                <a:lnTo>
                  <a:pt x="7620" y="83820"/>
                </a:lnTo>
                <a:lnTo>
                  <a:pt x="0" y="91440"/>
                </a:lnTo>
                <a:lnTo>
                  <a:pt x="0" y="91440"/>
                </a:lnTo>
                <a:lnTo>
                  <a:pt x="0" y="99060"/>
                </a:lnTo>
                <a:lnTo>
                  <a:pt x="0" y="106680"/>
                </a:lnTo>
                <a:lnTo>
                  <a:pt x="0" y="106680"/>
                </a:lnTo>
                <a:lnTo>
                  <a:pt x="0" y="106680"/>
                </a:lnTo>
                <a:lnTo>
                  <a:pt x="0" y="106680"/>
                </a:lnTo>
                <a:lnTo>
                  <a:pt x="0" y="106680"/>
                </a:lnTo>
                <a:lnTo>
                  <a:pt x="0" y="106680"/>
                </a:lnTo>
                <a:lnTo>
                  <a:pt x="0" y="106680"/>
                </a:lnTo>
                <a:lnTo>
                  <a:pt x="0" y="106680"/>
                </a:lnTo>
                <a:lnTo>
                  <a:pt x="0" y="106680"/>
                </a:lnTo>
                <a:lnTo>
                  <a:pt x="0" y="99060"/>
                </a:lnTo>
                <a:lnTo>
                  <a:pt x="7620" y="99060"/>
                </a:lnTo>
                <a:lnTo>
                  <a:pt x="7620" y="91440"/>
                </a:lnTo>
                <a:lnTo>
                  <a:pt x="15240" y="83820"/>
                </a:lnTo>
                <a:lnTo>
                  <a:pt x="22860" y="83820"/>
                </a:lnTo>
                <a:lnTo>
                  <a:pt x="30480" y="76200"/>
                </a:lnTo>
                <a:lnTo>
                  <a:pt x="38100" y="76200"/>
                </a:lnTo>
                <a:lnTo>
                  <a:pt x="45720" y="76200"/>
                </a:lnTo>
                <a:lnTo>
                  <a:pt x="60960" y="68580"/>
                </a:lnTo>
                <a:lnTo>
                  <a:pt x="76200" y="76200"/>
                </a:lnTo>
                <a:lnTo>
                  <a:pt x="91440" y="76200"/>
                </a:lnTo>
                <a:lnTo>
                  <a:pt x="99060" y="76200"/>
                </a:lnTo>
                <a:lnTo>
                  <a:pt x="114300" y="83820"/>
                </a:lnTo>
                <a:lnTo>
                  <a:pt x="129540" y="91440"/>
                </a:lnTo>
                <a:lnTo>
                  <a:pt x="144780" y="99060"/>
                </a:lnTo>
                <a:lnTo>
                  <a:pt x="160020" y="106680"/>
                </a:lnTo>
                <a:lnTo>
                  <a:pt x="175260" y="121920"/>
                </a:lnTo>
                <a:lnTo>
                  <a:pt x="182880" y="129540"/>
                </a:lnTo>
                <a:lnTo>
                  <a:pt x="190500" y="144780"/>
                </a:lnTo>
                <a:lnTo>
                  <a:pt x="198120" y="152400"/>
                </a:lnTo>
                <a:lnTo>
                  <a:pt x="198120" y="167640"/>
                </a:lnTo>
                <a:lnTo>
                  <a:pt x="198120" y="182880"/>
                </a:lnTo>
                <a:lnTo>
                  <a:pt x="198120" y="190500"/>
                </a:lnTo>
                <a:lnTo>
                  <a:pt x="190500" y="205740"/>
                </a:lnTo>
                <a:lnTo>
                  <a:pt x="190500" y="213360"/>
                </a:lnTo>
                <a:lnTo>
                  <a:pt x="182880" y="220980"/>
                </a:lnTo>
                <a:lnTo>
                  <a:pt x="167640" y="228600"/>
                </a:lnTo>
                <a:lnTo>
                  <a:pt x="152400" y="228600"/>
                </a:lnTo>
                <a:lnTo>
                  <a:pt x="144780" y="228600"/>
                </a:lnTo>
                <a:lnTo>
                  <a:pt x="129540" y="236220"/>
                </a:lnTo>
                <a:lnTo>
                  <a:pt x="106680" y="228600"/>
                </a:lnTo>
                <a:lnTo>
                  <a:pt x="91440" y="228600"/>
                </a:lnTo>
                <a:lnTo>
                  <a:pt x="76200" y="220980"/>
                </a:lnTo>
                <a:lnTo>
                  <a:pt x="53340" y="220980"/>
                </a:lnTo>
                <a:lnTo>
                  <a:pt x="30480" y="205740"/>
                </a:lnTo>
                <a:lnTo>
                  <a:pt x="30480" y="2057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Freeform 4113"/>
          <p:cNvSpPr/>
          <p:nvPr/>
        </p:nvSpPr>
        <p:spPr>
          <a:xfrm>
            <a:off x="6226200" y="2498760"/>
            <a:ext cx="297000" cy="38160"/>
          </a:xfrm>
          <a:custGeom>
            <a:avLst/>
            <a:gdLst>
              <a:gd name="textAreaLeft" fmla="*/ 0 w 297000"/>
              <a:gd name="textAreaRight" fmla="*/ 297360 w 2970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97181" h="38101">
                <a:moveTo>
                  <a:pt x="0" y="38100"/>
                </a:moveTo>
                <a:lnTo>
                  <a:pt x="7620" y="30480"/>
                </a:lnTo>
                <a:lnTo>
                  <a:pt x="22860" y="22860"/>
                </a:lnTo>
                <a:lnTo>
                  <a:pt x="30480" y="15240"/>
                </a:lnTo>
                <a:lnTo>
                  <a:pt x="38100" y="15240"/>
                </a:lnTo>
                <a:lnTo>
                  <a:pt x="45720" y="7620"/>
                </a:lnTo>
                <a:lnTo>
                  <a:pt x="60960" y="7620"/>
                </a:lnTo>
                <a:lnTo>
                  <a:pt x="76200" y="0"/>
                </a:lnTo>
                <a:lnTo>
                  <a:pt x="91440" y="0"/>
                </a:lnTo>
                <a:lnTo>
                  <a:pt x="106680" y="0"/>
                </a:lnTo>
                <a:lnTo>
                  <a:pt x="121920" y="0"/>
                </a:lnTo>
                <a:lnTo>
                  <a:pt x="144780" y="0"/>
                </a:lnTo>
                <a:lnTo>
                  <a:pt x="167640" y="0"/>
                </a:lnTo>
                <a:lnTo>
                  <a:pt x="182880" y="0"/>
                </a:lnTo>
                <a:lnTo>
                  <a:pt x="205740" y="7620"/>
                </a:lnTo>
                <a:lnTo>
                  <a:pt x="228600" y="7620"/>
                </a:lnTo>
                <a:lnTo>
                  <a:pt x="243840" y="7620"/>
                </a:lnTo>
                <a:lnTo>
                  <a:pt x="266700" y="7620"/>
                </a:lnTo>
                <a:lnTo>
                  <a:pt x="297180" y="7620"/>
                </a:lnTo>
                <a:lnTo>
                  <a:pt x="297180" y="7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Freeform 4114"/>
          <p:cNvSpPr/>
          <p:nvPr/>
        </p:nvSpPr>
        <p:spPr>
          <a:xfrm>
            <a:off x="1996920" y="2293920"/>
            <a:ext cx="5416560" cy="776160"/>
          </a:xfrm>
          <a:custGeom>
            <a:avLst/>
            <a:gdLst>
              <a:gd name="textAreaLeft" fmla="*/ 0 w 5416560"/>
              <a:gd name="textAreaRight" fmla="*/ 5416560 w 5416560"/>
              <a:gd name="textAreaTop" fmla="*/ 0 h 776160"/>
              <a:gd name="textAreaBottom" fmla="*/ 776520 h 776160"/>
            </a:gdLst>
            <a:ahLst/>
            <a:rect l="textAreaLeft" t="textAreaTop" r="textAreaRight" b="textAreaBottom"/>
            <a:pathLst>
              <a:path w="5417822" h="777241">
                <a:moveTo>
                  <a:pt x="655320" y="769620"/>
                </a:moveTo>
                <a:lnTo>
                  <a:pt x="647700" y="769620"/>
                </a:lnTo>
                <a:lnTo>
                  <a:pt x="647700" y="769620"/>
                </a:lnTo>
                <a:lnTo>
                  <a:pt x="647700" y="769620"/>
                </a:lnTo>
                <a:lnTo>
                  <a:pt x="647700" y="769620"/>
                </a:lnTo>
                <a:lnTo>
                  <a:pt x="647700" y="769620"/>
                </a:lnTo>
                <a:lnTo>
                  <a:pt x="655320" y="777240"/>
                </a:lnTo>
                <a:lnTo>
                  <a:pt x="655320" y="777240"/>
                </a:lnTo>
                <a:lnTo>
                  <a:pt x="662940" y="777240"/>
                </a:lnTo>
                <a:lnTo>
                  <a:pt x="670560" y="777240"/>
                </a:lnTo>
                <a:lnTo>
                  <a:pt x="678180" y="777240"/>
                </a:lnTo>
                <a:lnTo>
                  <a:pt x="685800" y="777240"/>
                </a:lnTo>
                <a:lnTo>
                  <a:pt x="693420" y="777240"/>
                </a:lnTo>
                <a:lnTo>
                  <a:pt x="701040" y="777240"/>
                </a:lnTo>
                <a:lnTo>
                  <a:pt x="716280" y="777240"/>
                </a:lnTo>
                <a:lnTo>
                  <a:pt x="731520" y="777240"/>
                </a:lnTo>
                <a:lnTo>
                  <a:pt x="746760" y="777240"/>
                </a:lnTo>
                <a:lnTo>
                  <a:pt x="754380" y="777240"/>
                </a:lnTo>
                <a:lnTo>
                  <a:pt x="777240" y="777240"/>
                </a:lnTo>
                <a:lnTo>
                  <a:pt x="792480" y="777240"/>
                </a:lnTo>
                <a:lnTo>
                  <a:pt x="807720" y="777240"/>
                </a:lnTo>
                <a:lnTo>
                  <a:pt x="830580" y="769620"/>
                </a:lnTo>
                <a:lnTo>
                  <a:pt x="853440" y="769620"/>
                </a:lnTo>
                <a:lnTo>
                  <a:pt x="876300" y="769620"/>
                </a:lnTo>
                <a:lnTo>
                  <a:pt x="899160" y="769620"/>
                </a:lnTo>
                <a:lnTo>
                  <a:pt x="922020" y="769620"/>
                </a:lnTo>
                <a:lnTo>
                  <a:pt x="944880" y="769620"/>
                </a:lnTo>
                <a:lnTo>
                  <a:pt x="975360" y="769620"/>
                </a:lnTo>
                <a:lnTo>
                  <a:pt x="998220" y="769620"/>
                </a:lnTo>
                <a:lnTo>
                  <a:pt x="1028700" y="769620"/>
                </a:lnTo>
                <a:lnTo>
                  <a:pt x="1066800" y="769620"/>
                </a:lnTo>
                <a:lnTo>
                  <a:pt x="1089660" y="769620"/>
                </a:lnTo>
                <a:lnTo>
                  <a:pt x="1127760" y="762000"/>
                </a:lnTo>
                <a:lnTo>
                  <a:pt x="1158240" y="762000"/>
                </a:lnTo>
                <a:lnTo>
                  <a:pt x="1188720" y="762000"/>
                </a:lnTo>
                <a:lnTo>
                  <a:pt x="1226820" y="762000"/>
                </a:lnTo>
                <a:lnTo>
                  <a:pt x="1264920" y="762000"/>
                </a:lnTo>
                <a:lnTo>
                  <a:pt x="1303020" y="762000"/>
                </a:lnTo>
                <a:lnTo>
                  <a:pt x="1341120" y="762000"/>
                </a:lnTo>
                <a:lnTo>
                  <a:pt x="1379220" y="762000"/>
                </a:lnTo>
                <a:lnTo>
                  <a:pt x="1417320" y="762000"/>
                </a:lnTo>
                <a:lnTo>
                  <a:pt x="1463040" y="754380"/>
                </a:lnTo>
                <a:lnTo>
                  <a:pt x="1508760" y="762000"/>
                </a:lnTo>
                <a:lnTo>
                  <a:pt x="1554480" y="754380"/>
                </a:lnTo>
                <a:lnTo>
                  <a:pt x="1600200" y="754380"/>
                </a:lnTo>
                <a:lnTo>
                  <a:pt x="1645920" y="754380"/>
                </a:lnTo>
                <a:lnTo>
                  <a:pt x="1684020" y="754380"/>
                </a:lnTo>
                <a:lnTo>
                  <a:pt x="1737360" y="754380"/>
                </a:lnTo>
                <a:lnTo>
                  <a:pt x="1783080" y="754380"/>
                </a:lnTo>
                <a:lnTo>
                  <a:pt x="1836420" y="754380"/>
                </a:lnTo>
                <a:lnTo>
                  <a:pt x="1889760" y="754380"/>
                </a:lnTo>
                <a:lnTo>
                  <a:pt x="1943100" y="754380"/>
                </a:lnTo>
                <a:lnTo>
                  <a:pt x="1988820" y="754380"/>
                </a:lnTo>
                <a:lnTo>
                  <a:pt x="2042160" y="762000"/>
                </a:lnTo>
                <a:lnTo>
                  <a:pt x="2095500" y="762000"/>
                </a:lnTo>
                <a:lnTo>
                  <a:pt x="2148840" y="762000"/>
                </a:lnTo>
                <a:lnTo>
                  <a:pt x="2209800" y="762000"/>
                </a:lnTo>
                <a:lnTo>
                  <a:pt x="2263140" y="762000"/>
                </a:lnTo>
                <a:lnTo>
                  <a:pt x="2324100" y="762000"/>
                </a:lnTo>
                <a:lnTo>
                  <a:pt x="2377440" y="769620"/>
                </a:lnTo>
                <a:lnTo>
                  <a:pt x="2438400" y="769620"/>
                </a:lnTo>
                <a:lnTo>
                  <a:pt x="2499360" y="769620"/>
                </a:lnTo>
                <a:lnTo>
                  <a:pt x="2560320" y="769620"/>
                </a:lnTo>
                <a:lnTo>
                  <a:pt x="2621280" y="769620"/>
                </a:lnTo>
                <a:lnTo>
                  <a:pt x="2682240" y="769620"/>
                </a:lnTo>
                <a:lnTo>
                  <a:pt x="2743200" y="769620"/>
                </a:lnTo>
                <a:lnTo>
                  <a:pt x="2804160" y="769620"/>
                </a:lnTo>
                <a:lnTo>
                  <a:pt x="2872740" y="769620"/>
                </a:lnTo>
                <a:lnTo>
                  <a:pt x="2933700" y="769620"/>
                </a:lnTo>
                <a:lnTo>
                  <a:pt x="2994660" y="769620"/>
                </a:lnTo>
                <a:lnTo>
                  <a:pt x="3055620" y="769620"/>
                </a:lnTo>
                <a:lnTo>
                  <a:pt x="3124200" y="769620"/>
                </a:lnTo>
                <a:lnTo>
                  <a:pt x="3192780" y="769620"/>
                </a:lnTo>
                <a:lnTo>
                  <a:pt x="3261360" y="769620"/>
                </a:lnTo>
                <a:lnTo>
                  <a:pt x="3329940" y="769620"/>
                </a:lnTo>
                <a:lnTo>
                  <a:pt x="3398520" y="769620"/>
                </a:lnTo>
                <a:lnTo>
                  <a:pt x="3467100" y="769620"/>
                </a:lnTo>
                <a:lnTo>
                  <a:pt x="3535680" y="769620"/>
                </a:lnTo>
                <a:lnTo>
                  <a:pt x="3604260" y="762000"/>
                </a:lnTo>
                <a:lnTo>
                  <a:pt x="3672840" y="762000"/>
                </a:lnTo>
                <a:lnTo>
                  <a:pt x="3741420" y="762000"/>
                </a:lnTo>
                <a:lnTo>
                  <a:pt x="3810000" y="762000"/>
                </a:lnTo>
                <a:lnTo>
                  <a:pt x="3878580" y="754380"/>
                </a:lnTo>
                <a:lnTo>
                  <a:pt x="3954780" y="754380"/>
                </a:lnTo>
                <a:lnTo>
                  <a:pt x="4023360" y="746760"/>
                </a:lnTo>
                <a:lnTo>
                  <a:pt x="4091940" y="746760"/>
                </a:lnTo>
                <a:lnTo>
                  <a:pt x="4160520" y="739140"/>
                </a:lnTo>
                <a:lnTo>
                  <a:pt x="4229100" y="731520"/>
                </a:lnTo>
                <a:lnTo>
                  <a:pt x="4297680" y="723900"/>
                </a:lnTo>
                <a:lnTo>
                  <a:pt x="4366260" y="716280"/>
                </a:lnTo>
                <a:lnTo>
                  <a:pt x="4434840" y="708660"/>
                </a:lnTo>
                <a:lnTo>
                  <a:pt x="4503420" y="701040"/>
                </a:lnTo>
                <a:lnTo>
                  <a:pt x="4564380" y="693420"/>
                </a:lnTo>
                <a:lnTo>
                  <a:pt x="4632960" y="678180"/>
                </a:lnTo>
                <a:lnTo>
                  <a:pt x="4693921" y="670560"/>
                </a:lnTo>
                <a:lnTo>
                  <a:pt x="4754880" y="655320"/>
                </a:lnTo>
                <a:lnTo>
                  <a:pt x="4815840" y="640080"/>
                </a:lnTo>
                <a:lnTo>
                  <a:pt x="4876800" y="624840"/>
                </a:lnTo>
                <a:lnTo>
                  <a:pt x="4937760" y="609600"/>
                </a:lnTo>
                <a:lnTo>
                  <a:pt x="4991100" y="594360"/>
                </a:lnTo>
                <a:lnTo>
                  <a:pt x="5044440" y="579120"/>
                </a:lnTo>
                <a:lnTo>
                  <a:pt x="5097780" y="563880"/>
                </a:lnTo>
                <a:lnTo>
                  <a:pt x="5143500" y="548640"/>
                </a:lnTo>
                <a:lnTo>
                  <a:pt x="5189221" y="525780"/>
                </a:lnTo>
                <a:lnTo>
                  <a:pt x="5234940" y="510540"/>
                </a:lnTo>
                <a:lnTo>
                  <a:pt x="5273040" y="495300"/>
                </a:lnTo>
                <a:lnTo>
                  <a:pt x="5303521" y="480060"/>
                </a:lnTo>
                <a:lnTo>
                  <a:pt x="5334000" y="457200"/>
                </a:lnTo>
                <a:lnTo>
                  <a:pt x="5356860" y="441960"/>
                </a:lnTo>
                <a:lnTo>
                  <a:pt x="5379721" y="419100"/>
                </a:lnTo>
                <a:lnTo>
                  <a:pt x="5394960" y="396240"/>
                </a:lnTo>
                <a:lnTo>
                  <a:pt x="5410200" y="381000"/>
                </a:lnTo>
                <a:lnTo>
                  <a:pt x="5417821" y="358140"/>
                </a:lnTo>
                <a:lnTo>
                  <a:pt x="5417821" y="335280"/>
                </a:lnTo>
                <a:lnTo>
                  <a:pt x="5410200" y="312420"/>
                </a:lnTo>
                <a:lnTo>
                  <a:pt x="5402580" y="289560"/>
                </a:lnTo>
                <a:lnTo>
                  <a:pt x="5387340" y="266700"/>
                </a:lnTo>
                <a:lnTo>
                  <a:pt x="5372100" y="243840"/>
                </a:lnTo>
                <a:lnTo>
                  <a:pt x="5349240" y="220980"/>
                </a:lnTo>
                <a:lnTo>
                  <a:pt x="5326380" y="198120"/>
                </a:lnTo>
                <a:lnTo>
                  <a:pt x="5303521" y="182880"/>
                </a:lnTo>
                <a:lnTo>
                  <a:pt x="5273040" y="160020"/>
                </a:lnTo>
                <a:lnTo>
                  <a:pt x="5234940" y="144780"/>
                </a:lnTo>
                <a:lnTo>
                  <a:pt x="5196840" y="121920"/>
                </a:lnTo>
                <a:lnTo>
                  <a:pt x="5158740" y="106680"/>
                </a:lnTo>
                <a:lnTo>
                  <a:pt x="5113021" y="91440"/>
                </a:lnTo>
                <a:lnTo>
                  <a:pt x="5067300" y="83820"/>
                </a:lnTo>
                <a:lnTo>
                  <a:pt x="5021580" y="68580"/>
                </a:lnTo>
                <a:lnTo>
                  <a:pt x="4975860" y="60960"/>
                </a:lnTo>
                <a:lnTo>
                  <a:pt x="4922521" y="45720"/>
                </a:lnTo>
                <a:lnTo>
                  <a:pt x="4869180" y="38100"/>
                </a:lnTo>
                <a:lnTo>
                  <a:pt x="4808221" y="30480"/>
                </a:lnTo>
                <a:lnTo>
                  <a:pt x="4754880" y="22860"/>
                </a:lnTo>
                <a:lnTo>
                  <a:pt x="4693921" y="22860"/>
                </a:lnTo>
                <a:lnTo>
                  <a:pt x="4632960" y="15240"/>
                </a:lnTo>
                <a:lnTo>
                  <a:pt x="4564380" y="15240"/>
                </a:lnTo>
                <a:lnTo>
                  <a:pt x="4495800" y="7620"/>
                </a:lnTo>
                <a:lnTo>
                  <a:pt x="4427220" y="7620"/>
                </a:lnTo>
                <a:lnTo>
                  <a:pt x="4358640" y="7620"/>
                </a:lnTo>
                <a:lnTo>
                  <a:pt x="4290060" y="7620"/>
                </a:lnTo>
                <a:lnTo>
                  <a:pt x="4213860" y="7620"/>
                </a:lnTo>
                <a:lnTo>
                  <a:pt x="4145280" y="7620"/>
                </a:lnTo>
                <a:lnTo>
                  <a:pt x="4061460" y="7620"/>
                </a:lnTo>
                <a:lnTo>
                  <a:pt x="3985260" y="7620"/>
                </a:lnTo>
                <a:lnTo>
                  <a:pt x="3909060" y="7620"/>
                </a:lnTo>
                <a:lnTo>
                  <a:pt x="3832860" y="7620"/>
                </a:lnTo>
                <a:lnTo>
                  <a:pt x="3756660" y="7620"/>
                </a:lnTo>
                <a:lnTo>
                  <a:pt x="3672840" y="15240"/>
                </a:lnTo>
                <a:lnTo>
                  <a:pt x="3589020" y="15240"/>
                </a:lnTo>
                <a:lnTo>
                  <a:pt x="3512820" y="15240"/>
                </a:lnTo>
                <a:lnTo>
                  <a:pt x="3429000" y="15240"/>
                </a:lnTo>
                <a:lnTo>
                  <a:pt x="3345180" y="15240"/>
                </a:lnTo>
                <a:lnTo>
                  <a:pt x="3268980" y="15240"/>
                </a:lnTo>
                <a:lnTo>
                  <a:pt x="3185160" y="15240"/>
                </a:lnTo>
                <a:lnTo>
                  <a:pt x="3101340" y="7620"/>
                </a:lnTo>
                <a:lnTo>
                  <a:pt x="3017520" y="7620"/>
                </a:lnTo>
                <a:lnTo>
                  <a:pt x="2933700" y="7620"/>
                </a:lnTo>
                <a:lnTo>
                  <a:pt x="2849880" y="7620"/>
                </a:lnTo>
                <a:lnTo>
                  <a:pt x="2766060" y="7620"/>
                </a:lnTo>
                <a:lnTo>
                  <a:pt x="2682240" y="0"/>
                </a:lnTo>
                <a:lnTo>
                  <a:pt x="2598420" y="0"/>
                </a:lnTo>
                <a:lnTo>
                  <a:pt x="2514600" y="0"/>
                </a:lnTo>
                <a:lnTo>
                  <a:pt x="2430780" y="0"/>
                </a:lnTo>
                <a:lnTo>
                  <a:pt x="2346960" y="0"/>
                </a:lnTo>
                <a:lnTo>
                  <a:pt x="2270760" y="0"/>
                </a:lnTo>
                <a:lnTo>
                  <a:pt x="2186940" y="0"/>
                </a:lnTo>
                <a:lnTo>
                  <a:pt x="2103120" y="0"/>
                </a:lnTo>
                <a:lnTo>
                  <a:pt x="2026920" y="0"/>
                </a:lnTo>
                <a:lnTo>
                  <a:pt x="1950720" y="7620"/>
                </a:lnTo>
                <a:lnTo>
                  <a:pt x="1866900" y="7620"/>
                </a:lnTo>
                <a:lnTo>
                  <a:pt x="1783080" y="15240"/>
                </a:lnTo>
                <a:lnTo>
                  <a:pt x="1706880" y="15240"/>
                </a:lnTo>
                <a:lnTo>
                  <a:pt x="1630680" y="22860"/>
                </a:lnTo>
                <a:lnTo>
                  <a:pt x="1554480" y="30480"/>
                </a:lnTo>
                <a:lnTo>
                  <a:pt x="1478280" y="38100"/>
                </a:lnTo>
                <a:lnTo>
                  <a:pt x="1402080" y="38100"/>
                </a:lnTo>
                <a:lnTo>
                  <a:pt x="1325880" y="45720"/>
                </a:lnTo>
                <a:lnTo>
                  <a:pt x="1257300" y="53340"/>
                </a:lnTo>
                <a:lnTo>
                  <a:pt x="1181100" y="68580"/>
                </a:lnTo>
                <a:lnTo>
                  <a:pt x="1112520" y="76200"/>
                </a:lnTo>
                <a:lnTo>
                  <a:pt x="1036320" y="91440"/>
                </a:lnTo>
                <a:lnTo>
                  <a:pt x="975360" y="106680"/>
                </a:lnTo>
                <a:lnTo>
                  <a:pt x="899160" y="114300"/>
                </a:lnTo>
                <a:lnTo>
                  <a:pt x="838200" y="129540"/>
                </a:lnTo>
                <a:lnTo>
                  <a:pt x="769620" y="152400"/>
                </a:lnTo>
                <a:lnTo>
                  <a:pt x="708660" y="167640"/>
                </a:lnTo>
                <a:lnTo>
                  <a:pt x="647700" y="182880"/>
                </a:lnTo>
                <a:lnTo>
                  <a:pt x="586740" y="205740"/>
                </a:lnTo>
                <a:lnTo>
                  <a:pt x="525780" y="228600"/>
                </a:lnTo>
                <a:lnTo>
                  <a:pt x="464820" y="251460"/>
                </a:lnTo>
                <a:lnTo>
                  <a:pt x="403860" y="281940"/>
                </a:lnTo>
                <a:lnTo>
                  <a:pt x="350520" y="304800"/>
                </a:lnTo>
                <a:lnTo>
                  <a:pt x="304800" y="335280"/>
                </a:lnTo>
                <a:lnTo>
                  <a:pt x="251460" y="365760"/>
                </a:lnTo>
                <a:lnTo>
                  <a:pt x="205740" y="396240"/>
                </a:lnTo>
                <a:lnTo>
                  <a:pt x="160020" y="426720"/>
                </a:lnTo>
                <a:lnTo>
                  <a:pt x="129540" y="464820"/>
                </a:lnTo>
                <a:lnTo>
                  <a:pt x="91440" y="487680"/>
                </a:lnTo>
                <a:lnTo>
                  <a:pt x="60960" y="525780"/>
                </a:lnTo>
                <a:lnTo>
                  <a:pt x="38100" y="556260"/>
                </a:lnTo>
                <a:lnTo>
                  <a:pt x="15240" y="586740"/>
                </a:lnTo>
                <a:lnTo>
                  <a:pt x="7620" y="617220"/>
                </a:lnTo>
                <a:lnTo>
                  <a:pt x="0" y="640080"/>
                </a:lnTo>
                <a:lnTo>
                  <a:pt x="0" y="662940"/>
                </a:lnTo>
                <a:lnTo>
                  <a:pt x="7620" y="685800"/>
                </a:lnTo>
                <a:lnTo>
                  <a:pt x="15240" y="701040"/>
                </a:lnTo>
                <a:lnTo>
                  <a:pt x="38100" y="716280"/>
                </a:lnTo>
                <a:lnTo>
                  <a:pt x="60960" y="731520"/>
                </a:lnTo>
                <a:lnTo>
                  <a:pt x="99060" y="731520"/>
                </a:lnTo>
                <a:lnTo>
                  <a:pt x="144780" y="739140"/>
                </a:lnTo>
                <a:lnTo>
                  <a:pt x="198120" y="731520"/>
                </a:lnTo>
                <a:lnTo>
                  <a:pt x="251460" y="723900"/>
                </a:lnTo>
                <a:lnTo>
                  <a:pt x="320040" y="716280"/>
                </a:lnTo>
                <a:lnTo>
                  <a:pt x="396240" y="701040"/>
                </a:lnTo>
                <a:lnTo>
                  <a:pt x="480060" y="685800"/>
                </a:lnTo>
                <a:lnTo>
                  <a:pt x="571500" y="662940"/>
                </a:lnTo>
                <a:lnTo>
                  <a:pt x="670560" y="647700"/>
                </a:lnTo>
                <a:lnTo>
                  <a:pt x="762000" y="632460"/>
                </a:lnTo>
                <a:lnTo>
                  <a:pt x="868680" y="609600"/>
                </a:lnTo>
                <a:lnTo>
                  <a:pt x="967740" y="594360"/>
                </a:lnTo>
                <a:lnTo>
                  <a:pt x="1120140" y="571500"/>
                </a:lnTo>
                <a:lnTo>
                  <a:pt x="1120140" y="5715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Freeform 4115"/>
          <p:cNvSpPr/>
          <p:nvPr/>
        </p:nvSpPr>
        <p:spPr>
          <a:xfrm>
            <a:off x="380880" y="1211400"/>
            <a:ext cx="922320" cy="563400"/>
          </a:xfrm>
          <a:custGeom>
            <a:avLst/>
            <a:gdLst>
              <a:gd name="textAreaLeft" fmla="*/ 0 w 922320"/>
              <a:gd name="textAreaRight" fmla="*/ 922680 w 92232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922021" h="563881">
                <a:moveTo>
                  <a:pt x="137160" y="525780"/>
                </a:moveTo>
                <a:lnTo>
                  <a:pt x="137160" y="525780"/>
                </a:lnTo>
                <a:lnTo>
                  <a:pt x="137160" y="525780"/>
                </a:lnTo>
                <a:lnTo>
                  <a:pt x="144780" y="525780"/>
                </a:lnTo>
                <a:lnTo>
                  <a:pt x="144780" y="533400"/>
                </a:lnTo>
                <a:lnTo>
                  <a:pt x="152400" y="533400"/>
                </a:lnTo>
                <a:lnTo>
                  <a:pt x="160020" y="533400"/>
                </a:lnTo>
                <a:lnTo>
                  <a:pt x="167640" y="541020"/>
                </a:lnTo>
                <a:lnTo>
                  <a:pt x="175260" y="541020"/>
                </a:lnTo>
                <a:lnTo>
                  <a:pt x="182880" y="541020"/>
                </a:lnTo>
                <a:lnTo>
                  <a:pt x="190500" y="541020"/>
                </a:lnTo>
                <a:lnTo>
                  <a:pt x="205740" y="541020"/>
                </a:lnTo>
                <a:lnTo>
                  <a:pt x="213360" y="541020"/>
                </a:lnTo>
                <a:lnTo>
                  <a:pt x="228600" y="541020"/>
                </a:lnTo>
                <a:lnTo>
                  <a:pt x="243840" y="541020"/>
                </a:lnTo>
                <a:lnTo>
                  <a:pt x="259080" y="548640"/>
                </a:lnTo>
                <a:lnTo>
                  <a:pt x="274320" y="548640"/>
                </a:lnTo>
                <a:lnTo>
                  <a:pt x="289560" y="548640"/>
                </a:lnTo>
                <a:lnTo>
                  <a:pt x="304800" y="548640"/>
                </a:lnTo>
                <a:lnTo>
                  <a:pt x="320040" y="548640"/>
                </a:lnTo>
                <a:lnTo>
                  <a:pt x="335280" y="548640"/>
                </a:lnTo>
                <a:lnTo>
                  <a:pt x="358140" y="548640"/>
                </a:lnTo>
                <a:lnTo>
                  <a:pt x="381000" y="548640"/>
                </a:lnTo>
                <a:lnTo>
                  <a:pt x="396240" y="548640"/>
                </a:lnTo>
                <a:lnTo>
                  <a:pt x="419100" y="548640"/>
                </a:lnTo>
                <a:lnTo>
                  <a:pt x="434340" y="541020"/>
                </a:lnTo>
                <a:lnTo>
                  <a:pt x="457200" y="541020"/>
                </a:lnTo>
                <a:lnTo>
                  <a:pt x="480060" y="541020"/>
                </a:lnTo>
                <a:lnTo>
                  <a:pt x="495300" y="541020"/>
                </a:lnTo>
                <a:lnTo>
                  <a:pt x="518160" y="533400"/>
                </a:lnTo>
                <a:lnTo>
                  <a:pt x="541020" y="525780"/>
                </a:lnTo>
                <a:lnTo>
                  <a:pt x="556260" y="525780"/>
                </a:lnTo>
                <a:lnTo>
                  <a:pt x="579120" y="518160"/>
                </a:lnTo>
                <a:lnTo>
                  <a:pt x="594360" y="518160"/>
                </a:lnTo>
                <a:lnTo>
                  <a:pt x="617220" y="510540"/>
                </a:lnTo>
                <a:lnTo>
                  <a:pt x="632460" y="502920"/>
                </a:lnTo>
                <a:lnTo>
                  <a:pt x="647700" y="495300"/>
                </a:lnTo>
                <a:lnTo>
                  <a:pt x="670560" y="487680"/>
                </a:lnTo>
                <a:lnTo>
                  <a:pt x="685800" y="480060"/>
                </a:lnTo>
                <a:lnTo>
                  <a:pt x="701040" y="472440"/>
                </a:lnTo>
                <a:lnTo>
                  <a:pt x="716280" y="464820"/>
                </a:lnTo>
                <a:lnTo>
                  <a:pt x="731520" y="457200"/>
                </a:lnTo>
                <a:lnTo>
                  <a:pt x="746760" y="441960"/>
                </a:lnTo>
                <a:lnTo>
                  <a:pt x="762000" y="434340"/>
                </a:lnTo>
                <a:lnTo>
                  <a:pt x="777240" y="426720"/>
                </a:lnTo>
                <a:lnTo>
                  <a:pt x="784860" y="411480"/>
                </a:lnTo>
                <a:lnTo>
                  <a:pt x="800100" y="403860"/>
                </a:lnTo>
                <a:lnTo>
                  <a:pt x="815340" y="388620"/>
                </a:lnTo>
                <a:lnTo>
                  <a:pt x="822960" y="381000"/>
                </a:lnTo>
                <a:lnTo>
                  <a:pt x="838200" y="365760"/>
                </a:lnTo>
                <a:lnTo>
                  <a:pt x="845820" y="358140"/>
                </a:lnTo>
                <a:lnTo>
                  <a:pt x="861060" y="342900"/>
                </a:lnTo>
                <a:lnTo>
                  <a:pt x="868680" y="335280"/>
                </a:lnTo>
                <a:lnTo>
                  <a:pt x="876300" y="320040"/>
                </a:lnTo>
                <a:lnTo>
                  <a:pt x="883920" y="304800"/>
                </a:lnTo>
                <a:lnTo>
                  <a:pt x="891540" y="289560"/>
                </a:lnTo>
                <a:lnTo>
                  <a:pt x="899160" y="281940"/>
                </a:lnTo>
                <a:lnTo>
                  <a:pt x="906780" y="266700"/>
                </a:lnTo>
                <a:lnTo>
                  <a:pt x="914400" y="259080"/>
                </a:lnTo>
                <a:lnTo>
                  <a:pt x="914400" y="243840"/>
                </a:lnTo>
                <a:lnTo>
                  <a:pt x="922020" y="228600"/>
                </a:lnTo>
                <a:lnTo>
                  <a:pt x="922020" y="220980"/>
                </a:lnTo>
                <a:lnTo>
                  <a:pt x="922020" y="205740"/>
                </a:lnTo>
                <a:lnTo>
                  <a:pt x="922020" y="190500"/>
                </a:lnTo>
                <a:lnTo>
                  <a:pt x="922020" y="182880"/>
                </a:lnTo>
                <a:lnTo>
                  <a:pt x="922020" y="167640"/>
                </a:lnTo>
                <a:lnTo>
                  <a:pt x="922020" y="160020"/>
                </a:lnTo>
                <a:lnTo>
                  <a:pt x="914400" y="144780"/>
                </a:lnTo>
                <a:lnTo>
                  <a:pt x="906780" y="137160"/>
                </a:lnTo>
                <a:lnTo>
                  <a:pt x="899160" y="121920"/>
                </a:lnTo>
                <a:lnTo>
                  <a:pt x="891540" y="114300"/>
                </a:lnTo>
                <a:lnTo>
                  <a:pt x="883920" y="99060"/>
                </a:lnTo>
                <a:lnTo>
                  <a:pt x="876300" y="91440"/>
                </a:lnTo>
                <a:lnTo>
                  <a:pt x="868680" y="83820"/>
                </a:lnTo>
                <a:lnTo>
                  <a:pt x="853440" y="76200"/>
                </a:lnTo>
                <a:lnTo>
                  <a:pt x="838200" y="68580"/>
                </a:lnTo>
                <a:lnTo>
                  <a:pt x="830580" y="53340"/>
                </a:lnTo>
                <a:lnTo>
                  <a:pt x="815340" y="53340"/>
                </a:lnTo>
                <a:lnTo>
                  <a:pt x="792480" y="45720"/>
                </a:lnTo>
                <a:lnTo>
                  <a:pt x="777240" y="38100"/>
                </a:lnTo>
                <a:lnTo>
                  <a:pt x="762000" y="30480"/>
                </a:lnTo>
                <a:lnTo>
                  <a:pt x="746760" y="22860"/>
                </a:lnTo>
                <a:lnTo>
                  <a:pt x="723900" y="15240"/>
                </a:lnTo>
                <a:lnTo>
                  <a:pt x="701040" y="15240"/>
                </a:lnTo>
                <a:lnTo>
                  <a:pt x="685800" y="7620"/>
                </a:lnTo>
                <a:lnTo>
                  <a:pt x="662940" y="7620"/>
                </a:lnTo>
                <a:lnTo>
                  <a:pt x="640080" y="0"/>
                </a:lnTo>
                <a:lnTo>
                  <a:pt x="617220" y="0"/>
                </a:lnTo>
                <a:lnTo>
                  <a:pt x="594360" y="0"/>
                </a:lnTo>
                <a:lnTo>
                  <a:pt x="571500" y="0"/>
                </a:lnTo>
                <a:lnTo>
                  <a:pt x="548640" y="0"/>
                </a:lnTo>
                <a:lnTo>
                  <a:pt x="518160" y="0"/>
                </a:lnTo>
                <a:lnTo>
                  <a:pt x="495300" y="0"/>
                </a:lnTo>
                <a:lnTo>
                  <a:pt x="472440" y="7620"/>
                </a:lnTo>
                <a:lnTo>
                  <a:pt x="441960" y="7620"/>
                </a:lnTo>
                <a:lnTo>
                  <a:pt x="419100" y="15240"/>
                </a:lnTo>
                <a:lnTo>
                  <a:pt x="396240" y="22860"/>
                </a:lnTo>
                <a:lnTo>
                  <a:pt x="365760" y="30480"/>
                </a:lnTo>
                <a:lnTo>
                  <a:pt x="342900" y="38100"/>
                </a:lnTo>
                <a:lnTo>
                  <a:pt x="320040" y="45720"/>
                </a:lnTo>
                <a:lnTo>
                  <a:pt x="297180" y="53340"/>
                </a:lnTo>
                <a:lnTo>
                  <a:pt x="274320" y="60960"/>
                </a:lnTo>
                <a:lnTo>
                  <a:pt x="243840" y="76200"/>
                </a:lnTo>
                <a:lnTo>
                  <a:pt x="228600" y="83820"/>
                </a:lnTo>
                <a:lnTo>
                  <a:pt x="198120" y="99060"/>
                </a:lnTo>
                <a:lnTo>
                  <a:pt x="182880" y="114300"/>
                </a:lnTo>
                <a:lnTo>
                  <a:pt x="160020" y="121920"/>
                </a:lnTo>
                <a:lnTo>
                  <a:pt x="144780" y="137160"/>
                </a:lnTo>
                <a:lnTo>
                  <a:pt x="121920" y="152400"/>
                </a:lnTo>
                <a:lnTo>
                  <a:pt x="106680" y="167640"/>
                </a:lnTo>
                <a:lnTo>
                  <a:pt x="91440" y="182880"/>
                </a:lnTo>
                <a:lnTo>
                  <a:pt x="76200" y="198120"/>
                </a:lnTo>
                <a:lnTo>
                  <a:pt x="60960" y="213360"/>
                </a:lnTo>
                <a:lnTo>
                  <a:pt x="53340" y="228600"/>
                </a:lnTo>
                <a:lnTo>
                  <a:pt x="45720" y="243840"/>
                </a:lnTo>
                <a:lnTo>
                  <a:pt x="38100" y="266700"/>
                </a:lnTo>
                <a:lnTo>
                  <a:pt x="22860" y="281940"/>
                </a:lnTo>
                <a:lnTo>
                  <a:pt x="15240" y="297180"/>
                </a:lnTo>
                <a:lnTo>
                  <a:pt x="7620" y="312420"/>
                </a:lnTo>
                <a:lnTo>
                  <a:pt x="7620" y="335280"/>
                </a:lnTo>
                <a:lnTo>
                  <a:pt x="0" y="350520"/>
                </a:lnTo>
                <a:lnTo>
                  <a:pt x="0" y="365760"/>
                </a:lnTo>
                <a:lnTo>
                  <a:pt x="0" y="381000"/>
                </a:lnTo>
                <a:lnTo>
                  <a:pt x="0" y="396240"/>
                </a:lnTo>
                <a:lnTo>
                  <a:pt x="0" y="411480"/>
                </a:lnTo>
                <a:lnTo>
                  <a:pt x="0" y="426720"/>
                </a:lnTo>
                <a:lnTo>
                  <a:pt x="7620" y="441960"/>
                </a:lnTo>
                <a:lnTo>
                  <a:pt x="7620" y="457200"/>
                </a:lnTo>
                <a:lnTo>
                  <a:pt x="7620" y="472440"/>
                </a:lnTo>
                <a:lnTo>
                  <a:pt x="15240" y="487680"/>
                </a:lnTo>
                <a:lnTo>
                  <a:pt x="22860" y="495300"/>
                </a:lnTo>
                <a:lnTo>
                  <a:pt x="30480" y="510540"/>
                </a:lnTo>
                <a:lnTo>
                  <a:pt x="38100" y="518160"/>
                </a:lnTo>
                <a:lnTo>
                  <a:pt x="53340" y="525780"/>
                </a:lnTo>
                <a:lnTo>
                  <a:pt x="60960" y="541020"/>
                </a:lnTo>
                <a:lnTo>
                  <a:pt x="76200" y="541020"/>
                </a:lnTo>
                <a:lnTo>
                  <a:pt x="83820" y="556260"/>
                </a:lnTo>
                <a:lnTo>
                  <a:pt x="99060" y="556260"/>
                </a:lnTo>
                <a:lnTo>
                  <a:pt x="114300" y="563880"/>
                </a:lnTo>
                <a:lnTo>
                  <a:pt x="129540" y="563880"/>
                </a:lnTo>
                <a:lnTo>
                  <a:pt x="144780" y="563880"/>
                </a:lnTo>
                <a:lnTo>
                  <a:pt x="167640" y="563880"/>
                </a:lnTo>
                <a:lnTo>
                  <a:pt x="190500" y="563880"/>
                </a:lnTo>
                <a:lnTo>
                  <a:pt x="205740" y="563880"/>
                </a:lnTo>
                <a:lnTo>
                  <a:pt x="228600" y="563880"/>
                </a:lnTo>
                <a:lnTo>
                  <a:pt x="251460" y="556260"/>
                </a:lnTo>
                <a:lnTo>
                  <a:pt x="274320" y="556260"/>
                </a:lnTo>
                <a:lnTo>
                  <a:pt x="297180" y="556260"/>
                </a:lnTo>
                <a:lnTo>
                  <a:pt x="320040" y="548640"/>
                </a:lnTo>
                <a:lnTo>
                  <a:pt x="342900" y="548640"/>
                </a:lnTo>
                <a:lnTo>
                  <a:pt x="365760" y="548640"/>
                </a:lnTo>
                <a:lnTo>
                  <a:pt x="388620" y="541020"/>
                </a:lnTo>
                <a:lnTo>
                  <a:pt x="426720" y="541020"/>
                </a:lnTo>
                <a:lnTo>
                  <a:pt x="426720" y="54102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Freeform 4116"/>
          <p:cNvSpPr/>
          <p:nvPr/>
        </p:nvSpPr>
        <p:spPr>
          <a:xfrm>
            <a:off x="244440" y="1935000"/>
            <a:ext cx="220680" cy="274680"/>
          </a:xfrm>
          <a:custGeom>
            <a:avLst/>
            <a:gdLst>
              <a:gd name="textAreaLeft" fmla="*/ 0 w 220680"/>
              <a:gd name="textAreaRight" fmla="*/ 221040 w 2206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20981" h="274321">
                <a:moveTo>
                  <a:pt x="121920" y="0"/>
                </a:moveTo>
                <a:lnTo>
                  <a:pt x="121920" y="0"/>
                </a:lnTo>
                <a:lnTo>
                  <a:pt x="114300" y="0"/>
                </a:lnTo>
                <a:lnTo>
                  <a:pt x="114300" y="0"/>
                </a:lnTo>
                <a:lnTo>
                  <a:pt x="114300" y="0"/>
                </a:lnTo>
                <a:lnTo>
                  <a:pt x="106680" y="0"/>
                </a:lnTo>
                <a:lnTo>
                  <a:pt x="106680" y="0"/>
                </a:lnTo>
                <a:lnTo>
                  <a:pt x="99060" y="7620"/>
                </a:lnTo>
                <a:lnTo>
                  <a:pt x="99060" y="7620"/>
                </a:lnTo>
                <a:lnTo>
                  <a:pt x="91440" y="22860"/>
                </a:lnTo>
                <a:lnTo>
                  <a:pt x="83820" y="30480"/>
                </a:lnTo>
                <a:lnTo>
                  <a:pt x="76200" y="45720"/>
                </a:lnTo>
                <a:lnTo>
                  <a:pt x="68580" y="53340"/>
                </a:lnTo>
                <a:lnTo>
                  <a:pt x="53340" y="68580"/>
                </a:lnTo>
                <a:lnTo>
                  <a:pt x="38100" y="83820"/>
                </a:lnTo>
                <a:lnTo>
                  <a:pt x="30480" y="99060"/>
                </a:lnTo>
                <a:lnTo>
                  <a:pt x="22860" y="114300"/>
                </a:lnTo>
                <a:lnTo>
                  <a:pt x="15240" y="121920"/>
                </a:lnTo>
                <a:lnTo>
                  <a:pt x="7620" y="137160"/>
                </a:lnTo>
                <a:lnTo>
                  <a:pt x="0" y="144780"/>
                </a:lnTo>
                <a:lnTo>
                  <a:pt x="0" y="144780"/>
                </a:lnTo>
                <a:lnTo>
                  <a:pt x="7620" y="152400"/>
                </a:lnTo>
                <a:lnTo>
                  <a:pt x="7620" y="152400"/>
                </a:lnTo>
                <a:lnTo>
                  <a:pt x="22860" y="152400"/>
                </a:lnTo>
                <a:lnTo>
                  <a:pt x="30480" y="152400"/>
                </a:lnTo>
                <a:lnTo>
                  <a:pt x="45720" y="144780"/>
                </a:lnTo>
                <a:lnTo>
                  <a:pt x="60960" y="137160"/>
                </a:lnTo>
                <a:lnTo>
                  <a:pt x="83820" y="129540"/>
                </a:lnTo>
                <a:lnTo>
                  <a:pt x="106680" y="121920"/>
                </a:lnTo>
                <a:lnTo>
                  <a:pt x="129540" y="114300"/>
                </a:lnTo>
                <a:lnTo>
                  <a:pt x="152400" y="106680"/>
                </a:lnTo>
                <a:lnTo>
                  <a:pt x="167640" y="106680"/>
                </a:lnTo>
                <a:lnTo>
                  <a:pt x="182880" y="106680"/>
                </a:lnTo>
                <a:lnTo>
                  <a:pt x="198120" y="106680"/>
                </a:lnTo>
                <a:lnTo>
                  <a:pt x="205740" y="106680"/>
                </a:lnTo>
                <a:lnTo>
                  <a:pt x="213360" y="114300"/>
                </a:lnTo>
                <a:lnTo>
                  <a:pt x="220980" y="121920"/>
                </a:lnTo>
                <a:lnTo>
                  <a:pt x="220980" y="129540"/>
                </a:lnTo>
                <a:lnTo>
                  <a:pt x="213360" y="137160"/>
                </a:lnTo>
                <a:lnTo>
                  <a:pt x="213360" y="152400"/>
                </a:lnTo>
                <a:lnTo>
                  <a:pt x="205740" y="160020"/>
                </a:lnTo>
                <a:lnTo>
                  <a:pt x="190500" y="175260"/>
                </a:lnTo>
                <a:lnTo>
                  <a:pt x="175260" y="190500"/>
                </a:lnTo>
                <a:lnTo>
                  <a:pt x="167640" y="205740"/>
                </a:lnTo>
                <a:lnTo>
                  <a:pt x="152400" y="220980"/>
                </a:lnTo>
                <a:lnTo>
                  <a:pt x="137160" y="228600"/>
                </a:lnTo>
                <a:lnTo>
                  <a:pt x="121920" y="243840"/>
                </a:lnTo>
                <a:lnTo>
                  <a:pt x="114300" y="251460"/>
                </a:lnTo>
                <a:lnTo>
                  <a:pt x="106680" y="259080"/>
                </a:lnTo>
                <a:lnTo>
                  <a:pt x="99060" y="266700"/>
                </a:lnTo>
                <a:lnTo>
                  <a:pt x="91440" y="274320"/>
                </a:lnTo>
                <a:lnTo>
                  <a:pt x="83820" y="274320"/>
                </a:lnTo>
                <a:lnTo>
                  <a:pt x="83820" y="27432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Freeform 4117"/>
          <p:cNvSpPr/>
          <p:nvPr/>
        </p:nvSpPr>
        <p:spPr>
          <a:xfrm>
            <a:off x="457200" y="1905120"/>
            <a:ext cx="54000" cy="182520"/>
          </a:xfrm>
          <a:custGeom>
            <a:avLst/>
            <a:gdLst>
              <a:gd name="textAreaLeft" fmla="*/ 0 w 54000"/>
              <a:gd name="textAreaRight" fmla="*/ 54360 w 540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53341" h="18288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620"/>
                </a:lnTo>
                <a:lnTo>
                  <a:pt x="0" y="15240"/>
                </a:lnTo>
                <a:lnTo>
                  <a:pt x="0" y="22860"/>
                </a:lnTo>
                <a:lnTo>
                  <a:pt x="0" y="30480"/>
                </a:lnTo>
                <a:lnTo>
                  <a:pt x="0" y="45720"/>
                </a:lnTo>
                <a:lnTo>
                  <a:pt x="0" y="53340"/>
                </a:lnTo>
                <a:lnTo>
                  <a:pt x="0" y="68580"/>
                </a:lnTo>
                <a:lnTo>
                  <a:pt x="7620" y="83820"/>
                </a:lnTo>
                <a:lnTo>
                  <a:pt x="7620" y="91440"/>
                </a:lnTo>
                <a:lnTo>
                  <a:pt x="7620" y="106680"/>
                </a:lnTo>
                <a:lnTo>
                  <a:pt x="7620" y="121920"/>
                </a:lnTo>
                <a:lnTo>
                  <a:pt x="15240" y="129540"/>
                </a:lnTo>
                <a:lnTo>
                  <a:pt x="15240" y="137160"/>
                </a:lnTo>
                <a:lnTo>
                  <a:pt x="22860" y="152400"/>
                </a:lnTo>
                <a:lnTo>
                  <a:pt x="22860" y="152400"/>
                </a:lnTo>
                <a:lnTo>
                  <a:pt x="30480" y="160020"/>
                </a:lnTo>
                <a:lnTo>
                  <a:pt x="38100" y="167640"/>
                </a:lnTo>
                <a:lnTo>
                  <a:pt x="45720" y="175260"/>
                </a:lnTo>
                <a:lnTo>
                  <a:pt x="53340" y="182880"/>
                </a:lnTo>
                <a:lnTo>
                  <a:pt x="53340" y="18288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Freeform 4118"/>
          <p:cNvSpPr/>
          <p:nvPr/>
        </p:nvSpPr>
        <p:spPr>
          <a:xfrm>
            <a:off x="479520" y="1996920"/>
            <a:ext cx="46080" cy="38160"/>
          </a:xfrm>
          <a:custGeom>
            <a:avLst/>
            <a:gdLst>
              <a:gd name="textAreaLeft" fmla="*/ 0 w 46080"/>
              <a:gd name="textAreaRight" fmla="*/ 46440 w 460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45721" h="38101">
                <a:moveTo>
                  <a:pt x="7620" y="-27436"/>
                </a:moveTo>
                <a:lnTo>
                  <a:pt x="0" y="-27436"/>
                </a:lnTo>
                <a:lnTo>
                  <a:pt x="0" y="30480"/>
                </a:lnTo>
                <a:lnTo>
                  <a:pt x="0" y="22860"/>
                </a:lnTo>
                <a:lnTo>
                  <a:pt x="0" y="22860"/>
                </a:lnTo>
                <a:lnTo>
                  <a:pt x="0" y="15240"/>
                </a:lnTo>
                <a:lnTo>
                  <a:pt x="7620" y="15240"/>
                </a:lnTo>
                <a:lnTo>
                  <a:pt x="7620" y="15240"/>
                </a:lnTo>
                <a:lnTo>
                  <a:pt x="15240" y="7620"/>
                </a:lnTo>
                <a:lnTo>
                  <a:pt x="22860" y="7620"/>
                </a:lnTo>
                <a:lnTo>
                  <a:pt x="-27436" y="7620"/>
                </a:lnTo>
                <a:lnTo>
                  <a:pt x="-19816" y="0"/>
                </a:lnTo>
                <a:lnTo>
                  <a:pt x="-19816" y="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Freeform 4119"/>
          <p:cNvSpPr/>
          <p:nvPr/>
        </p:nvSpPr>
        <p:spPr>
          <a:xfrm>
            <a:off x="563400" y="1806480"/>
            <a:ext cx="328680" cy="258840"/>
          </a:xfrm>
          <a:custGeom>
            <a:avLst/>
            <a:gdLst>
              <a:gd name="textAreaLeft" fmla="*/ 0 w 328680"/>
              <a:gd name="textAreaRight" fmla="*/ 329040 w 32868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327661" h="259081">
                <a:moveTo>
                  <a:pt x="0" y="198120"/>
                </a:moveTo>
                <a:lnTo>
                  <a:pt x="0" y="198120"/>
                </a:lnTo>
                <a:lnTo>
                  <a:pt x="0" y="198120"/>
                </a:lnTo>
                <a:lnTo>
                  <a:pt x="0" y="198120"/>
                </a:lnTo>
                <a:lnTo>
                  <a:pt x="0" y="198120"/>
                </a:lnTo>
                <a:lnTo>
                  <a:pt x="0" y="198120"/>
                </a:lnTo>
                <a:lnTo>
                  <a:pt x="0" y="198120"/>
                </a:lnTo>
                <a:lnTo>
                  <a:pt x="0" y="190500"/>
                </a:lnTo>
                <a:lnTo>
                  <a:pt x="0" y="190500"/>
                </a:lnTo>
                <a:lnTo>
                  <a:pt x="0" y="182880"/>
                </a:lnTo>
                <a:lnTo>
                  <a:pt x="0" y="182880"/>
                </a:lnTo>
                <a:lnTo>
                  <a:pt x="7620" y="175260"/>
                </a:lnTo>
                <a:lnTo>
                  <a:pt x="7620" y="175260"/>
                </a:lnTo>
                <a:lnTo>
                  <a:pt x="7620" y="167640"/>
                </a:lnTo>
                <a:lnTo>
                  <a:pt x="7620" y="167640"/>
                </a:lnTo>
                <a:lnTo>
                  <a:pt x="15240" y="160020"/>
                </a:lnTo>
                <a:lnTo>
                  <a:pt x="15240" y="160020"/>
                </a:lnTo>
                <a:lnTo>
                  <a:pt x="22860" y="152400"/>
                </a:lnTo>
                <a:lnTo>
                  <a:pt x="22860" y="152400"/>
                </a:lnTo>
                <a:lnTo>
                  <a:pt x="30480" y="152400"/>
                </a:lnTo>
                <a:lnTo>
                  <a:pt x="30480" y="152400"/>
                </a:lnTo>
                <a:lnTo>
                  <a:pt x="38100" y="152400"/>
                </a:lnTo>
                <a:lnTo>
                  <a:pt x="45720" y="152400"/>
                </a:lnTo>
                <a:lnTo>
                  <a:pt x="45720" y="152400"/>
                </a:lnTo>
                <a:lnTo>
                  <a:pt x="53340" y="152400"/>
                </a:lnTo>
                <a:lnTo>
                  <a:pt x="53340" y="160020"/>
                </a:lnTo>
                <a:lnTo>
                  <a:pt x="60960" y="160020"/>
                </a:lnTo>
                <a:lnTo>
                  <a:pt x="60960" y="167640"/>
                </a:lnTo>
                <a:lnTo>
                  <a:pt x="60960" y="167640"/>
                </a:lnTo>
                <a:lnTo>
                  <a:pt x="60960" y="175260"/>
                </a:lnTo>
                <a:lnTo>
                  <a:pt x="60960" y="182880"/>
                </a:lnTo>
                <a:lnTo>
                  <a:pt x="60960" y="190500"/>
                </a:lnTo>
                <a:lnTo>
                  <a:pt x="60960" y="190500"/>
                </a:lnTo>
                <a:lnTo>
                  <a:pt x="60960" y="198120"/>
                </a:lnTo>
                <a:lnTo>
                  <a:pt x="53340" y="205740"/>
                </a:lnTo>
                <a:lnTo>
                  <a:pt x="53340" y="205740"/>
                </a:lnTo>
                <a:lnTo>
                  <a:pt x="45720" y="213360"/>
                </a:lnTo>
                <a:lnTo>
                  <a:pt x="45720" y="220980"/>
                </a:lnTo>
                <a:lnTo>
                  <a:pt x="38100" y="228600"/>
                </a:lnTo>
                <a:lnTo>
                  <a:pt x="30480" y="228600"/>
                </a:lnTo>
                <a:lnTo>
                  <a:pt x="22860" y="236220"/>
                </a:lnTo>
                <a:lnTo>
                  <a:pt x="15240" y="243840"/>
                </a:lnTo>
                <a:lnTo>
                  <a:pt x="15240" y="243840"/>
                </a:lnTo>
                <a:lnTo>
                  <a:pt x="7620" y="251460"/>
                </a:lnTo>
                <a:lnTo>
                  <a:pt x="7620" y="251460"/>
                </a:lnTo>
                <a:lnTo>
                  <a:pt x="7620" y="251460"/>
                </a:lnTo>
                <a:lnTo>
                  <a:pt x="7620" y="259080"/>
                </a:lnTo>
                <a:lnTo>
                  <a:pt x="7620" y="259080"/>
                </a:lnTo>
                <a:lnTo>
                  <a:pt x="15240" y="259080"/>
                </a:lnTo>
                <a:lnTo>
                  <a:pt x="15240" y="259080"/>
                </a:lnTo>
                <a:lnTo>
                  <a:pt x="22860" y="259080"/>
                </a:lnTo>
                <a:lnTo>
                  <a:pt x="22860" y="259080"/>
                </a:lnTo>
                <a:lnTo>
                  <a:pt x="30480" y="259080"/>
                </a:lnTo>
                <a:lnTo>
                  <a:pt x="45720" y="251460"/>
                </a:lnTo>
                <a:lnTo>
                  <a:pt x="53340" y="251460"/>
                </a:lnTo>
                <a:lnTo>
                  <a:pt x="60960" y="243840"/>
                </a:lnTo>
                <a:lnTo>
                  <a:pt x="68580" y="243840"/>
                </a:lnTo>
                <a:lnTo>
                  <a:pt x="76200" y="236220"/>
                </a:lnTo>
                <a:lnTo>
                  <a:pt x="83820" y="228600"/>
                </a:lnTo>
                <a:lnTo>
                  <a:pt x="91440" y="220980"/>
                </a:lnTo>
                <a:lnTo>
                  <a:pt x="99060" y="220980"/>
                </a:lnTo>
                <a:lnTo>
                  <a:pt x="99060" y="213360"/>
                </a:lnTo>
                <a:lnTo>
                  <a:pt x="99060" y="205740"/>
                </a:lnTo>
                <a:lnTo>
                  <a:pt x="106680" y="205740"/>
                </a:lnTo>
                <a:lnTo>
                  <a:pt x="106680" y="198120"/>
                </a:lnTo>
                <a:lnTo>
                  <a:pt x="106680" y="198120"/>
                </a:lnTo>
                <a:lnTo>
                  <a:pt x="106680" y="190500"/>
                </a:lnTo>
                <a:lnTo>
                  <a:pt x="106680" y="190500"/>
                </a:lnTo>
                <a:lnTo>
                  <a:pt x="106680" y="190500"/>
                </a:lnTo>
                <a:lnTo>
                  <a:pt x="106680" y="182880"/>
                </a:lnTo>
                <a:lnTo>
                  <a:pt x="106680" y="182880"/>
                </a:lnTo>
                <a:lnTo>
                  <a:pt x="106680" y="182880"/>
                </a:lnTo>
                <a:lnTo>
                  <a:pt x="106680" y="182880"/>
                </a:lnTo>
                <a:lnTo>
                  <a:pt x="114300" y="175260"/>
                </a:lnTo>
                <a:lnTo>
                  <a:pt x="114300" y="175260"/>
                </a:lnTo>
                <a:lnTo>
                  <a:pt x="121920" y="175260"/>
                </a:lnTo>
                <a:lnTo>
                  <a:pt x="121920" y="175260"/>
                </a:lnTo>
                <a:lnTo>
                  <a:pt x="129540" y="175260"/>
                </a:lnTo>
                <a:lnTo>
                  <a:pt x="137160" y="175260"/>
                </a:lnTo>
                <a:lnTo>
                  <a:pt x="144780" y="175260"/>
                </a:lnTo>
                <a:lnTo>
                  <a:pt x="152400" y="175260"/>
                </a:lnTo>
                <a:lnTo>
                  <a:pt x="160020" y="175260"/>
                </a:lnTo>
                <a:lnTo>
                  <a:pt x="167640" y="175260"/>
                </a:lnTo>
                <a:lnTo>
                  <a:pt x="167640" y="175260"/>
                </a:lnTo>
                <a:lnTo>
                  <a:pt x="175260" y="182880"/>
                </a:lnTo>
                <a:lnTo>
                  <a:pt x="182880" y="182880"/>
                </a:lnTo>
                <a:lnTo>
                  <a:pt x="190500" y="182880"/>
                </a:lnTo>
                <a:lnTo>
                  <a:pt x="190500" y="182880"/>
                </a:lnTo>
                <a:lnTo>
                  <a:pt x="190500" y="182880"/>
                </a:lnTo>
                <a:lnTo>
                  <a:pt x="190500" y="182880"/>
                </a:lnTo>
                <a:lnTo>
                  <a:pt x="190500" y="182880"/>
                </a:lnTo>
                <a:lnTo>
                  <a:pt x="190500" y="175260"/>
                </a:lnTo>
                <a:lnTo>
                  <a:pt x="190500" y="175260"/>
                </a:lnTo>
                <a:lnTo>
                  <a:pt x="182880" y="167640"/>
                </a:lnTo>
                <a:lnTo>
                  <a:pt x="182880" y="167640"/>
                </a:lnTo>
                <a:lnTo>
                  <a:pt x="175260" y="160020"/>
                </a:lnTo>
                <a:lnTo>
                  <a:pt x="167640" y="152400"/>
                </a:lnTo>
                <a:lnTo>
                  <a:pt x="167640" y="144780"/>
                </a:lnTo>
                <a:lnTo>
                  <a:pt x="160020" y="137160"/>
                </a:lnTo>
                <a:lnTo>
                  <a:pt x="160020" y="129540"/>
                </a:lnTo>
                <a:lnTo>
                  <a:pt x="152400" y="121920"/>
                </a:lnTo>
                <a:lnTo>
                  <a:pt x="152400" y="114300"/>
                </a:lnTo>
                <a:lnTo>
                  <a:pt x="152400" y="99060"/>
                </a:lnTo>
                <a:lnTo>
                  <a:pt x="152400" y="91440"/>
                </a:lnTo>
                <a:lnTo>
                  <a:pt x="152400" y="83820"/>
                </a:lnTo>
                <a:lnTo>
                  <a:pt x="152400" y="68580"/>
                </a:lnTo>
                <a:lnTo>
                  <a:pt x="152400" y="60960"/>
                </a:lnTo>
                <a:lnTo>
                  <a:pt x="160020" y="53340"/>
                </a:lnTo>
                <a:lnTo>
                  <a:pt x="160020" y="45720"/>
                </a:lnTo>
                <a:lnTo>
                  <a:pt x="167640" y="30480"/>
                </a:lnTo>
                <a:lnTo>
                  <a:pt x="175260" y="30480"/>
                </a:lnTo>
                <a:lnTo>
                  <a:pt x="175260" y="22860"/>
                </a:lnTo>
                <a:lnTo>
                  <a:pt x="182880" y="15240"/>
                </a:lnTo>
                <a:lnTo>
                  <a:pt x="190500" y="7620"/>
                </a:lnTo>
                <a:lnTo>
                  <a:pt x="198120" y="7620"/>
                </a:lnTo>
                <a:lnTo>
                  <a:pt x="198120" y="0"/>
                </a:lnTo>
                <a:lnTo>
                  <a:pt x="205740" y="0"/>
                </a:lnTo>
                <a:lnTo>
                  <a:pt x="213360" y="0"/>
                </a:lnTo>
                <a:lnTo>
                  <a:pt x="220980" y="0"/>
                </a:lnTo>
                <a:lnTo>
                  <a:pt x="220980" y="0"/>
                </a:lnTo>
                <a:lnTo>
                  <a:pt x="228600" y="7620"/>
                </a:lnTo>
                <a:lnTo>
                  <a:pt x="236220" y="7620"/>
                </a:lnTo>
                <a:lnTo>
                  <a:pt x="243840" y="15240"/>
                </a:lnTo>
                <a:lnTo>
                  <a:pt x="243840" y="15240"/>
                </a:lnTo>
                <a:lnTo>
                  <a:pt x="251460" y="30480"/>
                </a:lnTo>
                <a:lnTo>
                  <a:pt x="259080" y="30480"/>
                </a:lnTo>
                <a:lnTo>
                  <a:pt x="259080" y="45720"/>
                </a:lnTo>
                <a:lnTo>
                  <a:pt x="266700" y="53340"/>
                </a:lnTo>
                <a:lnTo>
                  <a:pt x="274320" y="60960"/>
                </a:lnTo>
                <a:lnTo>
                  <a:pt x="281940" y="68580"/>
                </a:lnTo>
                <a:lnTo>
                  <a:pt x="289560" y="83820"/>
                </a:lnTo>
                <a:lnTo>
                  <a:pt x="297180" y="91440"/>
                </a:lnTo>
                <a:lnTo>
                  <a:pt x="304800" y="99060"/>
                </a:lnTo>
                <a:lnTo>
                  <a:pt x="312420" y="106680"/>
                </a:lnTo>
                <a:lnTo>
                  <a:pt x="327660" y="121920"/>
                </a:lnTo>
                <a:lnTo>
                  <a:pt x="327660" y="12192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Freeform 4120"/>
          <p:cNvSpPr/>
          <p:nvPr/>
        </p:nvSpPr>
        <p:spPr>
          <a:xfrm>
            <a:off x="808200" y="1851120"/>
            <a:ext cx="152280" cy="46080"/>
          </a:xfrm>
          <a:custGeom>
            <a:avLst/>
            <a:gdLst>
              <a:gd name="textAreaLeft" fmla="*/ 0 w 152280"/>
              <a:gd name="textAreaRight" fmla="*/ 152640 w 15228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152401" h="45721">
                <a:moveTo>
                  <a:pt x="0" y="45720"/>
                </a:moveTo>
                <a:lnTo>
                  <a:pt x="0" y="45720"/>
                </a:lnTo>
                <a:lnTo>
                  <a:pt x="0" y="45720"/>
                </a:lnTo>
                <a:lnTo>
                  <a:pt x="0" y="38100"/>
                </a:lnTo>
                <a:lnTo>
                  <a:pt x="0" y="38100"/>
                </a:lnTo>
                <a:lnTo>
                  <a:pt x="7620" y="30480"/>
                </a:lnTo>
                <a:lnTo>
                  <a:pt x="15240" y="30480"/>
                </a:lnTo>
                <a:lnTo>
                  <a:pt x="30480" y="22860"/>
                </a:lnTo>
                <a:lnTo>
                  <a:pt x="53340" y="15240"/>
                </a:lnTo>
                <a:lnTo>
                  <a:pt x="76200" y="15240"/>
                </a:lnTo>
                <a:lnTo>
                  <a:pt x="99060" y="7620"/>
                </a:lnTo>
                <a:lnTo>
                  <a:pt x="121920" y="7620"/>
                </a:lnTo>
                <a:lnTo>
                  <a:pt x="152400" y="0"/>
                </a:lnTo>
                <a:lnTo>
                  <a:pt x="152400" y="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Freeform 4121"/>
          <p:cNvSpPr/>
          <p:nvPr/>
        </p:nvSpPr>
        <p:spPr>
          <a:xfrm>
            <a:off x="1539720" y="428940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Freeform 4122"/>
          <p:cNvSpPr/>
          <p:nvPr/>
        </p:nvSpPr>
        <p:spPr>
          <a:xfrm>
            <a:off x="1455840" y="4275000"/>
            <a:ext cx="90360" cy="52560"/>
          </a:xfrm>
          <a:custGeom>
            <a:avLst/>
            <a:gdLst>
              <a:gd name="textAreaLeft" fmla="*/ 0 w 90360"/>
              <a:gd name="textAreaRight" fmla="*/ 90720 w 9036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91441" h="53341">
                <a:moveTo>
                  <a:pt x="76200" y="30480"/>
                </a:moveTo>
                <a:lnTo>
                  <a:pt x="76200" y="30480"/>
                </a:lnTo>
                <a:lnTo>
                  <a:pt x="76200" y="30480"/>
                </a:lnTo>
                <a:lnTo>
                  <a:pt x="76200" y="30480"/>
                </a:lnTo>
                <a:lnTo>
                  <a:pt x="76200" y="30480"/>
                </a:lnTo>
                <a:lnTo>
                  <a:pt x="76200" y="30480"/>
                </a:lnTo>
                <a:lnTo>
                  <a:pt x="76200" y="30480"/>
                </a:lnTo>
                <a:lnTo>
                  <a:pt x="76200" y="30480"/>
                </a:lnTo>
                <a:lnTo>
                  <a:pt x="76200" y="30480"/>
                </a:lnTo>
                <a:lnTo>
                  <a:pt x="68580" y="30480"/>
                </a:lnTo>
                <a:lnTo>
                  <a:pt x="68580" y="30480"/>
                </a:lnTo>
                <a:lnTo>
                  <a:pt x="68580" y="30480"/>
                </a:lnTo>
                <a:lnTo>
                  <a:pt x="68580" y="30480"/>
                </a:lnTo>
                <a:lnTo>
                  <a:pt x="68580" y="38100"/>
                </a:lnTo>
                <a:lnTo>
                  <a:pt x="68580" y="38100"/>
                </a:lnTo>
                <a:lnTo>
                  <a:pt x="60960" y="38100"/>
                </a:lnTo>
                <a:lnTo>
                  <a:pt x="60960" y="38100"/>
                </a:lnTo>
                <a:lnTo>
                  <a:pt x="53340" y="38100"/>
                </a:lnTo>
                <a:lnTo>
                  <a:pt x="53340" y="38100"/>
                </a:lnTo>
                <a:lnTo>
                  <a:pt x="53340" y="38100"/>
                </a:lnTo>
                <a:lnTo>
                  <a:pt x="45720" y="45720"/>
                </a:lnTo>
                <a:lnTo>
                  <a:pt x="45720" y="45720"/>
                </a:lnTo>
                <a:lnTo>
                  <a:pt x="38100" y="45720"/>
                </a:lnTo>
                <a:lnTo>
                  <a:pt x="38100" y="45720"/>
                </a:lnTo>
                <a:lnTo>
                  <a:pt x="30480" y="45720"/>
                </a:lnTo>
                <a:lnTo>
                  <a:pt x="30480" y="45720"/>
                </a:lnTo>
                <a:lnTo>
                  <a:pt x="30480" y="45720"/>
                </a:lnTo>
                <a:lnTo>
                  <a:pt x="22860" y="45720"/>
                </a:lnTo>
                <a:lnTo>
                  <a:pt x="22860" y="45720"/>
                </a:lnTo>
                <a:lnTo>
                  <a:pt x="22860" y="45720"/>
                </a:lnTo>
                <a:lnTo>
                  <a:pt x="22860" y="45720"/>
                </a:lnTo>
                <a:lnTo>
                  <a:pt x="15240" y="38100"/>
                </a:lnTo>
                <a:lnTo>
                  <a:pt x="15240" y="38100"/>
                </a:lnTo>
                <a:lnTo>
                  <a:pt x="15240" y="38100"/>
                </a:lnTo>
                <a:lnTo>
                  <a:pt x="22860" y="30480"/>
                </a:lnTo>
                <a:lnTo>
                  <a:pt x="22860" y="30480"/>
                </a:lnTo>
                <a:lnTo>
                  <a:pt x="22860" y="22860"/>
                </a:lnTo>
                <a:lnTo>
                  <a:pt x="30480" y="22860"/>
                </a:lnTo>
                <a:lnTo>
                  <a:pt x="30480" y="22860"/>
                </a:lnTo>
                <a:lnTo>
                  <a:pt x="38100" y="22860"/>
                </a:lnTo>
                <a:lnTo>
                  <a:pt x="38100" y="15240"/>
                </a:lnTo>
                <a:lnTo>
                  <a:pt x="45720" y="15240"/>
                </a:lnTo>
                <a:lnTo>
                  <a:pt x="45720" y="15240"/>
                </a:lnTo>
                <a:lnTo>
                  <a:pt x="53340" y="15240"/>
                </a:lnTo>
                <a:lnTo>
                  <a:pt x="60960" y="15240"/>
                </a:lnTo>
                <a:lnTo>
                  <a:pt x="60960" y="15240"/>
                </a:lnTo>
                <a:lnTo>
                  <a:pt x="68580" y="15240"/>
                </a:lnTo>
                <a:lnTo>
                  <a:pt x="68580" y="15240"/>
                </a:lnTo>
                <a:lnTo>
                  <a:pt x="76200" y="15240"/>
                </a:lnTo>
                <a:lnTo>
                  <a:pt x="76200" y="22860"/>
                </a:lnTo>
                <a:lnTo>
                  <a:pt x="83820" y="22860"/>
                </a:lnTo>
                <a:lnTo>
                  <a:pt x="83820" y="22860"/>
                </a:lnTo>
                <a:lnTo>
                  <a:pt x="83820" y="22860"/>
                </a:lnTo>
                <a:lnTo>
                  <a:pt x="83820" y="30480"/>
                </a:lnTo>
                <a:lnTo>
                  <a:pt x="83820" y="30480"/>
                </a:lnTo>
                <a:lnTo>
                  <a:pt x="83820" y="38100"/>
                </a:lnTo>
                <a:lnTo>
                  <a:pt x="83820" y="38100"/>
                </a:lnTo>
                <a:lnTo>
                  <a:pt x="83820" y="45720"/>
                </a:lnTo>
                <a:lnTo>
                  <a:pt x="76200" y="45720"/>
                </a:lnTo>
                <a:lnTo>
                  <a:pt x="68580" y="45720"/>
                </a:lnTo>
                <a:lnTo>
                  <a:pt x="60960" y="45720"/>
                </a:lnTo>
                <a:lnTo>
                  <a:pt x="60960" y="53340"/>
                </a:lnTo>
                <a:lnTo>
                  <a:pt x="53340" y="53340"/>
                </a:lnTo>
                <a:lnTo>
                  <a:pt x="53340" y="53340"/>
                </a:lnTo>
                <a:lnTo>
                  <a:pt x="45720" y="53340"/>
                </a:lnTo>
                <a:lnTo>
                  <a:pt x="38100" y="53340"/>
                </a:lnTo>
                <a:lnTo>
                  <a:pt x="30480" y="53340"/>
                </a:lnTo>
                <a:lnTo>
                  <a:pt x="30480" y="53340"/>
                </a:lnTo>
                <a:lnTo>
                  <a:pt x="22860" y="53340"/>
                </a:lnTo>
                <a:lnTo>
                  <a:pt x="15240" y="53340"/>
                </a:lnTo>
                <a:lnTo>
                  <a:pt x="7620" y="45720"/>
                </a:lnTo>
                <a:lnTo>
                  <a:pt x="7620" y="45720"/>
                </a:lnTo>
                <a:lnTo>
                  <a:pt x="0" y="45720"/>
                </a:lnTo>
                <a:lnTo>
                  <a:pt x="0" y="45720"/>
                </a:lnTo>
                <a:lnTo>
                  <a:pt x="0" y="38100"/>
                </a:lnTo>
                <a:lnTo>
                  <a:pt x="0" y="38100"/>
                </a:lnTo>
                <a:lnTo>
                  <a:pt x="0" y="30480"/>
                </a:lnTo>
                <a:lnTo>
                  <a:pt x="0" y="22860"/>
                </a:lnTo>
                <a:lnTo>
                  <a:pt x="0" y="22860"/>
                </a:lnTo>
                <a:lnTo>
                  <a:pt x="0" y="22860"/>
                </a:lnTo>
                <a:lnTo>
                  <a:pt x="7620" y="15240"/>
                </a:lnTo>
                <a:lnTo>
                  <a:pt x="7620" y="15240"/>
                </a:lnTo>
                <a:lnTo>
                  <a:pt x="15240" y="7620"/>
                </a:lnTo>
                <a:lnTo>
                  <a:pt x="15240" y="7620"/>
                </a:lnTo>
                <a:lnTo>
                  <a:pt x="22860" y="7620"/>
                </a:lnTo>
                <a:lnTo>
                  <a:pt x="38100" y="7620"/>
                </a:lnTo>
                <a:lnTo>
                  <a:pt x="38100" y="7620"/>
                </a:lnTo>
                <a:lnTo>
                  <a:pt x="45720" y="7620"/>
                </a:lnTo>
                <a:lnTo>
                  <a:pt x="53340" y="7620"/>
                </a:lnTo>
                <a:lnTo>
                  <a:pt x="53340" y="7620"/>
                </a:lnTo>
                <a:lnTo>
                  <a:pt x="60960" y="7620"/>
                </a:lnTo>
                <a:lnTo>
                  <a:pt x="60960" y="15240"/>
                </a:lnTo>
                <a:lnTo>
                  <a:pt x="68580" y="15240"/>
                </a:lnTo>
                <a:lnTo>
                  <a:pt x="68580" y="22860"/>
                </a:lnTo>
                <a:lnTo>
                  <a:pt x="76200" y="22860"/>
                </a:lnTo>
                <a:lnTo>
                  <a:pt x="76200" y="22860"/>
                </a:lnTo>
                <a:lnTo>
                  <a:pt x="76200" y="30480"/>
                </a:lnTo>
                <a:lnTo>
                  <a:pt x="76200" y="30480"/>
                </a:lnTo>
                <a:lnTo>
                  <a:pt x="76200" y="38100"/>
                </a:lnTo>
                <a:lnTo>
                  <a:pt x="68580" y="38100"/>
                </a:lnTo>
                <a:lnTo>
                  <a:pt x="68580" y="45720"/>
                </a:lnTo>
                <a:lnTo>
                  <a:pt x="60960" y="45720"/>
                </a:lnTo>
                <a:lnTo>
                  <a:pt x="60960" y="45720"/>
                </a:lnTo>
                <a:lnTo>
                  <a:pt x="53340" y="45720"/>
                </a:lnTo>
                <a:lnTo>
                  <a:pt x="45720" y="45720"/>
                </a:lnTo>
                <a:lnTo>
                  <a:pt x="45720" y="45720"/>
                </a:lnTo>
                <a:lnTo>
                  <a:pt x="38100" y="45720"/>
                </a:lnTo>
                <a:lnTo>
                  <a:pt x="30480" y="45720"/>
                </a:lnTo>
                <a:lnTo>
                  <a:pt x="22860" y="45720"/>
                </a:lnTo>
                <a:lnTo>
                  <a:pt x="15240" y="45720"/>
                </a:lnTo>
                <a:lnTo>
                  <a:pt x="15240" y="38100"/>
                </a:lnTo>
                <a:lnTo>
                  <a:pt x="7620" y="38100"/>
                </a:lnTo>
                <a:lnTo>
                  <a:pt x="7620" y="38100"/>
                </a:lnTo>
                <a:lnTo>
                  <a:pt x="7620" y="30480"/>
                </a:lnTo>
                <a:lnTo>
                  <a:pt x="7620" y="22860"/>
                </a:lnTo>
                <a:lnTo>
                  <a:pt x="7620" y="22860"/>
                </a:lnTo>
                <a:lnTo>
                  <a:pt x="7620" y="15240"/>
                </a:lnTo>
                <a:lnTo>
                  <a:pt x="7620" y="15240"/>
                </a:lnTo>
                <a:lnTo>
                  <a:pt x="15240" y="7620"/>
                </a:lnTo>
                <a:lnTo>
                  <a:pt x="15240" y="7620"/>
                </a:lnTo>
                <a:lnTo>
                  <a:pt x="22860" y="0"/>
                </a:lnTo>
                <a:lnTo>
                  <a:pt x="30480" y="0"/>
                </a:lnTo>
                <a:lnTo>
                  <a:pt x="38100" y="0"/>
                </a:lnTo>
                <a:lnTo>
                  <a:pt x="45720" y="0"/>
                </a:lnTo>
                <a:lnTo>
                  <a:pt x="53340" y="0"/>
                </a:lnTo>
                <a:lnTo>
                  <a:pt x="53340" y="0"/>
                </a:lnTo>
                <a:lnTo>
                  <a:pt x="60960" y="0"/>
                </a:lnTo>
                <a:lnTo>
                  <a:pt x="68580" y="7620"/>
                </a:lnTo>
                <a:lnTo>
                  <a:pt x="68580" y="7620"/>
                </a:lnTo>
                <a:lnTo>
                  <a:pt x="76200" y="7620"/>
                </a:lnTo>
                <a:lnTo>
                  <a:pt x="76200" y="7620"/>
                </a:lnTo>
                <a:lnTo>
                  <a:pt x="83820" y="15240"/>
                </a:lnTo>
                <a:lnTo>
                  <a:pt x="83820" y="15240"/>
                </a:lnTo>
                <a:lnTo>
                  <a:pt x="83820" y="22860"/>
                </a:lnTo>
                <a:lnTo>
                  <a:pt x="76200" y="22860"/>
                </a:lnTo>
                <a:lnTo>
                  <a:pt x="76200" y="30480"/>
                </a:lnTo>
                <a:lnTo>
                  <a:pt x="68580" y="38100"/>
                </a:lnTo>
                <a:lnTo>
                  <a:pt x="60960" y="38100"/>
                </a:lnTo>
                <a:lnTo>
                  <a:pt x="53340" y="45720"/>
                </a:lnTo>
                <a:lnTo>
                  <a:pt x="45720" y="45720"/>
                </a:lnTo>
                <a:lnTo>
                  <a:pt x="45720" y="45720"/>
                </a:lnTo>
                <a:lnTo>
                  <a:pt x="38100" y="45720"/>
                </a:lnTo>
                <a:lnTo>
                  <a:pt x="30480" y="45720"/>
                </a:lnTo>
                <a:lnTo>
                  <a:pt x="22860" y="45720"/>
                </a:lnTo>
                <a:lnTo>
                  <a:pt x="15240" y="45720"/>
                </a:lnTo>
                <a:lnTo>
                  <a:pt x="15240" y="45720"/>
                </a:lnTo>
                <a:lnTo>
                  <a:pt x="7620" y="45720"/>
                </a:lnTo>
                <a:lnTo>
                  <a:pt x="0" y="45720"/>
                </a:lnTo>
                <a:lnTo>
                  <a:pt x="0" y="45720"/>
                </a:lnTo>
                <a:lnTo>
                  <a:pt x="0" y="38100"/>
                </a:lnTo>
                <a:lnTo>
                  <a:pt x="0" y="38100"/>
                </a:lnTo>
                <a:lnTo>
                  <a:pt x="0" y="38100"/>
                </a:lnTo>
                <a:lnTo>
                  <a:pt x="0" y="30480"/>
                </a:lnTo>
                <a:lnTo>
                  <a:pt x="7620" y="22860"/>
                </a:lnTo>
                <a:lnTo>
                  <a:pt x="7620" y="22860"/>
                </a:lnTo>
                <a:lnTo>
                  <a:pt x="15240" y="15240"/>
                </a:lnTo>
                <a:lnTo>
                  <a:pt x="22860" y="15240"/>
                </a:lnTo>
                <a:lnTo>
                  <a:pt x="30480" y="15240"/>
                </a:lnTo>
                <a:lnTo>
                  <a:pt x="38100" y="7620"/>
                </a:lnTo>
                <a:lnTo>
                  <a:pt x="45720" y="7620"/>
                </a:lnTo>
                <a:lnTo>
                  <a:pt x="53340" y="7620"/>
                </a:lnTo>
                <a:lnTo>
                  <a:pt x="60960" y="15240"/>
                </a:lnTo>
                <a:lnTo>
                  <a:pt x="68580" y="15240"/>
                </a:lnTo>
                <a:lnTo>
                  <a:pt x="68580" y="15240"/>
                </a:lnTo>
                <a:lnTo>
                  <a:pt x="76200" y="15240"/>
                </a:lnTo>
                <a:lnTo>
                  <a:pt x="83820" y="22860"/>
                </a:lnTo>
                <a:lnTo>
                  <a:pt x="83820" y="22860"/>
                </a:lnTo>
                <a:lnTo>
                  <a:pt x="83820" y="22860"/>
                </a:lnTo>
                <a:lnTo>
                  <a:pt x="91440" y="30480"/>
                </a:lnTo>
                <a:lnTo>
                  <a:pt x="91440" y="30480"/>
                </a:lnTo>
                <a:lnTo>
                  <a:pt x="91440" y="38100"/>
                </a:lnTo>
                <a:lnTo>
                  <a:pt x="83820" y="38100"/>
                </a:lnTo>
                <a:lnTo>
                  <a:pt x="83820" y="45720"/>
                </a:lnTo>
                <a:lnTo>
                  <a:pt x="83820" y="45720"/>
                </a:lnTo>
                <a:lnTo>
                  <a:pt x="76200" y="45720"/>
                </a:lnTo>
                <a:lnTo>
                  <a:pt x="68580" y="45720"/>
                </a:lnTo>
                <a:lnTo>
                  <a:pt x="60960" y="45720"/>
                </a:lnTo>
                <a:lnTo>
                  <a:pt x="60960" y="45720"/>
                </a:lnTo>
                <a:lnTo>
                  <a:pt x="53340" y="45720"/>
                </a:lnTo>
                <a:lnTo>
                  <a:pt x="45720" y="45720"/>
                </a:lnTo>
                <a:lnTo>
                  <a:pt x="38100" y="45720"/>
                </a:lnTo>
                <a:lnTo>
                  <a:pt x="30480" y="45720"/>
                </a:lnTo>
                <a:lnTo>
                  <a:pt x="22860" y="38100"/>
                </a:lnTo>
                <a:lnTo>
                  <a:pt x="15240" y="38100"/>
                </a:lnTo>
                <a:lnTo>
                  <a:pt x="15240" y="38100"/>
                </a:lnTo>
                <a:lnTo>
                  <a:pt x="15240" y="38100"/>
                </a:lnTo>
                <a:lnTo>
                  <a:pt x="7620" y="30480"/>
                </a:lnTo>
                <a:lnTo>
                  <a:pt x="7620" y="30480"/>
                </a:lnTo>
                <a:lnTo>
                  <a:pt x="7620" y="22860"/>
                </a:lnTo>
                <a:lnTo>
                  <a:pt x="7620" y="22860"/>
                </a:lnTo>
                <a:lnTo>
                  <a:pt x="15240" y="22860"/>
                </a:lnTo>
                <a:lnTo>
                  <a:pt x="15240" y="22860"/>
                </a:lnTo>
                <a:lnTo>
                  <a:pt x="22860" y="22860"/>
                </a:lnTo>
                <a:lnTo>
                  <a:pt x="30480" y="22860"/>
                </a:lnTo>
                <a:lnTo>
                  <a:pt x="38100" y="22860"/>
                </a:lnTo>
                <a:lnTo>
                  <a:pt x="45720" y="22860"/>
                </a:lnTo>
                <a:lnTo>
                  <a:pt x="53340" y="22860"/>
                </a:lnTo>
                <a:lnTo>
                  <a:pt x="60960" y="30480"/>
                </a:lnTo>
                <a:lnTo>
                  <a:pt x="68580" y="30480"/>
                </a:lnTo>
                <a:lnTo>
                  <a:pt x="68580" y="30480"/>
                </a:lnTo>
                <a:lnTo>
                  <a:pt x="76200" y="38100"/>
                </a:lnTo>
                <a:lnTo>
                  <a:pt x="76200" y="38100"/>
                </a:lnTo>
                <a:lnTo>
                  <a:pt x="83820" y="38100"/>
                </a:lnTo>
                <a:lnTo>
                  <a:pt x="83820" y="38100"/>
                </a:lnTo>
                <a:lnTo>
                  <a:pt x="83820" y="38100"/>
                </a:lnTo>
                <a:lnTo>
                  <a:pt x="76200" y="38100"/>
                </a:lnTo>
                <a:lnTo>
                  <a:pt x="68580" y="38100"/>
                </a:lnTo>
                <a:lnTo>
                  <a:pt x="60960" y="38100"/>
                </a:lnTo>
                <a:lnTo>
                  <a:pt x="53340" y="38100"/>
                </a:lnTo>
                <a:lnTo>
                  <a:pt x="45720" y="38100"/>
                </a:lnTo>
                <a:lnTo>
                  <a:pt x="38100" y="38100"/>
                </a:lnTo>
                <a:lnTo>
                  <a:pt x="38100" y="38100"/>
                </a:lnTo>
                <a:lnTo>
                  <a:pt x="30480" y="38100"/>
                </a:lnTo>
                <a:lnTo>
                  <a:pt x="15240" y="30480"/>
                </a:lnTo>
                <a:lnTo>
                  <a:pt x="15240" y="30480"/>
                </a:lnTo>
                <a:lnTo>
                  <a:pt x="7620" y="30480"/>
                </a:lnTo>
                <a:lnTo>
                  <a:pt x="7620" y="22860"/>
                </a:lnTo>
                <a:lnTo>
                  <a:pt x="7620" y="22860"/>
                </a:lnTo>
                <a:lnTo>
                  <a:pt x="7620" y="22860"/>
                </a:lnTo>
                <a:lnTo>
                  <a:pt x="7620" y="22860"/>
                </a:lnTo>
                <a:lnTo>
                  <a:pt x="15240" y="15240"/>
                </a:lnTo>
                <a:lnTo>
                  <a:pt x="15240" y="15240"/>
                </a:lnTo>
                <a:lnTo>
                  <a:pt x="22860" y="15240"/>
                </a:lnTo>
                <a:lnTo>
                  <a:pt x="30480" y="7620"/>
                </a:lnTo>
                <a:lnTo>
                  <a:pt x="38100" y="7620"/>
                </a:lnTo>
                <a:lnTo>
                  <a:pt x="45720" y="7620"/>
                </a:lnTo>
                <a:lnTo>
                  <a:pt x="53340" y="15240"/>
                </a:lnTo>
                <a:lnTo>
                  <a:pt x="60960" y="15240"/>
                </a:lnTo>
                <a:lnTo>
                  <a:pt x="60960" y="15240"/>
                </a:lnTo>
                <a:lnTo>
                  <a:pt x="68580" y="15240"/>
                </a:lnTo>
                <a:lnTo>
                  <a:pt x="68580" y="15240"/>
                </a:lnTo>
                <a:lnTo>
                  <a:pt x="68580" y="15240"/>
                </a:lnTo>
                <a:lnTo>
                  <a:pt x="68580" y="15240"/>
                </a:lnTo>
                <a:lnTo>
                  <a:pt x="68580" y="22860"/>
                </a:lnTo>
                <a:lnTo>
                  <a:pt x="60960" y="22860"/>
                </a:lnTo>
                <a:lnTo>
                  <a:pt x="60960" y="22860"/>
                </a:lnTo>
                <a:lnTo>
                  <a:pt x="53340" y="22860"/>
                </a:lnTo>
                <a:lnTo>
                  <a:pt x="45720" y="22860"/>
                </a:lnTo>
                <a:lnTo>
                  <a:pt x="38100" y="22860"/>
                </a:lnTo>
                <a:lnTo>
                  <a:pt x="30480" y="22860"/>
                </a:lnTo>
                <a:lnTo>
                  <a:pt x="22860" y="30480"/>
                </a:lnTo>
                <a:lnTo>
                  <a:pt x="15240" y="30480"/>
                </a:lnTo>
                <a:lnTo>
                  <a:pt x="7620" y="30480"/>
                </a:lnTo>
                <a:lnTo>
                  <a:pt x="7620" y="30480"/>
                </a:lnTo>
                <a:lnTo>
                  <a:pt x="7620" y="30480"/>
                </a:lnTo>
                <a:lnTo>
                  <a:pt x="7620" y="3048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Freeform 4123"/>
          <p:cNvSpPr/>
          <p:nvPr/>
        </p:nvSpPr>
        <p:spPr>
          <a:xfrm>
            <a:off x="1989000" y="4251240"/>
            <a:ext cx="360" cy="7920"/>
          </a:xfrm>
          <a:custGeom>
            <a:avLst/>
            <a:gdLst>
              <a:gd name="textAreaLeft" fmla="*/ 0 w 360"/>
              <a:gd name="textAreaRight" fmla="*/ 720 w 3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7621">
                <a:moveTo>
                  <a:pt x="0" y="762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Freeform 4124"/>
          <p:cNvSpPr/>
          <p:nvPr/>
        </p:nvSpPr>
        <p:spPr>
          <a:xfrm>
            <a:off x="2095560" y="4251240"/>
            <a:ext cx="98280" cy="54000"/>
          </a:xfrm>
          <a:custGeom>
            <a:avLst/>
            <a:gdLst>
              <a:gd name="textAreaLeft" fmla="*/ 0 w 98280"/>
              <a:gd name="textAreaRight" fmla="*/ 98640 w 9828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99061" h="53341">
                <a:moveTo>
                  <a:pt x="30480" y="30480"/>
                </a:moveTo>
                <a:lnTo>
                  <a:pt x="22860" y="22860"/>
                </a:lnTo>
                <a:lnTo>
                  <a:pt x="15240" y="22860"/>
                </a:lnTo>
                <a:lnTo>
                  <a:pt x="15240" y="22860"/>
                </a:lnTo>
                <a:lnTo>
                  <a:pt x="15240" y="22860"/>
                </a:lnTo>
                <a:lnTo>
                  <a:pt x="15240" y="22860"/>
                </a:lnTo>
                <a:lnTo>
                  <a:pt x="7620" y="15240"/>
                </a:lnTo>
                <a:lnTo>
                  <a:pt x="7620" y="15240"/>
                </a:lnTo>
                <a:lnTo>
                  <a:pt x="7620" y="15240"/>
                </a:lnTo>
                <a:lnTo>
                  <a:pt x="0" y="15240"/>
                </a:lnTo>
                <a:lnTo>
                  <a:pt x="0" y="1524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7620" y="0"/>
                </a:lnTo>
                <a:lnTo>
                  <a:pt x="7620" y="0"/>
                </a:lnTo>
                <a:lnTo>
                  <a:pt x="15240" y="0"/>
                </a:lnTo>
                <a:lnTo>
                  <a:pt x="22860" y="0"/>
                </a:lnTo>
                <a:lnTo>
                  <a:pt x="30480" y="7620"/>
                </a:lnTo>
                <a:lnTo>
                  <a:pt x="38100" y="7620"/>
                </a:lnTo>
                <a:lnTo>
                  <a:pt x="45720" y="7620"/>
                </a:lnTo>
                <a:lnTo>
                  <a:pt x="45720" y="7620"/>
                </a:lnTo>
                <a:lnTo>
                  <a:pt x="53340" y="15240"/>
                </a:lnTo>
                <a:lnTo>
                  <a:pt x="60960" y="15240"/>
                </a:lnTo>
                <a:lnTo>
                  <a:pt x="60960" y="15240"/>
                </a:lnTo>
                <a:lnTo>
                  <a:pt x="68580" y="15240"/>
                </a:lnTo>
                <a:lnTo>
                  <a:pt x="68580" y="22860"/>
                </a:lnTo>
                <a:lnTo>
                  <a:pt x="68580" y="22860"/>
                </a:lnTo>
                <a:lnTo>
                  <a:pt x="68580" y="30480"/>
                </a:lnTo>
                <a:lnTo>
                  <a:pt x="68580" y="30480"/>
                </a:lnTo>
                <a:lnTo>
                  <a:pt x="68580" y="30480"/>
                </a:lnTo>
                <a:lnTo>
                  <a:pt x="68580" y="38100"/>
                </a:lnTo>
                <a:lnTo>
                  <a:pt x="60960" y="45720"/>
                </a:lnTo>
                <a:lnTo>
                  <a:pt x="60960" y="45720"/>
                </a:lnTo>
                <a:lnTo>
                  <a:pt x="53340" y="45720"/>
                </a:lnTo>
                <a:lnTo>
                  <a:pt x="53340" y="53340"/>
                </a:lnTo>
                <a:lnTo>
                  <a:pt x="45720" y="53340"/>
                </a:lnTo>
                <a:lnTo>
                  <a:pt x="38100" y="53340"/>
                </a:lnTo>
                <a:lnTo>
                  <a:pt x="30480" y="53340"/>
                </a:lnTo>
                <a:lnTo>
                  <a:pt x="22860" y="53340"/>
                </a:lnTo>
                <a:lnTo>
                  <a:pt x="15240" y="53340"/>
                </a:lnTo>
                <a:lnTo>
                  <a:pt x="15240" y="53340"/>
                </a:lnTo>
                <a:lnTo>
                  <a:pt x="7620" y="53340"/>
                </a:lnTo>
                <a:lnTo>
                  <a:pt x="7620" y="45720"/>
                </a:lnTo>
                <a:lnTo>
                  <a:pt x="0" y="45720"/>
                </a:lnTo>
                <a:lnTo>
                  <a:pt x="0" y="45720"/>
                </a:lnTo>
                <a:lnTo>
                  <a:pt x="0" y="38100"/>
                </a:lnTo>
                <a:lnTo>
                  <a:pt x="0" y="30480"/>
                </a:lnTo>
                <a:lnTo>
                  <a:pt x="7620" y="30480"/>
                </a:lnTo>
                <a:lnTo>
                  <a:pt x="7620" y="30480"/>
                </a:lnTo>
                <a:lnTo>
                  <a:pt x="15240" y="22860"/>
                </a:lnTo>
                <a:lnTo>
                  <a:pt x="22860" y="15240"/>
                </a:lnTo>
                <a:lnTo>
                  <a:pt x="30480" y="15240"/>
                </a:lnTo>
                <a:lnTo>
                  <a:pt x="38100" y="15240"/>
                </a:lnTo>
                <a:lnTo>
                  <a:pt x="45720" y="15240"/>
                </a:lnTo>
                <a:lnTo>
                  <a:pt x="53340" y="15240"/>
                </a:lnTo>
                <a:lnTo>
                  <a:pt x="60960" y="15240"/>
                </a:lnTo>
                <a:lnTo>
                  <a:pt x="68580" y="15240"/>
                </a:lnTo>
                <a:lnTo>
                  <a:pt x="76200" y="15240"/>
                </a:lnTo>
                <a:lnTo>
                  <a:pt x="83820" y="15240"/>
                </a:lnTo>
                <a:lnTo>
                  <a:pt x="83820" y="15240"/>
                </a:lnTo>
                <a:lnTo>
                  <a:pt x="83820" y="15240"/>
                </a:lnTo>
                <a:lnTo>
                  <a:pt x="91440" y="15240"/>
                </a:lnTo>
                <a:lnTo>
                  <a:pt x="91440" y="15240"/>
                </a:lnTo>
                <a:lnTo>
                  <a:pt x="91440" y="22860"/>
                </a:lnTo>
                <a:lnTo>
                  <a:pt x="83820" y="22860"/>
                </a:lnTo>
                <a:lnTo>
                  <a:pt x="83820" y="22860"/>
                </a:lnTo>
                <a:lnTo>
                  <a:pt x="76200" y="30480"/>
                </a:lnTo>
                <a:lnTo>
                  <a:pt x="68580" y="30480"/>
                </a:lnTo>
                <a:lnTo>
                  <a:pt x="60960" y="30480"/>
                </a:lnTo>
                <a:lnTo>
                  <a:pt x="53340" y="30480"/>
                </a:lnTo>
                <a:lnTo>
                  <a:pt x="45720" y="30480"/>
                </a:lnTo>
                <a:lnTo>
                  <a:pt x="38100" y="22860"/>
                </a:lnTo>
                <a:lnTo>
                  <a:pt x="30480" y="22860"/>
                </a:lnTo>
                <a:lnTo>
                  <a:pt x="15240" y="22860"/>
                </a:lnTo>
                <a:lnTo>
                  <a:pt x="15240" y="22860"/>
                </a:lnTo>
                <a:lnTo>
                  <a:pt x="7620" y="15240"/>
                </a:lnTo>
                <a:lnTo>
                  <a:pt x="7620" y="15240"/>
                </a:lnTo>
                <a:lnTo>
                  <a:pt x="7620" y="15240"/>
                </a:lnTo>
                <a:lnTo>
                  <a:pt x="7620" y="7620"/>
                </a:lnTo>
                <a:lnTo>
                  <a:pt x="7620" y="7620"/>
                </a:lnTo>
                <a:lnTo>
                  <a:pt x="15240" y="7620"/>
                </a:lnTo>
                <a:lnTo>
                  <a:pt x="22860" y="0"/>
                </a:lnTo>
                <a:lnTo>
                  <a:pt x="30480" y="0"/>
                </a:lnTo>
                <a:lnTo>
                  <a:pt x="38100" y="0"/>
                </a:lnTo>
                <a:lnTo>
                  <a:pt x="53340" y="0"/>
                </a:lnTo>
                <a:lnTo>
                  <a:pt x="60960" y="7620"/>
                </a:lnTo>
                <a:lnTo>
                  <a:pt x="68580" y="7620"/>
                </a:lnTo>
                <a:lnTo>
                  <a:pt x="76200" y="7620"/>
                </a:lnTo>
                <a:lnTo>
                  <a:pt x="83820" y="7620"/>
                </a:lnTo>
                <a:lnTo>
                  <a:pt x="91440" y="15240"/>
                </a:lnTo>
                <a:lnTo>
                  <a:pt x="99060" y="15240"/>
                </a:lnTo>
                <a:lnTo>
                  <a:pt x="99060" y="1524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Freeform 4125"/>
          <p:cNvSpPr/>
          <p:nvPr/>
        </p:nvSpPr>
        <p:spPr>
          <a:xfrm>
            <a:off x="808200" y="4251240"/>
            <a:ext cx="136440" cy="76320"/>
          </a:xfrm>
          <a:custGeom>
            <a:avLst/>
            <a:gdLst>
              <a:gd name="textAreaLeft" fmla="*/ 0 w 136440"/>
              <a:gd name="textAreaRight" fmla="*/ 136800 w 136440"/>
              <a:gd name="textAreaTop" fmla="*/ 0 h 76320"/>
              <a:gd name="textAreaBottom" fmla="*/ 76320 h 76320"/>
            </a:gdLst>
            <a:ahLst/>
            <a:rect l="textAreaLeft" t="textAreaTop" r="textAreaRight" b="textAreaBottom"/>
            <a:pathLst>
              <a:path w="137161" h="76201">
                <a:moveTo>
                  <a:pt x="53340" y="15240"/>
                </a:moveTo>
                <a:lnTo>
                  <a:pt x="53340" y="15240"/>
                </a:lnTo>
                <a:lnTo>
                  <a:pt x="53340" y="15240"/>
                </a:lnTo>
                <a:lnTo>
                  <a:pt x="53340" y="15240"/>
                </a:lnTo>
                <a:lnTo>
                  <a:pt x="53340" y="15240"/>
                </a:lnTo>
                <a:lnTo>
                  <a:pt x="53340" y="15240"/>
                </a:lnTo>
                <a:lnTo>
                  <a:pt x="53340" y="15240"/>
                </a:lnTo>
                <a:lnTo>
                  <a:pt x="53340" y="15240"/>
                </a:lnTo>
                <a:lnTo>
                  <a:pt x="53340" y="15240"/>
                </a:lnTo>
                <a:lnTo>
                  <a:pt x="53340" y="15240"/>
                </a:lnTo>
                <a:lnTo>
                  <a:pt x="53340" y="15240"/>
                </a:lnTo>
                <a:lnTo>
                  <a:pt x="53340" y="15240"/>
                </a:lnTo>
                <a:lnTo>
                  <a:pt x="53340" y="15240"/>
                </a:lnTo>
                <a:lnTo>
                  <a:pt x="53340" y="15240"/>
                </a:lnTo>
                <a:lnTo>
                  <a:pt x="53340" y="15240"/>
                </a:lnTo>
                <a:lnTo>
                  <a:pt x="53340" y="15240"/>
                </a:lnTo>
                <a:lnTo>
                  <a:pt x="53340" y="15240"/>
                </a:lnTo>
                <a:lnTo>
                  <a:pt x="45720" y="15240"/>
                </a:lnTo>
                <a:lnTo>
                  <a:pt x="45720" y="22860"/>
                </a:lnTo>
                <a:lnTo>
                  <a:pt x="38100" y="22860"/>
                </a:lnTo>
                <a:lnTo>
                  <a:pt x="38100" y="22860"/>
                </a:lnTo>
                <a:lnTo>
                  <a:pt x="30480" y="22860"/>
                </a:lnTo>
                <a:lnTo>
                  <a:pt x="22860" y="30480"/>
                </a:lnTo>
                <a:lnTo>
                  <a:pt x="22860" y="30480"/>
                </a:lnTo>
                <a:lnTo>
                  <a:pt x="15240" y="30480"/>
                </a:lnTo>
                <a:lnTo>
                  <a:pt x="15240" y="30480"/>
                </a:lnTo>
                <a:lnTo>
                  <a:pt x="7620" y="30480"/>
                </a:lnTo>
                <a:lnTo>
                  <a:pt x="7620" y="22860"/>
                </a:lnTo>
                <a:lnTo>
                  <a:pt x="0" y="22860"/>
                </a:lnTo>
                <a:lnTo>
                  <a:pt x="0" y="22860"/>
                </a:lnTo>
                <a:lnTo>
                  <a:pt x="0" y="22860"/>
                </a:lnTo>
                <a:lnTo>
                  <a:pt x="0" y="15240"/>
                </a:lnTo>
                <a:lnTo>
                  <a:pt x="0" y="15240"/>
                </a:lnTo>
                <a:lnTo>
                  <a:pt x="0" y="15240"/>
                </a:lnTo>
                <a:lnTo>
                  <a:pt x="7620" y="15240"/>
                </a:lnTo>
                <a:lnTo>
                  <a:pt x="7620" y="7620"/>
                </a:lnTo>
                <a:lnTo>
                  <a:pt x="15240" y="7620"/>
                </a:lnTo>
                <a:lnTo>
                  <a:pt x="30480" y="7620"/>
                </a:lnTo>
                <a:lnTo>
                  <a:pt x="38100" y="0"/>
                </a:lnTo>
                <a:lnTo>
                  <a:pt x="53340" y="0"/>
                </a:lnTo>
                <a:lnTo>
                  <a:pt x="68580" y="0"/>
                </a:lnTo>
                <a:lnTo>
                  <a:pt x="76200" y="0"/>
                </a:lnTo>
                <a:lnTo>
                  <a:pt x="91440" y="7620"/>
                </a:lnTo>
                <a:lnTo>
                  <a:pt x="99060" y="7620"/>
                </a:lnTo>
                <a:lnTo>
                  <a:pt x="106680" y="7620"/>
                </a:lnTo>
                <a:lnTo>
                  <a:pt x="121920" y="15240"/>
                </a:lnTo>
                <a:lnTo>
                  <a:pt x="121920" y="15240"/>
                </a:lnTo>
                <a:lnTo>
                  <a:pt x="129540" y="22860"/>
                </a:lnTo>
                <a:lnTo>
                  <a:pt x="129540" y="30480"/>
                </a:lnTo>
                <a:lnTo>
                  <a:pt x="137160" y="30480"/>
                </a:lnTo>
                <a:lnTo>
                  <a:pt x="137160" y="38100"/>
                </a:lnTo>
                <a:lnTo>
                  <a:pt x="129540" y="45720"/>
                </a:lnTo>
                <a:lnTo>
                  <a:pt x="129540" y="45720"/>
                </a:lnTo>
                <a:lnTo>
                  <a:pt x="121920" y="53340"/>
                </a:lnTo>
                <a:lnTo>
                  <a:pt x="114300" y="60960"/>
                </a:lnTo>
                <a:lnTo>
                  <a:pt x="106680" y="60960"/>
                </a:lnTo>
                <a:lnTo>
                  <a:pt x="99060" y="68580"/>
                </a:lnTo>
                <a:lnTo>
                  <a:pt x="83820" y="68580"/>
                </a:lnTo>
                <a:lnTo>
                  <a:pt x="76200" y="76200"/>
                </a:lnTo>
                <a:lnTo>
                  <a:pt x="60960" y="76200"/>
                </a:lnTo>
                <a:lnTo>
                  <a:pt x="53340" y="76200"/>
                </a:lnTo>
                <a:lnTo>
                  <a:pt x="45720" y="76200"/>
                </a:lnTo>
                <a:lnTo>
                  <a:pt x="38100" y="68580"/>
                </a:lnTo>
                <a:lnTo>
                  <a:pt x="30480" y="68580"/>
                </a:lnTo>
                <a:lnTo>
                  <a:pt x="30480" y="68580"/>
                </a:lnTo>
                <a:lnTo>
                  <a:pt x="30480" y="60960"/>
                </a:lnTo>
                <a:lnTo>
                  <a:pt x="30480" y="60960"/>
                </a:lnTo>
                <a:lnTo>
                  <a:pt x="30480" y="53340"/>
                </a:lnTo>
                <a:lnTo>
                  <a:pt x="38100" y="45720"/>
                </a:lnTo>
                <a:lnTo>
                  <a:pt x="45720" y="38100"/>
                </a:lnTo>
                <a:lnTo>
                  <a:pt x="45720" y="38100"/>
                </a:lnTo>
                <a:lnTo>
                  <a:pt x="53340" y="30480"/>
                </a:lnTo>
                <a:lnTo>
                  <a:pt x="68580" y="30480"/>
                </a:lnTo>
                <a:lnTo>
                  <a:pt x="76200" y="22860"/>
                </a:lnTo>
                <a:lnTo>
                  <a:pt x="83820" y="22860"/>
                </a:lnTo>
                <a:lnTo>
                  <a:pt x="91440" y="22860"/>
                </a:lnTo>
                <a:lnTo>
                  <a:pt x="91440" y="22860"/>
                </a:lnTo>
                <a:lnTo>
                  <a:pt x="99060" y="22860"/>
                </a:lnTo>
                <a:lnTo>
                  <a:pt x="99060" y="22860"/>
                </a:lnTo>
                <a:lnTo>
                  <a:pt x="99060" y="30480"/>
                </a:lnTo>
                <a:lnTo>
                  <a:pt x="99060" y="30480"/>
                </a:lnTo>
                <a:lnTo>
                  <a:pt x="99060" y="30480"/>
                </a:lnTo>
                <a:lnTo>
                  <a:pt x="91440" y="30480"/>
                </a:lnTo>
                <a:lnTo>
                  <a:pt x="91440" y="38100"/>
                </a:lnTo>
                <a:lnTo>
                  <a:pt x="83820" y="38100"/>
                </a:lnTo>
                <a:lnTo>
                  <a:pt x="76200" y="45720"/>
                </a:lnTo>
                <a:lnTo>
                  <a:pt x="68580" y="45720"/>
                </a:lnTo>
                <a:lnTo>
                  <a:pt x="68580" y="45720"/>
                </a:lnTo>
                <a:lnTo>
                  <a:pt x="60960" y="53340"/>
                </a:lnTo>
                <a:lnTo>
                  <a:pt x="60960" y="5334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0600" bIns="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Freeform 4126"/>
          <p:cNvSpPr/>
          <p:nvPr/>
        </p:nvSpPr>
        <p:spPr>
          <a:xfrm>
            <a:off x="1440000" y="3673440"/>
            <a:ext cx="114120" cy="68400"/>
          </a:xfrm>
          <a:custGeom>
            <a:avLst/>
            <a:gdLst>
              <a:gd name="textAreaLeft" fmla="*/ 0 w 114120"/>
              <a:gd name="textAreaRight" fmla="*/ 114480 w 11412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114301" h="68581">
                <a:moveTo>
                  <a:pt x="53340" y="0"/>
                </a:moveTo>
                <a:lnTo>
                  <a:pt x="53340" y="0"/>
                </a:lnTo>
                <a:lnTo>
                  <a:pt x="53340" y="0"/>
                </a:lnTo>
                <a:lnTo>
                  <a:pt x="53340" y="0"/>
                </a:lnTo>
                <a:lnTo>
                  <a:pt x="53340" y="0"/>
                </a:lnTo>
                <a:lnTo>
                  <a:pt x="45720" y="0"/>
                </a:lnTo>
                <a:lnTo>
                  <a:pt x="45720" y="0"/>
                </a:lnTo>
                <a:lnTo>
                  <a:pt x="45720" y="0"/>
                </a:lnTo>
                <a:lnTo>
                  <a:pt x="45720" y="0"/>
                </a:lnTo>
                <a:lnTo>
                  <a:pt x="45720" y="0"/>
                </a:lnTo>
                <a:lnTo>
                  <a:pt x="45720" y="0"/>
                </a:lnTo>
                <a:lnTo>
                  <a:pt x="45720" y="0"/>
                </a:lnTo>
                <a:lnTo>
                  <a:pt x="45720" y="0"/>
                </a:lnTo>
                <a:lnTo>
                  <a:pt x="45720" y="0"/>
                </a:lnTo>
                <a:lnTo>
                  <a:pt x="53340" y="0"/>
                </a:lnTo>
                <a:lnTo>
                  <a:pt x="53340" y="0"/>
                </a:lnTo>
                <a:lnTo>
                  <a:pt x="53340" y="0"/>
                </a:lnTo>
                <a:lnTo>
                  <a:pt x="60960" y="0"/>
                </a:lnTo>
                <a:lnTo>
                  <a:pt x="60960" y="0"/>
                </a:lnTo>
                <a:lnTo>
                  <a:pt x="68580" y="0"/>
                </a:lnTo>
                <a:lnTo>
                  <a:pt x="76200" y="0"/>
                </a:lnTo>
                <a:lnTo>
                  <a:pt x="76200" y="0"/>
                </a:lnTo>
                <a:lnTo>
                  <a:pt x="83820" y="0"/>
                </a:lnTo>
                <a:lnTo>
                  <a:pt x="83820" y="0"/>
                </a:lnTo>
                <a:lnTo>
                  <a:pt x="91440" y="0"/>
                </a:lnTo>
                <a:lnTo>
                  <a:pt x="99060" y="0"/>
                </a:lnTo>
                <a:lnTo>
                  <a:pt x="99060" y="7620"/>
                </a:lnTo>
                <a:lnTo>
                  <a:pt x="106680" y="7620"/>
                </a:lnTo>
                <a:lnTo>
                  <a:pt x="106680" y="15240"/>
                </a:lnTo>
                <a:lnTo>
                  <a:pt x="114300" y="15240"/>
                </a:lnTo>
                <a:lnTo>
                  <a:pt x="114300" y="22860"/>
                </a:lnTo>
                <a:lnTo>
                  <a:pt x="114300" y="22860"/>
                </a:lnTo>
                <a:lnTo>
                  <a:pt x="114300" y="30480"/>
                </a:lnTo>
                <a:lnTo>
                  <a:pt x="114300" y="38100"/>
                </a:lnTo>
                <a:lnTo>
                  <a:pt x="106680" y="45720"/>
                </a:lnTo>
                <a:lnTo>
                  <a:pt x="106680" y="45720"/>
                </a:lnTo>
                <a:lnTo>
                  <a:pt x="99060" y="53340"/>
                </a:lnTo>
                <a:lnTo>
                  <a:pt x="91440" y="60960"/>
                </a:lnTo>
                <a:lnTo>
                  <a:pt x="83820" y="60960"/>
                </a:lnTo>
                <a:lnTo>
                  <a:pt x="68580" y="60960"/>
                </a:lnTo>
                <a:lnTo>
                  <a:pt x="60960" y="68580"/>
                </a:lnTo>
                <a:lnTo>
                  <a:pt x="53340" y="68580"/>
                </a:lnTo>
                <a:lnTo>
                  <a:pt x="45720" y="68580"/>
                </a:lnTo>
                <a:lnTo>
                  <a:pt x="38100" y="68580"/>
                </a:lnTo>
                <a:lnTo>
                  <a:pt x="22860" y="68580"/>
                </a:lnTo>
                <a:lnTo>
                  <a:pt x="22860" y="68580"/>
                </a:lnTo>
                <a:lnTo>
                  <a:pt x="15240" y="68580"/>
                </a:lnTo>
                <a:lnTo>
                  <a:pt x="7620" y="60960"/>
                </a:lnTo>
                <a:lnTo>
                  <a:pt x="7620" y="53340"/>
                </a:lnTo>
                <a:lnTo>
                  <a:pt x="0" y="53340"/>
                </a:lnTo>
                <a:lnTo>
                  <a:pt x="0" y="45720"/>
                </a:lnTo>
                <a:lnTo>
                  <a:pt x="0" y="38100"/>
                </a:lnTo>
                <a:lnTo>
                  <a:pt x="7620" y="38100"/>
                </a:lnTo>
                <a:lnTo>
                  <a:pt x="7620" y="30480"/>
                </a:lnTo>
                <a:lnTo>
                  <a:pt x="15240" y="22860"/>
                </a:lnTo>
                <a:lnTo>
                  <a:pt x="22860" y="22860"/>
                </a:lnTo>
                <a:lnTo>
                  <a:pt x="30480" y="15240"/>
                </a:lnTo>
                <a:lnTo>
                  <a:pt x="45720" y="15240"/>
                </a:lnTo>
                <a:lnTo>
                  <a:pt x="53340" y="15240"/>
                </a:lnTo>
                <a:lnTo>
                  <a:pt x="60960" y="15240"/>
                </a:lnTo>
                <a:lnTo>
                  <a:pt x="68580" y="7620"/>
                </a:lnTo>
                <a:lnTo>
                  <a:pt x="68580" y="7620"/>
                </a:lnTo>
                <a:lnTo>
                  <a:pt x="76200" y="15240"/>
                </a:lnTo>
                <a:lnTo>
                  <a:pt x="76200" y="15240"/>
                </a:lnTo>
                <a:lnTo>
                  <a:pt x="76200" y="15240"/>
                </a:lnTo>
                <a:lnTo>
                  <a:pt x="76200" y="15240"/>
                </a:lnTo>
                <a:lnTo>
                  <a:pt x="76200" y="15240"/>
                </a:lnTo>
                <a:lnTo>
                  <a:pt x="68580" y="15240"/>
                </a:lnTo>
                <a:lnTo>
                  <a:pt x="60960" y="15240"/>
                </a:lnTo>
                <a:lnTo>
                  <a:pt x="53340" y="22860"/>
                </a:lnTo>
                <a:lnTo>
                  <a:pt x="45720" y="22860"/>
                </a:lnTo>
                <a:lnTo>
                  <a:pt x="38100" y="22860"/>
                </a:lnTo>
                <a:lnTo>
                  <a:pt x="30480" y="30480"/>
                </a:lnTo>
                <a:lnTo>
                  <a:pt x="30480" y="3048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Freeform 8192"/>
          <p:cNvSpPr/>
          <p:nvPr/>
        </p:nvSpPr>
        <p:spPr>
          <a:xfrm>
            <a:off x="1515960" y="4898880"/>
            <a:ext cx="144720" cy="130320"/>
          </a:xfrm>
          <a:custGeom>
            <a:avLst/>
            <a:gdLst>
              <a:gd name="textAreaLeft" fmla="*/ 0 w 144720"/>
              <a:gd name="textAreaRight" fmla="*/ 145080 w 14472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144781" h="129541">
                <a:moveTo>
                  <a:pt x="53340" y="38100"/>
                </a:moveTo>
                <a:lnTo>
                  <a:pt x="53340" y="38100"/>
                </a:lnTo>
                <a:lnTo>
                  <a:pt x="53340" y="30480"/>
                </a:lnTo>
                <a:lnTo>
                  <a:pt x="60960" y="30480"/>
                </a:lnTo>
                <a:lnTo>
                  <a:pt x="60960" y="30480"/>
                </a:lnTo>
                <a:lnTo>
                  <a:pt x="60960" y="30480"/>
                </a:lnTo>
                <a:lnTo>
                  <a:pt x="68580" y="30480"/>
                </a:lnTo>
                <a:lnTo>
                  <a:pt x="68580" y="30480"/>
                </a:lnTo>
                <a:lnTo>
                  <a:pt x="68580" y="30480"/>
                </a:lnTo>
                <a:lnTo>
                  <a:pt x="76200" y="30480"/>
                </a:lnTo>
                <a:lnTo>
                  <a:pt x="76200" y="30480"/>
                </a:lnTo>
                <a:lnTo>
                  <a:pt x="76200" y="30480"/>
                </a:lnTo>
                <a:lnTo>
                  <a:pt x="76200" y="30480"/>
                </a:lnTo>
                <a:lnTo>
                  <a:pt x="76200" y="30480"/>
                </a:lnTo>
                <a:lnTo>
                  <a:pt x="83820" y="30480"/>
                </a:lnTo>
                <a:lnTo>
                  <a:pt x="83820" y="30480"/>
                </a:lnTo>
                <a:lnTo>
                  <a:pt x="83820" y="30480"/>
                </a:lnTo>
                <a:lnTo>
                  <a:pt x="83820" y="30480"/>
                </a:lnTo>
                <a:lnTo>
                  <a:pt x="83820" y="30480"/>
                </a:lnTo>
                <a:lnTo>
                  <a:pt x="83820" y="30480"/>
                </a:lnTo>
                <a:lnTo>
                  <a:pt x="83820" y="30480"/>
                </a:lnTo>
                <a:lnTo>
                  <a:pt x="76200" y="38100"/>
                </a:lnTo>
                <a:lnTo>
                  <a:pt x="76200" y="38100"/>
                </a:lnTo>
                <a:lnTo>
                  <a:pt x="76200" y="38100"/>
                </a:lnTo>
                <a:lnTo>
                  <a:pt x="68580" y="38100"/>
                </a:lnTo>
                <a:lnTo>
                  <a:pt x="60960" y="38100"/>
                </a:lnTo>
                <a:lnTo>
                  <a:pt x="53340" y="38100"/>
                </a:lnTo>
                <a:lnTo>
                  <a:pt x="45720" y="38100"/>
                </a:lnTo>
                <a:lnTo>
                  <a:pt x="38100" y="38100"/>
                </a:lnTo>
                <a:lnTo>
                  <a:pt x="30480" y="38100"/>
                </a:lnTo>
                <a:lnTo>
                  <a:pt x="22860" y="30480"/>
                </a:lnTo>
                <a:lnTo>
                  <a:pt x="15240" y="30480"/>
                </a:lnTo>
                <a:lnTo>
                  <a:pt x="7620" y="30480"/>
                </a:lnTo>
                <a:lnTo>
                  <a:pt x="7620" y="30480"/>
                </a:lnTo>
                <a:lnTo>
                  <a:pt x="0" y="22860"/>
                </a:lnTo>
                <a:lnTo>
                  <a:pt x="0" y="22860"/>
                </a:lnTo>
                <a:lnTo>
                  <a:pt x="0" y="15240"/>
                </a:lnTo>
                <a:lnTo>
                  <a:pt x="0" y="15240"/>
                </a:lnTo>
                <a:lnTo>
                  <a:pt x="0" y="7620"/>
                </a:lnTo>
                <a:lnTo>
                  <a:pt x="0" y="7620"/>
                </a:lnTo>
                <a:lnTo>
                  <a:pt x="7620" y="0"/>
                </a:lnTo>
                <a:lnTo>
                  <a:pt x="15240" y="0"/>
                </a:lnTo>
                <a:lnTo>
                  <a:pt x="30480" y="0"/>
                </a:lnTo>
                <a:lnTo>
                  <a:pt x="38100" y="0"/>
                </a:lnTo>
                <a:lnTo>
                  <a:pt x="45720" y="0"/>
                </a:lnTo>
                <a:lnTo>
                  <a:pt x="60960" y="0"/>
                </a:lnTo>
                <a:lnTo>
                  <a:pt x="76200" y="0"/>
                </a:lnTo>
                <a:lnTo>
                  <a:pt x="83820" y="7620"/>
                </a:lnTo>
                <a:lnTo>
                  <a:pt x="91440" y="7620"/>
                </a:lnTo>
                <a:lnTo>
                  <a:pt x="106680" y="15240"/>
                </a:lnTo>
                <a:lnTo>
                  <a:pt x="114300" y="15240"/>
                </a:lnTo>
                <a:lnTo>
                  <a:pt x="121920" y="22860"/>
                </a:lnTo>
                <a:lnTo>
                  <a:pt x="129540" y="30480"/>
                </a:lnTo>
                <a:lnTo>
                  <a:pt x="129540" y="38100"/>
                </a:lnTo>
                <a:lnTo>
                  <a:pt x="137160" y="53340"/>
                </a:lnTo>
                <a:lnTo>
                  <a:pt x="137160" y="60960"/>
                </a:lnTo>
                <a:lnTo>
                  <a:pt x="137160" y="68580"/>
                </a:lnTo>
                <a:lnTo>
                  <a:pt x="137160" y="76200"/>
                </a:lnTo>
                <a:lnTo>
                  <a:pt x="137160" y="91440"/>
                </a:lnTo>
                <a:lnTo>
                  <a:pt x="129540" y="99060"/>
                </a:lnTo>
                <a:lnTo>
                  <a:pt x="129540" y="106680"/>
                </a:lnTo>
                <a:lnTo>
                  <a:pt x="121920" y="114300"/>
                </a:lnTo>
                <a:lnTo>
                  <a:pt x="114300" y="121920"/>
                </a:lnTo>
                <a:lnTo>
                  <a:pt x="106680" y="129540"/>
                </a:lnTo>
                <a:lnTo>
                  <a:pt x="99060" y="129540"/>
                </a:lnTo>
                <a:lnTo>
                  <a:pt x="91440" y="129540"/>
                </a:lnTo>
                <a:lnTo>
                  <a:pt x="83820" y="129540"/>
                </a:lnTo>
                <a:lnTo>
                  <a:pt x="76200" y="129540"/>
                </a:lnTo>
                <a:lnTo>
                  <a:pt x="68580" y="129540"/>
                </a:lnTo>
                <a:lnTo>
                  <a:pt x="53340" y="121920"/>
                </a:lnTo>
                <a:lnTo>
                  <a:pt x="53340" y="114300"/>
                </a:lnTo>
                <a:lnTo>
                  <a:pt x="45720" y="106680"/>
                </a:lnTo>
                <a:lnTo>
                  <a:pt x="45720" y="99060"/>
                </a:lnTo>
                <a:lnTo>
                  <a:pt x="45720" y="91440"/>
                </a:lnTo>
                <a:lnTo>
                  <a:pt x="45720" y="76200"/>
                </a:lnTo>
                <a:lnTo>
                  <a:pt x="45720" y="68580"/>
                </a:lnTo>
                <a:lnTo>
                  <a:pt x="45720" y="60960"/>
                </a:lnTo>
                <a:lnTo>
                  <a:pt x="45720" y="53340"/>
                </a:lnTo>
                <a:lnTo>
                  <a:pt x="53340" y="45720"/>
                </a:lnTo>
                <a:lnTo>
                  <a:pt x="60960" y="38100"/>
                </a:lnTo>
                <a:lnTo>
                  <a:pt x="68580" y="30480"/>
                </a:lnTo>
                <a:lnTo>
                  <a:pt x="76200" y="30480"/>
                </a:lnTo>
                <a:lnTo>
                  <a:pt x="83820" y="30480"/>
                </a:lnTo>
                <a:lnTo>
                  <a:pt x="91440" y="30480"/>
                </a:lnTo>
                <a:lnTo>
                  <a:pt x="99060" y="30480"/>
                </a:lnTo>
                <a:lnTo>
                  <a:pt x="114300" y="30480"/>
                </a:lnTo>
                <a:lnTo>
                  <a:pt x="121920" y="30480"/>
                </a:lnTo>
                <a:lnTo>
                  <a:pt x="129540" y="38100"/>
                </a:lnTo>
                <a:lnTo>
                  <a:pt x="137160" y="45720"/>
                </a:lnTo>
                <a:lnTo>
                  <a:pt x="144780" y="45720"/>
                </a:lnTo>
                <a:lnTo>
                  <a:pt x="144780" y="53340"/>
                </a:lnTo>
                <a:lnTo>
                  <a:pt x="144780" y="60960"/>
                </a:lnTo>
                <a:lnTo>
                  <a:pt x="144780" y="68580"/>
                </a:lnTo>
                <a:lnTo>
                  <a:pt x="144780" y="76200"/>
                </a:lnTo>
                <a:lnTo>
                  <a:pt x="144780" y="76200"/>
                </a:lnTo>
                <a:lnTo>
                  <a:pt x="137160" y="83820"/>
                </a:lnTo>
                <a:lnTo>
                  <a:pt x="129540" y="83820"/>
                </a:lnTo>
                <a:lnTo>
                  <a:pt x="121920" y="91440"/>
                </a:lnTo>
                <a:lnTo>
                  <a:pt x="114300" y="91440"/>
                </a:lnTo>
                <a:lnTo>
                  <a:pt x="106680" y="91440"/>
                </a:lnTo>
                <a:lnTo>
                  <a:pt x="91440" y="83820"/>
                </a:lnTo>
                <a:lnTo>
                  <a:pt x="83820" y="83820"/>
                </a:lnTo>
                <a:lnTo>
                  <a:pt x="68580" y="76200"/>
                </a:lnTo>
                <a:lnTo>
                  <a:pt x="60960" y="76200"/>
                </a:lnTo>
                <a:lnTo>
                  <a:pt x="45720" y="68580"/>
                </a:lnTo>
                <a:lnTo>
                  <a:pt x="38100" y="60960"/>
                </a:lnTo>
                <a:lnTo>
                  <a:pt x="30480" y="53340"/>
                </a:lnTo>
                <a:lnTo>
                  <a:pt x="30480" y="45720"/>
                </a:lnTo>
                <a:lnTo>
                  <a:pt x="22860" y="38100"/>
                </a:lnTo>
                <a:lnTo>
                  <a:pt x="22860" y="30480"/>
                </a:lnTo>
                <a:lnTo>
                  <a:pt x="22860" y="30480"/>
                </a:lnTo>
                <a:lnTo>
                  <a:pt x="30480" y="22860"/>
                </a:lnTo>
                <a:lnTo>
                  <a:pt x="38100" y="15240"/>
                </a:lnTo>
                <a:lnTo>
                  <a:pt x="45720" y="15240"/>
                </a:lnTo>
                <a:lnTo>
                  <a:pt x="53340" y="7620"/>
                </a:lnTo>
                <a:lnTo>
                  <a:pt x="68580" y="7620"/>
                </a:lnTo>
                <a:lnTo>
                  <a:pt x="83820" y="7620"/>
                </a:lnTo>
                <a:lnTo>
                  <a:pt x="91440" y="7620"/>
                </a:lnTo>
                <a:lnTo>
                  <a:pt x="106680" y="15240"/>
                </a:lnTo>
                <a:lnTo>
                  <a:pt x="114300" y="15240"/>
                </a:lnTo>
                <a:lnTo>
                  <a:pt x="121920" y="15240"/>
                </a:lnTo>
                <a:lnTo>
                  <a:pt x="121920" y="15240"/>
                </a:lnTo>
                <a:lnTo>
                  <a:pt x="121920" y="22860"/>
                </a:lnTo>
                <a:lnTo>
                  <a:pt x="121920" y="22860"/>
                </a:lnTo>
                <a:lnTo>
                  <a:pt x="121920" y="22860"/>
                </a:lnTo>
                <a:lnTo>
                  <a:pt x="114300" y="30480"/>
                </a:lnTo>
                <a:lnTo>
                  <a:pt x="106680" y="30480"/>
                </a:lnTo>
                <a:lnTo>
                  <a:pt x="99060" y="30480"/>
                </a:lnTo>
                <a:lnTo>
                  <a:pt x="91440" y="38100"/>
                </a:lnTo>
                <a:lnTo>
                  <a:pt x="76200" y="38100"/>
                </a:lnTo>
                <a:lnTo>
                  <a:pt x="68580" y="38100"/>
                </a:lnTo>
                <a:lnTo>
                  <a:pt x="53340" y="38100"/>
                </a:lnTo>
                <a:lnTo>
                  <a:pt x="45720" y="38100"/>
                </a:lnTo>
                <a:lnTo>
                  <a:pt x="38100" y="38100"/>
                </a:lnTo>
                <a:lnTo>
                  <a:pt x="30480" y="38100"/>
                </a:lnTo>
                <a:lnTo>
                  <a:pt x="22860" y="38100"/>
                </a:lnTo>
                <a:lnTo>
                  <a:pt x="22860" y="38100"/>
                </a:lnTo>
                <a:lnTo>
                  <a:pt x="22860" y="38100"/>
                </a:lnTo>
                <a:lnTo>
                  <a:pt x="22860" y="30480"/>
                </a:lnTo>
                <a:lnTo>
                  <a:pt x="22860" y="30480"/>
                </a:lnTo>
                <a:lnTo>
                  <a:pt x="22860" y="22860"/>
                </a:lnTo>
                <a:lnTo>
                  <a:pt x="30480" y="22860"/>
                </a:lnTo>
                <a:lnTo>
                  <a:pt x="38100" y="15240"/>
                </a:lnTo>
                <a:lnTo>
                  <a:pt x="45720" y="15240"/>
                </a:lnTo>
                <a:lnTo>
                  <a:pt x="53340" y="7620"/>
                </a:lnTo>
                <a:lnTo>
                  <a:pt x="68580" y="7620"/>
                </a:lnTo>
                <a:lnTo>
                  <a:pt x="83820" y="7620"/>
                </a:lnTo>
                <a:lnTo>
                  <a:pt x="91440" y="7620"/>
                </a:lnTo>
                <a:lnTo>
                  <a:pt x="99060" y="15240"/>
                </a:lnTo>
                <a:lnTo>
                  <a:pt x="106680" y="15240"/>
                </a:lnTo>
                <a:lnTo>
                  <a:pt x="121920" y="15240"/>
                </a:lnTo>
                <a:lnTo>
                  <a:pt x="129540" y="22860"/>
                </a:lnTo>
                <a:lnTo>
                  <a:pt x="129540" y="22860"/>
                </a:lnTo>
                <a:lnTo>
                  <a:pt x="129540" y="30480"/>
                </a:lnTo>
                <a:lnTo>
                  <a:pt x="137160" y="30480"/>
                </a:lnTo>
                <a:lnTo>
                  <a:pt x="129540" y="30480"/>
                </a:lnTo>
                <a:lnTo>
                  <a:pt x="129540" y="38100"/>
                </a:lnTo>
                <a:lnTo>
                  <a:pt x="121920" y="38100"/>
                </a:lnTo>
                <a:lnTo>
                  <a:pt x="114300" y="38100"/>
                </a:lnTo>
                <a:lnTo>
                  <a:pt x="106680" y="38100"/>
                </a:lnTo>
                <a:lnTo>
                  <a:pt x="99060" y="45720"/>
                </a:lnTo>
                <a:lnTo>
                  <a:pt x="83820" y="45720"/>
                </a:lnTo>
                <a:lnTo>
                  <a:pt x="76200" y="45720"/>
                </a:lnTo>
                <a:lnTo>
                  <a:pt x="68580" y="38100"/>
                </a:lnTo>
                <a:lnTo>
                  <a:pt x="53340" y="38100"/>
                </a:lnTo>
                <a:lnTo>
                  <a:pt x="45720" y="38100"/>
                </a:lnTo>
                <a:lnTo>
                  <a:pt x="38100" y="38100"/>
                </a:lnTo>
                <a:lnTo>
                  <a:pt x="30480" y="30480"/>
                </a:lnTo>
                <a:lnTo>
                  <a:pt x="30480" y="30480"/>
                </a:lnTo>
                <a:lnTo>
                  <a:pt x="30480" y="30480"/>
                </a:lnTo>
                <a:lnTo>
                  <a:pt x="30480" y="22860"/>
                </a:lnTo>
                <a:lnTo>
                  <a:pt x="30480" y="22860"/>
                </a:lnTo>
                <a:lnTo>
                  <a:pt x="38100" y="15240"/>
                </a:lnTo>
                <a:lnTo>
                  <a:pt x="45720" y="15240"/>
                </a:lnTo>
                <a:lnTo>
                  <a:pt x="53340" y="15240"/>
                </a:lnTo>
                <a:lnTo>
                  <a:pt x="68580" y="15240"/>
                </a:lnTo>
                <a:lnTo>
                  <a:pt x="68580" y="1524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Freeform 8193"/>
          <p:cNvSpPr/>
          <p:nvPr/>
        </p:nvSpPr>
        <p:spPr>
          <a:xfrm>
            <a:off x="960480" y="3649680"/>
            <a:ext cx="525600" cy="220680"/>
          </a:xfrm>
          <a:custGeom>
            <a:avLst/>
            <a:gdLst>
              <a:gd name="textAreaLeft" fmla="*/ 0 w 525600"/>
              <a:gd name="textAreaRight" fmla="*/ 525960 w 5256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525781" h="220981">
                <a:moveTo>
                  <a:pt x="525780" y="0"/>
                </a:moveTo>
                <a:lnTo>
                  <a:pt x="502920" y="0"/>
                </a:lnTo>
                <a:lnTo>
                  <a:pt x="487680" y="0"/>
                </a:lnTo>
                <a:lnTo>
                  <a:pt x="464820" y="0"/>
                </a:lnTo>
                <a:lnTo>
                  <a:pt x="441960" y="0"/>
                </a:lnTo>
                <a:lnTo>
                  <a:pt x="419100" y="0"/>
                </a:lnTo>
                <a:lnTo>
                  <a:pt x="396240" y="7620"/>
                </a:lnTo>
                <a:lnTo>
                  <a:pt x="373380" y="7620"/>
                </a:lnTo>
                <a:lnTo>
                  <a:pt x="342900" y="22860"/>
                </a:lnTo>
                <a:lnTo>
                  <a:pt x="320040" y="30480"/>
                </a:lnTo>
                <a:lnTo>
                  <a:pt x="281940" y="38100"/>
                </a:lnTo>
                <a:lnTo>
                  <a:pt x="251460" y="53340"/>
                </a:lnTo>
                <a:lnTo>
                  <a:pt x="220980" y="68580"/>
                </a:lnTo>
                <a:lnTo>
                  <a:pt x="190500" y="83820"/>
                </a:lnTo>
                <a:lnTo>
                  <a:pt x="160020" y="99060"/>
                </a:lnTo>
                <a:lnTo>
                  <a:pt x="121920" y="121920"/>
                </a:lnTo>
                <a:lnTo>
                  <a:pt x="91440" y="144780"/>
                </a:lnTo>
                <a:lnTo>
                  <a:pt x="60960" y="160020"/>
                </a:lnTo>
                <a:lnTo>
                  <a:pt x="38100" y="182880"/>
                </a:lnTo>
                <a:lnTo>
                  <a:pt x="0" y="220980"/>
                </a:lnTo>
                <a:lnTo>
                  <a:pt x="0" y="22098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8206"/>
          <p:cNvSpPr/>
          <p:nvPr/>
        </p:nvSpPr>
        <p:spPr>
          <a:xfrm>
            <a:off x="892080" y="3657600"/>
            <a:ext cx="501840" cy="274680"/>
          </a:xfrm>
          <a:custGeom>
            <a:avLst/>
            <a:gdLst>
              <a:gd name="textAreaLeft" fmla="*/ 0 w 501840"/>
              <a:gd name="textAreaRight" fmla="*/ 502200 w 50184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502921" h="274321">
                <a:moveTo>
                  <a:pt x="502920" y="0"/>
                </a:moveTo>
                <a:lnTo>
                  <a:pt x="487680" y="0"/>
                </a:lnTo>
                <a:lnTo>
                  <a:pt x="472440" y="0"/>
                </a:lnTo>
                <a:lnTo>
                  <a:pt x="449580" y="0"/>
                </a:lnTo>
                <a:lnTo>
                  <a:pt x="426720" y="0"/>
                </a:lnTo>
                <a:lnTo>
                  <a:pt x="403860" y="0"/>
                </a:lnTo>
                <a:lnTo>
                  <a:pt x="381000" y="0"/>
                </a:lnTo>
                <a:lnTo>
                  <a:pt x="358140" y="7620"/>
                </a:lnTo>
                <a:lnTo>
                  <a:pt x="327660" y="15240"/>
                </a:lnTo>
                <a:lnTo>
                  <a:pt x="304800" y="22860"/>
                </a:lnTo>
                <a:lnTo>
                  <a:pt x="274320" y="30480"/>
                </a:lnTo>
                <a:lnTo>
                  <a:pt x="251460" y="38100"/>
                </a:lnTo>
                <a:lnTo>
                  <a:pt x="220980" y="53340"/>
                </a:lnTo>
                <a:lnTo>
                  <a:pt x="198120" y="68580"/>
                </a:lnTo>
                <a:lnTo>
                  <a:pt x="167640" y="83820"/>
                </a:lnTo>
                <a:lnTo>
                  <a:pt x="137160" y="99060"/>
                </a:lnTo>
                <a:lnTo>
                  <a:pt x="114300" y="121920"/>
                </a:lnTo>
                <a:lnTo>
                  <a:pt x="91440" y="144780"/>
                </a:lnTo>
                <a:lnTo>
                  <a:pt x="68580" y="175260"/>
                </a:lnTo>
                <a:lnTo>
                  <a:pt x="45720" y="205740"/>
                </a:lnTo>
                <a:lnTo>
                  <a:pt x="30480" y="228600"/>
                </a:lnTo>
                <a:lnTo>
                  <a:pt x="0" y="274320"/>
                </a:lnTo>
                <a:lnTo>
                  <a:pt x="0" y="27432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Freeform 8207"/>
          <p:cNvSpPr/>
          <p:nvPr/>
        </p:nvSpPr>
        <p:spPr>
          <a:xfrm>
            <a:off x="808200" y="3787920"/>
            <a:ext cx="288720" cy="539640"/>
          </a:xfrm>
          <a:custGeom>
            <a:avLst/>
            <a:gdLst>
              <a:gd name="textAreaLeft" fmla="*/ 0 w 288720"/>
              <a:gd name="textAreaRight" fmla="*/ 289080 w 28872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89561" h="541021">
                <a:moveTo>
                  <a:pt x="289560" y="0"/>
                </a:moveTo>
                <a:lnTo>
                  <a:pt x="281940" y="0"/>
                </a:lnTo>
                <a:lnTo>
                  <a:pt x="266700" y="0"/>
                </a:lnTo>
                <a:lnTo>
                  <a:pt x="243840" y="0"/>
                </a:lnTo>
                <a:lnTo>
                  <a:pt x="228600" y="7620"/>
                </a:lnTo>
                <a:lnTo>
                  <a:pt x="220980" y="7620"/>
                </a:lnTo>
                <a:lnTo>
                  <a:pt x="205740" y="15240"/>
                </a:lnTo>
                <a:lnTo>
                  <a:pt x="190500" y="22860"/>
                </a:lnTo>
                <a:lnTo>
                  <a:pt x="175260" y="38100"/>
                </a:lnTo>
                <a:lnTo>
                  <a:pt x="160020" y="45720"/>
                </a:lnTo>
                <a:lnTo>
                  <a:pt x="152400" y="68580"/>
                </a:lnTo>
                <a:lnTo>
                  <a:pt x="129540" y="83820"/>
                </a:lnTo>
                <a:lnTo>
                  <a:pt x="114300" y="99060"/>
                </a:lnTo>
                <a:lnTo>
                  <a:pt x="99060" y="121920"/>
                </a:lnTo>
                <a:lnTo>
                  <a:pt x="83820" y="144780"/>
                </a:lnTo>
                <a:lnTo>
                  <a:pt x="68580" y="167640"/>
                </a:lnTo>
                <a:lnTo>
                  <a:pt x="53340" y="198120"/>
                </a:lnTo>
                <a:lnTo>
                  <a:pt x="38100" y="228600"/>
                </a:lnTo>
                <a:lnTo>
                  <a:pt x="22860" y="259080"/>
                </a:lnTo>
                <a:lnTo>
                  <a:pt x="15240" y="289560"/>
                </a:lnTo>
                <a:lnTo>
                  <a:pt x="0" y="320040"/>
                </a:lnTo>
                <a:lnTo>
                  <a:pt x="0" y="350520"/>
                </a:lnTo>
                <a:lnTo>
                  <a:pt x="0" y="381000"/>
                </a:lnTo>
                <a:lnTo>
                  <a:pt x="0" y="411480"/>
                </a:lnTo>
                <a:lnTo>
                  <a:pt x="0" y="441960"/>
                </a:lnTo>
                <a:lnTo>
                  <a:pt x="7620" y="464820"/>
                </a:lnTo>
                <a:lnTo>
                  <a:pt x="15240" y="480060"/>
                </a:lnTo>
                <a:lnTo>
                  <a:pt x="30480" y="502920"/>
                </a:lnTo>
                <a:lnTo>
                  <a:pt x="45720" y="518160"/>
                </a:lnTo>
                <a:lnTo>
                  <a:pt x="68580" y="541020"/>
                </a:lnTo>
                <a:lnTo>
                  <a:pt x="68580" y="54102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Freeform 8208"/>
          <p:cNvSpPr/>
          <p:nvPr/>
        </p:nvSpPr>
        <p:spPr>
          <a:xfrm>
            <a:off x="838080" y="3863880"/>
            <a:ext cx="92160" cy="311400"/>
          </a:xfrm>
          <a:custGeom>
            <a:avLst/>
            <a:gdLst>
              <a:gd name="textAreaLeft" fmla="*/ 0 w 92160"/>
              <a:gd name="textAreaRight" fmla="*/ 92520 w 92160"/>
              <a:gd name="textAreaTop" fmla="*/ 0 h 311400"/>
              <a:gd name="textAreaBottom" fmla="*/ 311760 h 311400"/>
            </a:gdLst>
            <a:ahLst/>
            <a:rect l="textAreaLeft" t="textAreaTop" r="textAreaRight" b="textAreaBottom"/>
            <a:pathLst>
              <a:path w="91441" h="312421">
                <a:moveTo>
                  <a:pt x="91440" y="0"/>
                </a:moveTo>
                <a:lnTo>
                  <a:pt x="83820" y="0"/>
                </a:lnTo>
                <a:lnTo>
                  <a:pt x="76200" y="7620"/>
                </a:lnTo>
                <a:lnTo>
                  <a:pt x="68580" y="15240"/>
                </a:lnTo>
                <a:lnTo>
                  <a:pt x="60960" y="30480"/>
                </a:lnTo>
                <a:lnTo>
                  <a:pt x="53340" y="38100"/>
                </a:lnTo>
                <a:lnTo>
                  <a:pt x="45720" y="53340"/>
                </a:lnTo>
                <a:lnTo>
                  <a:pt x="38100" y="68580"/>
                </a:lnTo>
                <a:lnTo>
                  <a:pt x="30480" y="83820"/>
                </a:lnTo>
                <a:lnTo>
                  <a:pt x="30480" y="106680"/>
                </a:lnTo>
                <a:lnTo>
                  <a:pt x="22860" y="129540"/>
                </a:lnTo>
                <a:lnTo>
                  <a:pt x="22860" y="152400"/>
                </a:lnTo>
                <a:lnTo>
                  <a:pt x="15240" y="175260"/>
                </a:lnTo>
                <a:lnTo>
                  <a:pt x="15240" y="205740"/>
                </a:lnTo>
                <a:lnTo>
                  <a:pt x="0" y="236220"/>
                </a:lnTo>
                <a:lnTo>
                  <a:pt x="0" y="266700"/>
                </a:lnTo>
                <a:lnTo>
                  <a:pt x="0" y="312420"/>
                </a:lnTo>
                <a:lnTo>
                  <a:pt x="0" y="31242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reeform 8209"/>
          <p:cNvSpPr/>
          <p:nvPr/>
        </p:nvSpPr>
        <p:spPr>
          <a:xfrm>
            <a:off x="853920" y="4275000"/>
            <a:ext cx="120960" cy="198720"/>
          </a:xfrm>
          <a:custGeom>
            <a:avLst/>
            <a:gdLst>
              <a:gd name="textAreaLeft" fmla="*/ 0 w 120960"/>
              <a:gd name="textAreaRight" fmla="*/ 121320 w 120960"/>
              <a:gd name="textAreaTop" fmla="*/ 0 h 198720"/>
              <a:gd name="textAreaBottom" fmla="*/ 199080 h 198720"/>
            </a:gdLst>
            <a:ahLst/>
            <a:rect l="textAreaLeft" t="textAreaTop" r="textAreaRight" b="textAreaBottom"/>
            <a:pathLst>
              <a:path w="121921" h="198121">
                <a:moveTo>
                  <a:pt x="0" y="0"/>
                </a:moveTo>
                <a:lnTo>
                  <a:pt x="0" y="22860"/>
                </a:lnTo>
                <a:lnTo>
                  <a:pt x="15240" y="60960"/>
                </a:lnTo>
                <a:lnTo>
                  <a:pt x="30480" y="91440"/>
                </a:lnTo>
                <a:lnTo>
                  <a:pt x="53340" y="121920"/>
                </a:lnTo>
                <a:lnTo>
                  <a:pt x="68580" y="144780"/>
                </a:lnTo>
                <a:lnTo>
                  <a:pt x="91440" y="167640"/>
                </a:lnTo>
                <a:lnTo>
                  <a:pt x="121920" y="198120"/>
                </a:lnTo>
                <a:lnTo>
                  <a:pt x="121920" y="19812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Freeform 8210"/>
          <p:cNvSpPr/>
          <p:nvPr/>
        </p:nvSpPr>
        <p:spPr>
          <a:xfrm>
            <a:off x="906480" y="4114800"/>
            <a:ext cx="30240" cy="228600"/>
          </a:xfrm>
          <a:custGeom>
            <a:avLst/>
            <a:gdLst>
              <a:gd name="textAreaLeft" fmla="*/ 0 w 30240"/>
              <a:gd name="textAreaRight" fmla="*/ 30600 w 302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30481" h="228601">
                <a:moveTo>
                  <a:pt x="0" y="0"/>
                </a:moveTo>
                <a:lnTo>
                  <a:pt x="0" y="15240"/>
                </a:lnTo>
                <a:lnTo>
                  <a:pt x="0" y="30480"/>
                </a:lnTo>
                <a:lnTo>
                  <a:pt x="0" y="53340"/>
                </a:lnTo>
                <a:lnTo>
                  <a:pt x="0" y="68580"/>
                </a:lnTo>
                <a:lnTo>
                  <a:pt x="0" y="91440"/>
                </a:lnTo>
                <a:lnTo>
                  <a:pt x="7620" y="114300"/>
                </a:lnTo>
                <a:lnTo>
                  <a:pt x="7620" y="137160"/>
                </a:lnTo>
                <a:lnTo>
                  <a:pt x="15240" y="160020"/>
                </a:lnTo>
                <a:lnTo>
                  <a:pt x="15240" y="190500"/>
                </a:lnTo>
                <a:lnTo>
                  <a:pt x="30480" y="228600"/>
                </a:lnTo>
                <a:lnTo>
                  <a:pt x="30480" y="22860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Freeform 8211"/>
          <p:cNvSpPr/>
          <p:nvPr/>
        </p:nvSpPr>
        <p:spPr>
          <a:xfrm>
            <a:off x="868320" y="4106880"/>
            <a:ext cx="228600" cy="587520"/>
          </a:xfrm>
          <a:custGeom>
            <a:avLst/>
            <a:gdLst>
              <a:gd name="textAreaLeft" fmla="*/ 0 w 228600"/>
              <a:gd name="textAreaRight" fmla="*/ 228960 w 228600"/>
              <a:gd name="textAreaTop" fmla="*/ 0 h 587520"/>
              <a:gd name="textAreaBottom" fmla="*/ 587520 h 587520"/>
            </a:gdLst>
            <a:ahLst/>
            <a:rect l="textAreaLeft" t="textAreaTop" r="textAreaRight" b="textAreaBottom"/>
            <a:pathLst>
              <a:path w="228601" h="586741">
                <a:moveTo>
                  <a:pt x="0" y="0"/>
                </a:moveTo>
                <a:lnTo>
                  <a:pt x="0" y="7620"/>
                </a:lnTo>
                <a:lnTo>
                  <a:pt x="0" y="22860"/>
                </a:lnTo>
                <a:lnTo>
                  <a:pt x="0" y="38100"/>
                </a:lnTo>
                <a:lnTo>
                  <a:pt x="0" y="53340"/>
                </a:lnTo>
                <a:lnTo>
                  <a:pt x="0" y="68580"/>
                </a:lnTo>
                <a:lnTo>
                  <a:pt x="0" y="83820"/>
                </a:lnTo>
                <a:lnTo>
                  <a:pt x="0" y="106680"/>
                </a:lnTo>
                <a:lnTo>
                  <a:pt x="0" y="129540"/>
                </a:lnTo>
                <a:lnTo>
                  <a:pt x="0" y="152400"/>
                </a:lnTo>
                <a:lnTo>
                  <a:pt x="0" y="175260"/>
                </a:lnTo>
                <a:lnTo>
                  <a:pt x="0" y="198120"/>
                </a:lnTo>
                <a:lnTo>
                  <a:pt x="0" y="228600"/>
                </a:lnTo>
                <a:lnTo>
                  <a:pt x="7620" y="259080"/>
                </a:lnTo>
                <a:lnTo>
                  <a:pt x="7620" y="289560"/>
                </a:lnTo>
                <a:lnTo>
                  <a:pt x="7620" y="312420"/>
                </a:lnTo>
                <a:lnTo>
                  <a:pt x="15240" y="342900"/>
                </a:lnTo>
                <a:lnTo>
                  <a:pt x="22860" y="373380"/>
                </a:lnTo>
                <a:lnTo>
                  <a:pt x="38100" y="403860"/>
                </a:lnTo>
                <a:lnTo>
                  <a:pt x="53340" y="434340"/>
                </a:lnTo>
                <a:lnTo>
                  <a:pt x="68580" y="457200"/>
                </a:lnTo>
                <a:lnTo>
                  <a:pt x="91440" y="487680"/>
                </a:lnTo>
                <a:lnTo>
                  <a:pt x="121920" y="510540"/>
                </a:lnTo>
                <a:lnTo>
                  <a:pt x="144780" y="533400"/>
                </a:lnTo>
                <a:lnTo>
                  <a:pt x="175260" y="556260"/>
                </a:lnTo>
                <a:lnTo>
                  <a:pt x="228600" y="586740"/>
                </a:lnTo>
                <a:lnTo>
                  <a:pt x="228600" y="58674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Freeform 8212"/>
          <p:cNvSpPr/>
          <p:nvPr/>
        </p:nvSpPr>
        <p:spPr>
          <a:xfrm>
            <a:off x="952560" y="4359240"/>
            <a:ext cx="403200" cy="563760"/>
          </a:xfrm>
          <a:custGeom>
            <a:avLst/>
            <a:gdLst>
              <a:gd name="textAreaLeft" fmla="*/ 0 w 403200"/>
              <a:gd name="textAreaRight" fmla="*/ 403560 w 40320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403861" h="563881">
                <a:moveTo>
                  <a:pt x="0" y="0"/>
                </a:moveTo>
                <a:lnTo>
                  <a:pt x="0" y="7620"/>
                </a:lnTo>
                <a:lnTo>
                  <a:pt x="0" y="30480"/>
                </a:lnTo>
                <a:lnTo>
                  <a:pt x="0" y="53340"/>
                </a:lnTo>
                <a:lnTo>
                  <a:pt x="7620" y="76200"/>
                </a:lnTo>
                <a:lnTo>
                  <a:pt x="15240" y="99060"/>
                </a:lnTo>
                <a:lnTo>
                  <a:pt x="22860" y="121920"/>
                </a:lnTo>
                <a:lnTo>
                  <a:pt x="38100" y="144780"/>
                </a:lnTo>
                <a:lnTo>
                  <a:pt x="53340" y="175260"/>
                </a:lnTo>
                <a:lnTo>
                  <a:pt x="60960" y="198120"/>
                </a:lnTo>
                <a:lnTo>
                  <a:pt x="76200" y="228600"/>
                </a:lnTo>
                <a:lnTo>
                  <a:pt x="99060" y="259080"/>
                </a:lnTo>
                <a:lnTo>
                  <a:pt x="121920" y="281940"/>
                </a:lnTo>
                <a:lnTo>
                  <a:pt x="144780" y="312420"/>
                </a:lnTo>
                <a:lnTo>
                  <a:pt x="167640" y="342900"/>
                </a:lnTo>
                <a:lnTo>
                  <a:pt x="190500" y="365760"/>
                </a:lnTo>
                <a:lnTo>
                  <a:pt x="220980" y="396240"/>
                </a:lnTo>
                <a:lnTo>
                  <a:pt x="243840" y="426720"/>
                </a:lnTo>
                <a:lnTo>
                  <a:pt x="274320" y="449580"/>
                </a:lnTo>
                <a:lnTo>
                  <a:pt x="304800" y="480060"/>
                </a:lnTo>
                <a:lnTo>
                  <a:pt x="327660" y="502920"/>
                </a:lnTo>
                <a:lnTo>
                  <a:pt x="358140" y="525780"/>
                </a:lnTo>
                <a:lnTo>
                  <a:pt x="403860" y="563880"/>
                </a:lnTo>
                <a:lnTo>
                  <a:pt x="403860" y="56388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Freeform 8213"/>
          <p:cNvSpPr/>
          <p:nvPr/>
        </p:nvSpPr>
        <p:spPr>
          <a:xfrm>
            <a:off x="1135080" y="4762440"/>
            <a:ext cx="541440" cy="250920"/>
          </a:xfrm>
          <a:custGeom>
            <a:avLst/>
            <a:gdLst>
              <a:gd name="textAreaLeft" fmla="*/ 0 w 541440"/>
              <a:gd name="textAreaRight" fmla="*/ 541800 w 54144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541021" h="251461">
                <a:moveTo>
                  <a:pt x="0" y="0"/>
                </a:moveTo>
                <a:lnTo>
                  <a:pt x="7620" y="7620"/>
                </a:lnTo>
                <a:lnTo>
                  <a:pt x="15240" y="30480"/>
                </a:lnTo>
                <a:lnTo>
                  <a:pt x="30480" y="45720"/>
                </a:lnTo>
                <a:lnTo>
                  <a:pt x="45720" y="60960"/>
                </a:lnTo>
                <a:lnTo>
                  <a:pt x="60960" y="76200"/>
                </a:lnTo>
                <a:lnTo>
                  <a:pt x="83820" y="91440"/>
                </a:lnTo>
                <a:lnTo>
                  <a:pt x="106680" y="106680"/>
                </a:lnTo>
                <a:lnTo>
                  <a:pt x="129540" y="114300"/>
                </a:lnTo>
                <a:lnTo>
                  <a:pt x="152400" y="137160"/>
                </a:lnTo>
                <a:lnTo>
                  <a:pt x="175260" y="144780"/>
                </a:lnTo>
                <a:lnTo>
                  <a:pt x="205740" y="160020"/>
                </a:lnTo>
                <a:lnTo>
                  <a:pt x="236220" y="175260"/>
                </a:lnTo>
                <a:lnTo>
                  <a:pt x="266700" y="190500"/>
                </a:lnTo>
                <a:lnTo>
                  <a:pt x="289560" y="205740"/>
                </a:lnTo>
                <a:lnTo>
                  <a:pt x="327660" y="213360"/>
                </a:lnTo>
                <a:lnTo>
                  <a:pt x="358140" y="228600"/>
                </a:lnTo>
                <a:lnTo>
                  <a:pt x="388620" y="236220"/>
                </a:lnTo>
                <a:lnTo>
                  <a:pt x="419100" y="236220"/>
                </a:lnTo>
                <a:lnTo>
                  <a:pt x="457200" y="243840"/>
                </a:lnTo>
                <a:lnTo>
                  <a:pt x="487680" y="243840"/>
                </a:lnTo>
                <a:lnTo>
                  <a:pt x="541020" y="251460"/>
                </a:lnTo>
                <a:lnTo>
                  <a:pt x="541020" y="25146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Freeform 8214"/>
          <p:cNvSpPr/>
          <p:nvPr/>
        </p:nvSpPr>
        <p:spPr>
          <a:xfrm>
            <a:off x="1440000" y="4602240"/>
            <a:ext cx="639720" cy="380880"/>
          </a:xfrm>
          <a:custGeom>
            <a:avLst/>
            <a:gdLst>
              <a:gd name="textAreaLeft" fmla="*/ 0 w 639720"/>
              <a:gd name="textAreaRight" fmla="*/ 640080 w 639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640081" h="381001">
                <a:moveTo>
                  <a:pt x="0" y="373380"/>
                </a:moveTo>
                <a:lnTo>
                  <a:pt x="0" y="373380"/>
                </a:lnTo>
                <a:lnTo>
                  <a:pt x="15240" y="373380"/>
                </a:lnTo>
                <a:lnTo>
                  <a:pt x="22860" y="381000"/>
                </a:lnTo>
                <a:lnTo>
                  <a:pt x="38100" y="381000"/>
                </a:lnTo>
                <a:lnTo>
                  <a:pt x="53340" y="381000"/>
                </a:lnTo>
                <a:lnTo>
                  <a:pt x="76200" y="381000"/>
                </a:lnTo>
                <a:lnTo>
                  <a:pt x="91440" y="381000"/>
                </a:lnTo>
                <a:lnTo>
                  <a:pt x="114300" y="373380"/>
                </a:lnTo>
                <a:lnTo>
                  <a:pt x="137160" y="373380"/>
                </a:lnTo>
                <a:lnTo>
                  <a:pt x="160020" y="365760"/>
                </a:lnTo>
                <a:lnTo>
                  <a:pt x="182880" y="358140"/>
                </a:lnTo>
                <a:lnTo>
                  <a:pt x="205740" y="350520"/>
                </a:lnTo>
                <a:lnTo>
                  <a:pt x="228600" y="342900"/>
                </a:lnTo>
                <a:lnTo>
                  <a:pt x="251460" y="327660"/>
                </a:lnTo>
                <a:lnTo>
                  <a:pt x="281940" y="320040"/>
                </a:lnTo>
                <a:lnTo>
                  <a:pt x="312420" y="304800"/>
                </a:lnTo>
                <a:lnTo>
                  <a:pt x="335280" y="289560"/>
                </a:lnTo>
                <a:lnTo>
                  <a:pt x="365760" y="266700"/>
                </a:lnTo>
                <a:lnTo>
                  <a:pt x="396240" y="251460"/>
                </a:lnTo>
                <a:lnTo>
                  <a:pt x="419100" y="228600"/>
                </a:lnTo>
                <a:lnTo>
                  <a:pt x="449580" y="205740"/>
                </a:lnTo>
                <a:lnTo>
                  <a:pt x="480060" y="182880"/>
                </a:lnTo>
                <a:lnTo>
                  <a:pt x="510540" y="152400"/>
                </a:lnTo>
                <a:lnTo>
                  <a:pt x="533400" y="129540"/>
                </a:lnTo>
                <a:lnTo>
                  <a:pt x="563880" y="99060"/>
                </a:lnTo>
                <a:lnTo>
                  <a:pt x="586740" y="68580"/>
                </a:lnTo>
                <a:lnTo>
                  <a:pt x="601980" y="45720"/>
                </a:lnTo>
                <a:lnTo>
                  <a:pt x="640080" y="0"/>
                </a:lnTo>
                <a:lnTo>
                  <a:pt x="640080" y="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Freeform 8215"/>
          <p:cNvSpPr/>
          <p:nvPr/>
        </p:nvSpPr>
        <p:spPr>
          <a:xfrm>
            <a:off x="1447920" y="4762440"/>
            <a:ext cx="571320" cy="206280"/>
          </a:xfrm>
          <a:custGeom>
            <a:avLst/>
            <a:gdLst>
              <a:gd name="textAreaLeft" fmla="*/ 0 w 571320"/>
              <a:gd name="textAreaRight" fmla="*/ 571680 w 5713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571501" h="205741">
                <a:moveTo>
                  <a:pt x="0" y="182880"/>
                </a:moveTo>
                <a:lnTo>
                  <a:pt x="0" y="182880"/>
                </a:lnTo>
                <a:lnTo>
                  <a:pt x="7620" y="182880"/>
                </a:lnTo>
                <a:lnTo>
                  <a:pt x="15240" y="190500"/>
                </a:lnTo>
                <a:lnTo>
                  <a:pt x="22860" y="190500"/>
                </a:lnTo>
                <a:lnTo>
                  <a:pt x="38100" y="190500"/>
                </a:lnTo>
                <a:lnTo>
                  <a:pt x="45720" y="198120"/>
                </a:lnTo>
                <a:lnTo>
                  <a:pt x="60960" y="198120"/>
                </a:lnTo>
                <a:lnTo>
                  <a:pt x="68580" y="198120"/>
                </a:lnTo>
                <a:lnTo>
                  <a:pt x="91440" y="205740"/>
                </a:lnTo>
                <a:lnTo>
                  <a:pt x="106680" y="205740"/>
                </a:lnTo>
                <a:lnTo>
                  <a:pt x="129540" y="205740"/>
                </a:lnTo>
                <a:lnTo>
                  <a:pt x="152400" y="205740"/>
                </a:lnTo>
                <a:lnTo>
                  <a:pt x="175260" y="205740"/>
                </a:lnTo>
                <a:lnTo>
                  <a:pt x="198120" y="198120"/>
                </a:lnTo>
                <a:lnTo>
                  <a:pt x="220980" y="198120"/>
                </a:lnTo>
                <a:lnTo>
                  <a:pt x="251460" y="190500"/>
                </a:lnTo>
                <a:lnTo>
                  <a:pt x="274320" y="190500"/>
                </a:lnTo>
                <a:lnTo>
                  <a:pt x="304800" y="175260"/>
                </a:lnTo>
                <a:lnTo>
                  <a:pt x="335280" y="167640"/>
                </a:lnTo>
                <a:lnTo>
                  <a:pt x="365760" y="160020"/>
                </a:lnTo>
                <a:lnTo>
                  <a:pt x="396240" y="144780"/>
                </a:lnTo>
                <a:lnTo>
                  <a:pt x="419100" y="129540"/>
                </a:lnTo>
                <a:lnTo>
                  <a:pt x="449580" y="114300"/>
                </a:lnTo>
                <a:lnTo>
                  <a:pt x="480060" y="91440"/>
                </a:lnTo>
                <a:lnTo>
                  <a:pt x="502920" y="76200"/>
                </a:lnTo>
                <a:lnTo>
                  <a:pt x="525780" y="53340"/>
                </a:lnTo>
                <a:lnTo>
                  <a:pt x="541020" y="30480"/>
                </a:lnTo>
                <a:lnTo>
                  <a:pt x="571500" y="0"/>
                </a:lnTo>
                <a:lnTo>
                  <a:pt x="571500" y="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Freeform 8216"/>
          <p:cNvSpPr/>
          <p:nvPr/>
        </p:nvSpPr>
        <p:spPr>
          <a:xfrm>
            <a:off x="1859040" y="4321080"/>
            <a:ext cx="358560" cy="540000"/>
          </a:xfrm>
          <a:custGeom>
            <a:avLst/>
            <a:gdLst>
              <a:gd name="textAreaLeft" fmla="*/ 0 w 358560"/>
              <a:gd name="textAreaRight" fmla="*/ 358920 w 35856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358141" h="541021">
                <a:moveTo>
                  <a:pt x="0" y="541020"/>
                </a:moveTo>
                <a:lnTo>
                  <a:pt x="7620" y="541020"/>
                </a:lnTo>
                <a:lnTo>
                  <a:pt x="22860" y="533400"/>
                </a:lnTo>
                <a:lnTo>
                  <a:pt x="30480" y="525780"/>
                </a:lnTo>
                <a:lnTo>
                  <a:pt x="45720" y="518160"/>
                </a:lnTo>
                <a:lnTo>
                  <a:pt x="68580" y="510540"/>
                </a:lnTo>
                <a:lnTo>
                  <a:pt x="83820" y="495300"/>
                </a:lnTo>
                <a:lnTo>
                  <a:pt x="99060" y="487680"/>
                </a:lnTo>
                <a:lnTo>
                  <a:pt x="121920" y="480060"/>
                </a:lnTo>
                <a:lnTo>
                  <a:pt x="144780" y="464820"/>
                </a:lnTo>
                <a:lnTo>
                  <a:pt x="167640" y="449580"/>
                </a:lnTo>
                <a:lnTo>
                  <a:pt x="182880" y="434340"/>
                </a:lnTo>
                <a:lnTo>
                  <a:pt x="205740" y="419100"/>
                </a:lnTo>
                <a:lnTo>
                  <a:pt x="228600" y="403860"/>
                </a:lnTo>
                <a:lnTo>
                  <a:pt x="251460" y="388620"/>
                </a:lnTo>
                <a:lnTo>
                  <a:pt x="266700" y="365760"/>
                </a:lnTo>
                <a:lnTo>
                  <a:pt x="289560" y="350520"/>
                </a:lnTo>
                <a:lnTo>
                  <a:pt x="304800" y="327660"/>
                </a:lnTo>
                <a:lnTo>
                  <a:pt x="320040" y="304800"/>
                </a:lnTo>
                <a:lnTo>
                  <a:pt x="335280" y="281940"/>
                </a:lnTo>
                <a:lnTo>
                  <a:pt x="342900" y="259080"/>
                </a:lnTo>
                <a:lnTo>
                  <a:pt x="350520" y="228600"/>
                </a:lnTo>
                <a:lnTo>
                  <a:pt x="358140" y="205740"/>
                </a:lnTo>
                <a:lnTo>
                  <a:pt x="358140" y="182880"/>
                </a:lnTo>
                <a:lnTo>
                  <a:pt x="358140" y="152400"/>
                </a:lnTo>
                <a:lnTo>
                  <a:pt x="358140" y="129540"/>
                </a:lnTo>
                <a:lnTo>
                  <a:pt x="350520" y="106680"/>
                </a:lnTo>
                <a:lnTo>
                  <a:pt x="342900" y="83820"/>
                </a:lnTo>
                <a:lnTo>
                  <a:pt x="335280" y="60960"/>
                </a:lnTo>
                <a:lnTo>
                  <a:pt x="320040" y="30480"/>
                </a:lnTo>
                <a:lnTo>
                  <a:pt x="297180" y="0"/>
                </a:lnTo>
                <a:lnTo>
                  <a:pt x="297180" y="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Freeform 8217"/>
          <p:cNvSpPr/>
          <p:nvPr/>
        </p:nvSpPr>
        <p:spPr>
          <a:xfrm>
            <a:off x="1859040" y="3894120"/>
            <a:ext cx="366480" cy="563760"/>
          </a:xfrm>
          <a:custGeom>
            <a:avLst/>
            <a:gdLst>
              <a:gd name="textAreaLeft" fmla="*/ 0 w 366480"/>
              <a:gd name="textAreaRight" fmla="*/ 366840 w 36648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365761" h="563881">
                <a:moveTo>
                  <a:pt x="251460" y="563880"/>
                </a:moveTo>
                <a:lnTo>
                  <a:pt x="251460" y="556260"/>
                </a:lnTo>
                <a:lnTo>
                  <a:pt x="266700" y="541020"/>
                </a:lnTo>
                <a:lnTo>
                  <a:pt x="274320" y="518160"/>
                </a:lnTo>
                <a:lnTo>
                  <a:pt x="281940" y="502920"/>
                </a:lnTo>
                <a:lnTo>
                  <a:pt x="297180" y="487680"/>
                </a:lnTo>
                <a:lnTo>
                  <a:pt x="304800" y="472440"/>
                </a:lnTo>
                <a:lnTo>
                  <a:pt x="320040" y="457200"/>
                </a:lnTo>
                <a:lnTo>
                  <a:pt x="327660" y="441960"/>
                </a:lnTo>
                <a:lnTo>
                  <a:pt x="335280" y="426720"/>
                </a:lnTo>
                <a:lnTo>
                  <a:pt x="342900" y="411480"/>
                </a:lnTo>
                <a:lnTo>
                  <a:pt x="350520" y="388620"/>
                </a:lnTo>
                <a:lnTo>
                  <a:pt x="358140" y="373380"/>
                </a:lnTo>
                <a:lnTo>
                  <a:pt x="365760" y="350520"/>
                </a:lnTo>
                <a:lnTo>
                  <a:pt x="365760" y="335280"/>
                </a:lnTo>
                <a:lnTo>
                  <a:pt x="365760" y="312420"/>
                </a:lnTo>
                <a:lnTo>
                  <a:pt x="365760" y="289560"/>
                </a:lnTo>
                <a:lnTo>
                  <a:pt x="358140" y="274320"/>
                </a:lnTo>
                <a:lnTo>
                  <a:pt x="350520" y="251460"/>
                </a:lnTo>
                <a:lnTo>
                  <a:pt x="342900" y="228600"/>
                </a:lnTo>
                <a:lnTo>
                  <a:pt x="327660" y="205740"/>
                </a:lnTo>
                <a:lnTo>
                  <a:pt x="312420" y="182880"/>
                </a:lnTo>
                <a:lnTo>
                  <a:pt x="289560" y="167640"/>
                </a:lnTo>
                <a:lnTo>
                  <a:pt x="274320" y="144780"/>
                </a:lnTo>
                <a:lnTo>
                  <a:pt x="251460" y="121920"/>
                </a:lnTo>
                <a:lnTo>
                  <a:pt x="228600" y="106680"/>
                </a:lnTo>
                <a:lnTo>
                  <a:pt x="198120" y="83820"/>
                </a:lnTo>
                <a:lnTo>
                  <a:pt x="175260" y="68580"/>
                </a:lnTo>
                <a:lnTo>
                  <a:pt x="152400" y="53340"/>
                </a:lnTo>
                <a:lnTo>
                  <a:pt x="121920" y="45720"/>
                </a:lnTo>
                <a:lnTo>
                  <a:pt x="99060" y="30480"/>
                </a:lnTo>
                <a:lnTo>
                  <a:pt x="76200" y="22860"/>
                </a:lnTo>
                <a:lnTo>
                  <a:pt x="53340" y="15240"/>
                </a:lnTo>
                <a:lnTo>
                  <a:pt x="30480" y="762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Freeform 8218"/>
          <p:cNvSpPr/>
          <p:nvPr/>
        </p:nvSpPr>
        <p:spPr>
          <a:xfrm>
            <a:off x="1501920" y="3679920"/>
            <a:ext cx="609480" cy="480960"/>
          </a:xfrm>
          <a:custGeom>
            <a:avLst/>
            <a:gdLst>
              <a:gd name="textAreaLeft" fmla="*/ 0 w 609480"/>
              <a:gd name="textAreaRight" fmla="*/ 609840 w 60948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609601" h="480061">
                <a:moveTo>
                  <a:pt x="609600" y="480060"/>
                </a:moveTo>
                <a:lnTo>
                  <a:pt x="609600" y="457200"/>
                </a:lnTo>
                <a:lnTo>
                  <a:pt x="609600" y="434340"/>
                </a:lnTo>
                <a:lnTo>
                  <a:pt x="601980" y="411480"/>
                </a:lnTo>
                <a:lnTo>
                  <a:pt x="601980" y="388620"/>
                </a:lnTo>
                <a:lnTo>
                  <a:pt x="594360" y="365760"/>
                </a:lnTo>
                <a:lnTo>
                  <a:pt x="586740" y="342900"/>
                </a:lnTo>
                <a:lnTo>
                  <a:pt x="579120" y="320040"/>
                </a:lnTo>
                <a:lnTo>
                  <a:pt x="563880" y="297180"/>
                </a:lnTo>
                <a:lnTo>
                  <a:pt x="556260" y="274320"/>
                </a:lnTo>
                <a:lnTo>
                  <a:pt x="541020" y="251460"/>
                </a:lnTo>
                <a:lnTo>
                  <a:pt x="533400" y="228600"/>
                </a:lnTo>
                <a:lnTo>
                  <a:pt x="510540" y="205740"/>
                </a:lnTo>
                <a:lnTo>
                  <a:pt x="495300" y="182880"/>
                </a:lnTo>
                <a:lnTo>
                  <a:pt x="464820" y="160020"/>
                </a:lnTo>
                <a:lnTo>
                  <a:pt x="441960" y="137160"/>
                </a:lnTo>
                <a:lnTo>
                  <a:pt x="419100" y="114300"/>
                </a:lnTo>
                <a:lnTo>
                  <a:pt x="388620" y="91440"/>
                </a:lnTo>
                <a:lnTo>
                  <a:pt x="358140" y="76200"/>
                </a:lnTo>
                <a:lnTo>
                  <a:pt x="320040" y="60960"/>
                </a:lnTo>
                <a:lnTo>
                  <a:pt x="281940" y="38100"/>
                </a:lnTo>
                <a:lnTo>
                  <a:pt x="251460" y="30480"/>
                </a:lnTo>
                <a:lnTo>
                  <a:pt x="213360" y="15240"/>
                </a:lnTo>
                <a:lnTo>
                  <a:pt x="175260" y="7620"/>
                </a:lnTo>
                <a:lnTo>
                  <a:pt x="137160" y="0"/>
                </a:lnTo>
                <a:lnTo>
                  <a:pt x="106680" y="0"/>
                </a:lnTo>
                <a:lnTo>
                  <a:pt x="68580" y="0"/>
                </a:lnTo>
                <a:lnTo>
                  <a:pt x="4572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Freeform 8219"/>
          <p:cNvSpPr/>
          <p:nvPr/>
        </p:nvSpPr>
        <p:spPr>
          <a:xfrm>
            <a:off x="1363680" y="3635280"/>
            <a:ext cx="130320" cy="22320"/>
          </a:xfrm>
          <a:custGeom>
            <a:avLst/>
            <a:gdLst>
              <a:gd name="textAreaLeft" fmla="*/ 0 w 130320"/>
              <a:gd name="textAreaRight" fmla="*/ 130680 w 1303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9541" h="22861">
                <a:moveTo>
                  <a:pt x="129540" y="22860"/>
                </a:moveTo>
                <a:lnTo>
                  <a:pt x="106680" y="22860"/>
                </a:lnTo>
                <a:lnTo>
                  <a:pt x="83820" y="15240"/>
                </a:lnTo>
                <a:lnTo>
                  <a:pt x="53340" y="15240"/>
                </a:lnTo>
                <a:lnTo>
                  <a:pt x="38100" y="7620"/>
                </a:lnTo>
                <a:lnTo>
                  <a:pt x="22860" y="7620"/>
                </a:lnTo>
                <a:lnTo>
                  <a:pt x="15240" y="7620"/>
                </a:lnTo>
                <a:lnTo>
                  <a:pt x="7620" y="0"/>
                </a:lnTo>
                <a:lnTo>
                  <a:pt x="0" y="0"/>
                </a:lnTo>
                <a:lnTo>
                  <a:pt x="0" y="0"/>
                </a:lnTo>
                <a:lnTo>
                  <a:pt x="7620" y="0"/>
                </a:lnTo>
                <a:lnTo>
                  <a:pt x="7620" y="0"/>
                </a:lnTo>
                <a:lnTo>
                  <a:pt x="22860" y="0"/>
                </a:lnTo>
                <a:lnTo>
                  <a:pt x="38100" y="7620"/>
                </a:lnTo>
                <a:lnTo>
                  <a:pt x="38100" y="762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Freeform 8220"/>
          <p:cNvSpPr/>
          <p:nvPr/>
        </p:nvSpPr>
        <p:spPr>
          <a:xfrm>
            <a:off x="1455840" y="3641760"/>
            <a:ext cx="693720" cy="655560"/>
          </a:xfrm>
          <a:custGeom>
            <a:avLst/>
            <a:gdLst>
              <a:gd name="textAreaLeft" fmla="*/ 0 w 693720"/>
              <a:gd name="textAreaRight" fmla="*/ 694080 w 693720"/>
              <a:gd name="textAreaTop" fmla="*/ 0 h 655560"/>
              <a:gd name="textAreaBottom" fmla="*/ 655920 h 655560"/>
            </a:gdLst>
            <a:ahLst/>
            <a:rect l="textAreaLeft" t="textAreaTop" r="textAreaRight" b="textAreaBottom"/>
            <a:pathLst>
              <a:path w="693421" h="655321">
                <a:moveTo>
                  <a:pt x="0" y="0"/>
                </a:moveTo>
                <a:lnTo>
                  <a:pt x="15240" y="7620"/>
                </a:lnTo>
                <a:lnTo>
                  <a:pt x="45720" y="15240"/>
                </a:lnTo>
                <a:lnTo>
                  <a:pt x="76200" y="22860"/>
                </a:lnTo>
                <a:lnTo>
                  <a:pt x="106680" y="30480"/>
                </a:lnTo>
                <a:lnTo>
                  <a:pt x="129540" y="38100"/>
                </a:lnTo>
                <a:lnTo>
                  <a:pt x="160020" y="45720"/>
                </a:lnTo>
                <a:lnTo>
                  <a:pt x="190500" y="60960"/>
                </a:lnTo>
                <a:lnTo>
                  <a:pt x="213360" y="68580"/>
                </a:lnTo>
                <a:lnTo>
                  <a:pt x="243840" y="76200"/>
                </a:lnTo>
                <a:lnTo>
                  <a:pt x="274320" y="91440"/>
                </a:lnTo>
                <a:lnTo>
                  <a:pt x="297180" y="106680"/>
                </a:lnTo>
                <a:lnTo>
                  <a:pt x="327660" y="121920"/>
                </a:lnTo>
                <a:lnTo>
                  <a:pt x="358140" y="137160"/>
                </a:lnTo>
                <a:lnTo>
                  <a:pt x="381000" y="160020"/>
                </a:lnTo>
                <a:lnTo>
                  <a:pt x="411480" y="175260"/>
                </a:lnTo>
                <a:lnTo>
                  <a:pt x="434340" y="198120"/>
                </a:lnTo>
                <a:lnTo>
                  <a:pt x="464820" y="213360"/>
                </a:lnTo>
                <a:lnTo>
                  <a:pt x="487680" y="236220"/>
                </a:lnTo>
                <a:lnTo>
                  <a:pt x="502920" y="259080"/>
                </a:lnTo>
                <a:lnTo>
                  <a:pt x="525780" y="281940"/>
                </a:lnTo>
                <a:lnTo>
                  <a:pt x="548640" y="304800"/>
                </a:lnTo>
                <a:lnTo>
                  <a:pt x="563880" y="327660"/>
                </a:lnTo>
                <a:lnTo>
                  <a:pt x="579120" y="350520"/>
                </a:lnTo>
                <a:lnTo>
                  <a:pt x="594360" y="373380"/>
                </a:lnTo>
                <a:lnTo>
                  <a:pt x="609600" y="396240"/>
                </a:lnTo>
                <a:lnTo>
                  <a:pt x="624840" y="419100"/>
                </a:lnTo>
                <a:lnTo>
                  <a:pt x="632460" y="441960"/>
                </a:lnTo>
                <a:lnTo>
                  <a:pt x="647700" y="464820"/>
                </a:lnTo>
                <a:lnTo>
                  <a:pt x="655320" y="487680"/>
                </a:lnTo>
                <a:lnTo>
                  <a:pt x="662940" y="510540"/>
                </a:lnTo>
                <a:lnTo>
                  <a:pt x="670560" y="533400"/>
                </a:lnTo>
                <a:lnTo>
                  <a:pt x="678180" y="556260"/>
                </a:lnTo>
                <a:lnTo>
                  <a:pt x="678180" y="579120"/>
                </a:lnTo>
                <a:lnTo>
                  <a:pt x="685800" y="594360"/>
                </a:lnTo>
                <a:lnTo>
                  <a:pt x="685800" y="609600"/>
                </a:lnTo>
                <a:lnTo>
                  <a:pt x="685800" y="632460"/>
                </a:lnTo>
                <a:lnTo>
                  <a:pt x="693420" y="655320"/>
                </a:lnTo>
                <a:lnTo>
                  <a:pt x="693420" y="65532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Freeform 8221"/>
          <p:cNvSpPr/>
          <p:nvPr/>
        </p:nvSpPr>
        <p:spPr>
          <a:xfrm>
            <a:off x="2011320" y="3978360"/>
            <a:ext cx="144360" cy="647640"/>
          </a:xfrm>
          <a:custGeom>
            <a:avLst/>
            <a:gdLst>
              <a:gd name="textAreaLeft" fmla="*/ 0 w 144360"/>
              <a:gd name="textAreaRight" fmla="*/ 144720 w 14436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144781" h="647701">
                <a:moveTo>
                  <a:pt x="0" y="0"/>
                </a:moveTo>
                <a:lnTo>
                  <a:pt x="7620" y="0"/>
                </a:lnTo>
                <a:lnTo>
                  <a:pt x="15240" y="15240"/>
                </a:lnTo>
                <a:lnTo>
                  <a:pt x="22860" y="30480"/>
                </a:lnTo>
                <a:lnTo>
                  <a:pt x="30480" y="38100"/>
                </a:lnTo>
                <a:lnTo>
                  <a:pt x="38100" y="53340"/>
                </a:lnTo>
                <a:lnTo>
                  <a:pt x="45720" y="68580"/>
                </a:lnTo>
                <a:lnTo>
                  <a:pt x="53340" y="91440"/>
                </a:lnTo>
                <a:lnTo>
                  <a:pt x="60960" y="114300"/>
                </a:lnTo>
                <a:lnTo>
                  <a:pt x="68580" y="137160"/>
                </a:lnTo>
                <a:lnTo>
                  <a:pt x="83820" y="152400"/>
                </a:lnTo>
                <a:lnTo>
                  <a:pt x="91440" y="182880"/>
                </a:lnTo>
                <a:lnTo>
                  <a:pt x="99060" y="205740"/>
                </a:lnTo>
                <a:lnTo>
                  <a:pt x="114300" y="236220"/>
                </a:lnTo>
                <a:lnTo>
                  <a:pt x="121920" y="259080"/>
                </a:lnTo>
                <a:lnTo>
                  <a:pt x="129540" y="289560"/>
                </a:lnTo>
                <a:lnTo>
                  <a:pt x="129540" y="320040"/>
                </a:lnTo>
                <a:lnTo>
                  <a:pt x="137160" y="342900"/>
                </a:lnTo>
                <a:lnTo>
                  <a:pt x="144780" y="381000"/>
                </a:lnTo>
                <a:lnTo>
                  <a:pt x="144780" y="403860"/>
                </a:lnTo>
                <a:lnTo>
                  <a:pt x="144780" y="434340"/>
                </a:lnTo>
                <a:lnTo>
                  <a:pt x="144780" y="457200"/>
                </a:lnTo>
                <a:lnTo>
                  <a:pt x="144780" y="487680"/>
                </a:lnTo>
                <a:lnTo>
                  <a:pt x="144780" y="510540"/>
                </a:lnTo>
                <a:lnTo>
                  <a:pt x="137160" y="533400"/>
                </a:lnTo>
                <a:lnTo>
                  <a:pt x="129540" y="563880"/>
                </a:lnTo>
                <a:lnTo>
                  <a:pt x="121920" y="579120"/>
                </a:lnTo>
                <a:lnTo>
                  <a:pt x="114300" y="601980"/>
                </a:lnTo>
                <a:lnTo>
                  <a:pt x="99060" y="624840"/>
                </a:lnTo>
                <a:lnTo>
                  <a:pt x="83820" y="647700"/>
                </a:lnTo>
                <a:lnTo>
                  <a:pt x="83820" y="64770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Freeform 8222"/>
          <p:cNvSpPr/>
          <p:nvPr/>
        </p:nvSpPr>
        <p:spPr>
          <a:xfrm>
            <a:off x="1477800" y="4168800"/>
            <a:ext cx="671760" cy="806400"/>
          </a:xfrm>
          <a:custGeom>
            <a:avLst/>
            <a:gdLst>
              <a:gd name="textAreaLeft" fmla="*/ 0 w 671760"/>
              <a:gd name="textAreaRight" fmla="*/ 672120 w 67176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670561" h="807721">
                <a:moveTo>
                  <a:pt x="670560" y="0"/>
                </a:moveTo>
                <a:lnTo>
                  <a:pt x="670560" y="7620"/>
                </a:lnTo>
                <a:lnTo>
                  <a:pt x="662940" y="22860"/>
                </a:lnTo>
                <a:lnTo>
                  <a:pt x="662940" y="38100"/>
                </a:lnTo>
                <a:lnTo>
                  <a:pt x="662940" y="53340"/>
                </a:lnTo>
                <a:lnTo>
                  <a:pt x="662940" y="68580"/>
                </a:lnTo>
                <a:lnTo>
                  <a:pt x="662940" y="83820"/>
                </a:lnTo>
                <a:lnTo>
                  <a:pt x="662940" y="99060"/>
                </a:lnTo>
                <a:lnTo>
                  <a:pt x="655320" y="121920"/>
                </a:lnTo>
                <a:lnTo>
                  <a:pt x="655320" y="144780"/>
                </a:lnTo>
                <a:lnTo>
                  <a:pt x="655320" y="160020"/>
                </a:lnTo>
                <a:lnTo>
                  <a:pt x="655320" y="182880"/>
                </a:lnTo>
                <a:lnTo>
                  <a:pt x="655320" y="205740"/>
                </a:lnTo>
                <a:lnTo>
                  <a:pt x="655320" y="228600"/>
                </a:lnTo>
                <a:lnTo>
                  <a:pt x="655320" y="251460"/>
                </a:lnTo>
                <a:lnTo>
                  <a:pt x="647700" y="274320"/>
                </a:lnTo>
                <a:lnTo>
                  <a:pt x="647700" y="297180"/>
                </a:lnTo>
                <a:lnTo>
                  <a:pt x="647700" y="320040"/>
                </a:lnTo>
                <a:lnTo>
                  <a:pt x="640080" y="350520"/>
                </a:lnTo>
                <a:lnTo>
                  <a:pt x="632460" y="373380"/>
                </a:lnTo>
                <a:lnTo>
                  <a:pt x="624840" y="396240"/>
                </a:lnTo>
                <a:lnTo>
                  <a:pt x="624840" y="419100"/>
                </a:lnTo>
                <a:lnTo>
                  <a:pt x="617220" y="441960"/>
                </a:lnTo>
                <a:lnTo>
                  <a:pt x="609600" y="464820"/>
                </a:lnTo>
                <a:lnTo>
                  <a:pt x="601980" y="487680"/>
                </a:lnTo>
                <a:lnTo>
                  <a:pt x="586740" y="510540"/>
                </a:lnTo>
                <a:lnTo>
                  <a:pt x="579120" y="533400"/>
                </a:lnTo>
                <a:lnTo>
                  <a:pt x="571500" y="556260"/>
                </a:lnTo>
                <a:lnTo>
                  <a:pt x="556260" y="571500"/>
                </a:lnTo>
                <a:lnTo>
                  <a:pt x="548640" y="586740"/>
                </a:lnTo>
                <a:lnTo>
                  <a:pt x="533400" y="609600"/>
                </a:lnTo>
                <a:lnTo>
                  <a:pt x="525780" y="624840"/>
                </a:lnTo>
                <a:lnTo>
                  <a:pt x="510540" y="640080"/>
                </a:lnTo>
                <a:lnTo>
                  <a:pt x="495300" y="655320"/>
                </a:lnTo>
                <a:lnTo>
                  <a:pt x="487680" y="670560"/>
                </a:lnTo>
                <a:lnTo>
                  <a:pt x="472440" y="678180"/>
                </a:lnTo>
                <a:lnTo>
                  <a:pt x="457200" y="693420"/>
                </a:lnTo>
                <a:lnTo>
                  <a:pt x="441960" y="701040"/>
                </a:lnTo>
                <a:lnTo>
                  <a:pt x="426720" y="716280"/>
                </a:lnTo>
                <a:lnTo>
                  <a:pt x="411480" y="723900"/>
                </a:lnTo>
                <a:lnTo>
                  <a:pt x="396240" y="731520"/>
                </a:lnTo>
                <a:lnTo>
                  <a:pt x="381000" y="739140"/>
                </a:lnTo>
                <a:lnTo>
                  <a:pt x="365760" y="746760"/>
                </a:lnTo>
                <a:lnTo>
                  <a:pt x="350520" y="754380"/>
                </a:lnTo>
                <a:lnTo>
                  <a:pt x="335280" y="762000"/>
                </a:lnTo>
                <a:lnTo>
                  <a:pt x="320040" y="769620"/>
                </a:lnTo>
                <a:lnTo>
                  <a:pt x="304800" y="769620"/>
                </a:lnTo>
                <a:lnTo>
                  <a:pt x="289560" y="777240"/>
                </a:lnTo>
                <a:lnTo>
                  <a:pt x="274320" y="784860"/>
                </a:lnTo>
                <a:lnTo>
                  <a:pt x="259080" y="784860"/>
                </a:lnTo>
                <a:lnTo>
                  <a:pt x="236220" y="792480"/>
                </a:lnTo>
                <a:lnTo>
                  <a:pt x="220980" y="792480"/>
                </a:lnTo>
                <a:lnTo>
                  <a:pt x="205740" y="792480"/>
                </a:lnTo>
                <a:lnTo>
                  <a:pt x="190500" y="800100"/>
                </a:lnTo>
                <a:lnTo>
                  <a:pt x="175260" y="800100"/>
                </a:lnTo>
                <a:lnTo>
                  <a:pt x="160020" y="800100"/>
                </a:lnTo>
                <a:lnTo>
                  <a:pt x="144780" y="807720"/>
                </a:lnTo>
                <a:lnTo>
                  <a:pt x="129540" y="807720"/>
                </a:lnTo>
                <a:lnTo>
                  <a:pt x="114300" y="807720"/>
                </a:lnTo>
                <a:lnTo>
                  <a:pt x="91440" y="807720"/>
                </a:lnTo>
                <a:lnTo>
                  <a:pt x="76200" y="807720"/>
                </a:lnTo>
                <a:lnTo>
                  <a:pt x="68580" y="800100"/>
                </a:lnTo>
                <a:lnTo>
                  <a:pt x="45720" y="800100"/>
                </a:lnTo>
                <a:lnTo>
                  <a:pt x="38100" y="800100"/>
                </a:lnTo>
                <a:lnTo>
                  <a:pt x="22860" y="792480"/>
                </a:lnTo>
                <a:lnTo>
                  <a:pt x="15240" y="792480"/>
                </a:lnTo>
                <a:lnTo>
                  <a:pt x="0" y="784860"/>
                </a:lnTo>
                <a:lnTo>
                  <a:pt x="0" y="78486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Freeform 8223"/>
          <p:cNvSpPr/>
          <p:nvPr/>
        </p:nvSpPr>
        <p:spPr>
          <a:xfrm>
            <a:off x="884160" y="3657600"/>
            <a:ext cx="1271520" cy="1311120"/>
          </a:xfrm>
          <a:custGeom>
            <a:avLst/>
            <a:gdLst>
              <a:gd name="textAreaLeft" fmla="*/ 0 w 1271520"/>
              <a:gd name="textAreaRight" fmla="*/ 1271880 w 1271520"/>
              <a:gd name="textAreaTop" fmla="*/ 0 h 1311120"/>
              <a:gd name="textAreaBottom" fmla="*/ 1311480 h 1311120"/>
            </a:gdLst>
            <a:ahLst/>
            <a:rect l="textAreaLeft" t="textAreaTop" r="textAreaRight" b="textAreaBottom"/>
            <a:pathLst>
              <a:path w="1272541" h="1310641">
                <a:moveTo>
                  <a:pt x="883920" y="1257300"/>
                </a:moveTo>
                <a:lnTo>
                  <a:pt x="876300" y="1264920"/>
                </a:lnTo>
                <a:lnTo>
                  <a:pt x="876300" y="1264920"/>
                </a:lnTo>
                <a:lnTo>
                  <a:pt x="868680" y="1272540"/>
                </a:lnTo>
                <a:lnTo>
                  <a:pt x="868680" y="1272540"/>
                </a:lnTo>
                <a:lnTo>
                  <a:pt x="861060" y="1280160"/>
                </a:lnTo>
                <a:lnTo>
                  <a:pt x="853440" y="1280160"/>
                </a:lnTo>
                <a:lnTo>
                  <a:pt x="838200" y="1287780"/>
                </a:lnTo>
                <a:lnTo>
                  <a:pt x="830580" y="1287780"/>
                </a:lnTo>
                <a:lnTo>
                  <a:pt x="822960" y="1295400"/>
                </a:lnTo>
                <a:lnTo>
                  <a:pt x="815340" y="1295400"/>
                </a:lnTo>
                <a:lnTo>
                  <a:pt x="807720" y="1303020"/>
                </a:lnTo>
                <a:lnTo>
                  <a:pt x="800100" y="1303020"/>
                </a:lnTo>
                <a:lnTo>
                  <a:pt x="784860" y="1303020"/>
                </a:lnTo>
                <a:lnTo>
                  <a:pt x="769620" y="1303020"/>
                </a:lnTo>
                <a:lnTo>
                  <a:pt x="762000" y="1303020"/>
                </a:lnTo>
                <a:lnTo>
                  <a:pt x="746760" y="1310640"/>
                </a:lnTo>
                <a:lnTo>
                  <a:pt x="731520" y="1310640"/>
                </a:lnTo>
                <a:lnTo>
                  <a:pt x="716280" y="1310640"/>
                </a:lnTo>
                <a:lnTo>
                  <a:pt x="701040" y="1310640"/>
                </a:lnTo>
                <a:lnTo>
                  <a:pt x="685800" y="1303020"/>
                </a:lnTo>
                <a:lnTo>
                  <a:pt x="670560" y="1303020"/>
                </a:lnTo>
                <a:lnTo>
                  <a:pt x="655320" y="1303020"/>
                </a:lnTo>
                <a:lnTo>
                  <a:pt x="632460" y="1303020"/>
                </a:lnTo>
                <a:lnTo>
                  <a:pt x="617220" y="1295400"/>
                </a:lnTo>
                <a:lnTo>
                  <a:pt x="601980" y="1287780"/>
                </a:lnTo>
                <a:lnTo>
                  <a:pt x="586740" y="1287780"/>
                </a:lnTo>
                <a:lnTo>
                  <a:pt x="571500" y="1280160"/>
                </a:lnTo>
                <a:lnTo>
                  <a:pt x="556260" y="1272540"/>
                </a:lnTo>
                <a:lnTo>
                  <a:pt x="533400" y="1272540"/>
                </a:lnTo>
                <a:lnTo>
                  <a:pt x="518160" y="1264920"/>
                </a:lnTo>
                <a:lnTo>
                  <a:pt x="502920" y="1257300"/>
                </a:lnTo>
                <a:lnTo>
                  <a:pt x="487680" y="1249680"/>
                </a:lnTo>
                <a:lnTo>
                  <a:pt x="472440" y="1242060"/>
                </a:lnTo>
                <a:lnTo>
                  <a:pt x="457200" y="1234440"/>
                </a:lnTo>
                <a:lnTo>
                  <a:pt x="441960" y="1234440"/>
                </a:lnTo>
                <a:lnTo>
                  <a:pt x="426720" y="1219200"/>
                </a:lnTo>
                <a:lnTo>
                  <a:pt x="411480" y="1211580"/>
                </a:lnTo>
                <a:lnTo>
                  <a:pt x="396240" y="1203960"/>
                </a:lnTo>
                <a:lnTo>
                  <a:pt x="381000" y="1196340"/>
                </a:lnTo>
                <a:lnTo>
                  <a:pt x="373380" y="1188720"/>
                </a:lnTo>
                <a:lnTo>
                  <a:pt x="358140" y="1181100"/>
                </a:lnTo>
                <a:lnTo>
                  <a:pt x="342900" y="1165860"/>
                </a:lnTo>
                <a:lnTo>
                  <a:pt x="327660" y="1158240"/>
                </a:lnTo>
                <a:lnTo>
                  <a:pt x="312420" y="1143000"/>
                </a:lnTo>
                <a:lnTo>
                  <a:pt x="297180" y="1135380"/>
                </a:lnTo>
                <a:lnTo>
                  <a:pt x="289560" y="1127760"/>
                </a:lnTo>
                <a:lnTo>
                  <a:pt x="274320" y="1112520"/>
                </a:lnTo>
                <a:lnTo>
                  <a:pt x="266700" y="1104900"/>
                </a:lnTo>
                <a:lnTo>
                  <a:pt x="251460" y="1089660"/>
                </a:lnTo>
                <a:lnTo>
                  <a:pt x="243840" y="1082040"/>
                </a:lnTo>
                <a:lnTo>
                  <a:pt x="228600" y="1066800"/>
                </a:lnTo>
                <a:lnTo>
                  <a:pt x="220980" y="1059180"/>
                </a:lnTo>
                <a:lnTo>
                  <a:pt x="213360" y="1043940"/>
                </a:lnTo>
                <a:lnTo>
                  <a:pt x="198120" y="1028700"/>
                </a:lnTo>
                <a:lnTo>
                  <a:pt x="190500" y="1021080"/>
                </a:lnTo>
                <a:lnTo>
                  <a:pt x="182880" y="1005840"/>
                </a:lnTo>
                <a:lnTo>
                  <a:pt x="175260" y="990600"/>
                </a:lnTo>
                <a:lnTo>
                  <a:pt x="167640" y="975360"/>
                </a:lnTo>
                <a:lnTo>
                  <a:pt x="152400" y="967740"/>
                </a:lnTo>
                <a:lnTo>
                  <a:pt x="144780" y="952500"/>
                </a:lnTo>
                <a:lnTo>
                  <a:pt x="137160" y="937260"/>
                </a:lnTo>
                <a:lnTo>
                  <a:pt x="129540" y="929640"/>
                </a:lnTo>
                <a:lnTo>
                  <a:pt x="121920" y="914400"/>
                </a:lnTo>
                <a:lnTo>
                  <a:pt x="121920" y="899160"/>
                </a:lnTo>
                <a:lnTo>
                  <a:pt x="114300" y="883920"/>
                </a:lnTo>
                <a:lnTo>
                  <a:pt x="106680" y="876300"/>
                </a:lnTo>
                <a:lnTo>
                  <a:pt x="99060" y="861060"/>
                </a:lnTo>
                <a:lnTo>
                  <a:pt x="91440" y="845820"/>
                </a:lnTo>
                <a:lnTo>
                  <a:pt x="91440" y="830580"/>
                </a:lnTo>
                <a:lnTo>
                  <a:pt x="83820" y="815340"/>
                </a:lnTo>
                <a:lnTo>
                  <a:pt x="76200" y="807720"/>
                </a:lnTo>
                <a:lnTo>
                  <a:pt x="76200" y="792480"/>
                </a:lnTo>
                <a:lnTo>
                  <a:pt x="68580" y="777240"/>
                </a:lnTo>
                <a:lnTo>
                  <a:pt x="68580" y="762000"/>
                </a:lnTo>
                <a:lnTo>
                  <a:pt x="60960" y="754380"/>
                </a:lnTo>
                <a:lnTo>
                  <a:pt x="53340" y="739140"/>
                </a:lnTo>
                <a:lnTo>
                  <a:pt x="53340" y="723900"/>
                </a:lnTo>
                <a:lnTo>
                  <a:pt x="45720" y="708660"/>
                </a:lnTo>
                <a:lnTo>
                  <a:pt x="45720" y="693420"/>
                </a:lnTo>
                <a:lnTo>
                  <a:pt x="38100" y="685800"/>
                </a:lnTo>
                <a:lnTo>
                  <a:pt x="38100" y="670560"/>
                </a:lnTo>
                <a:lnTo>
                  <a:pt x="30480" y="655320"/>
                </a:lnTo>
                <a:lnTo>
                  <a:pt x="30480" y="640080"/>
                </a:lnTo>
                <a:lnTo>
                  <a:pt x="30480" y="632460"/>
                </a:lnTo>
                <a:lnTo>
                  <a:pt x="22860" y="617220"/>
                </a:lnTo>
                <a:lnTo>
                  <a:pt x="22860" y="601980"/>
                </a:lnTo>
                <a:lnTo>
                  <a:pt x="15240" y="594360"/>
                </a:lnTo>
                <a:lnTo>
                  <a:pt x="15240" y="579120"/>
                </a:lnTo>
                <a:lnTo>
                  <a:pt x="15240" y="563880"/>
                </a:lnTo>
                <a:lnTo>
                  <a:pt x="7620" y="548640"/>
                </a:lnTo>
                <a:lnTo>
                  <a:pt x="7620" y="533400"/>
                </a:lnTo>
                <a:lnTo>
                  <a:pt x="7620" y="525780"/>
                </a:lnTo>
                <a:lnTo>
                  <a:pt x="0" y="510540"/>
                </a:lnTo>
                <a:lnTo>
                  <a:pt x="0" y="495300"/>
                </a:lnTo>
                <a:lnTo>
                  <a:pt x="7620" y="480060"/>
                </a:lnTo>
                <a:lnTo>
                  <a:pt x="7620" y="464820"/>
                </a:lnTo>
                <a:lnTo>
                  <a:pt x="7620" y="457200"/>
                </a:lnTo>
                <a:lnTo>
                  <a:pt x="7620" y="441960"/>
                </a:lnTo>
                <a:lnTo>
                  <a:pt x="15240" y="426720"/>
                </a:lnTo>
                <a:lnTo>
                  <a:pt x="15240" y="411480"/>
                </a:lnTo>
                <a:lnTo>
                  <a:pt x="15240" y="396240"/>
                </a:lnTo>
                <a:lnTo>
                  <a:pt x="22860" y="381000"/>
                </a:lnTo>
                <a:lnTo>
                  <a:pt x="30480" y="365760"/>
                </a:lnTo>
                <a:lnTo>
                  <a:pt x="30480" y="350520"/>
                </a:lnTo>
                <a:lnTo>
                  <a:pt x="38100" y="335280"/>
                </a:lnTo>
                <a:lnTo>
                  <a:pt x="45720" y="327660"/>
                </a:lnTo>
                <a:lnTo>
                  <a:pt x="53340" y="304800"/>
                </a:lnTo>
                <a:lnTo>
                  <a:pt x="60960" y="297180"/>
                </a:lnTo>
                <a:lnTo>
                  <a:pt x="76200" y="281940"/>
                </a:lnTo>
                <a:lnTo>
                  <a:pt x="83820" y="266700"/>
                </a:lnTo>
                <a:lnTo>
                  <a:pt x="91440" y="251460"/>
                </a:lnTo>
                <a:lnTo>
                  <a:pt x="106680" y="236220"/>
                </a:lnTo>
                <a:lnTo>
                  <a:pt x="114300" y="220980"/>
                </a:lnTo>
                <a:lnTo>
                  <a:pt x="129540" y="213360"/>
                </a:lnTo>
                <a:lnTo>
                  <a:pt x="144780" y="198120"/>
                </a:lnTo>
                <a:lnTo>
                  <a:pt x="152400" y="182880"/>
                </a:lnTo>
                <a:lnTo>
                  <a:pt x="167640" y="175260"/>
                </a:lnTo>
                <a:lnTo>
                  <a:pt x="182880" y="160020"/>
                </a:lnTo>
                <a:lnTo>
                  <a:pt x="198120" y="152400"/>
                </a:lnTo>
                <a:lnTo>
                  <a:pt x="220980" y="137160"/>
                </a:lnTo>
                <a:lnTo>
                  <a:pt x="236220" y="129540"/>
                </a:lnTo>
                <a:lnTo>
                  <a:pt x="259080" y="114300"/>
                </a:lnTo>
                <a:lnTo>
                  <a:pt x="274320" y="106680"/>
                </a:lnTo>
                <a:lnTo>
                  <a:pt x="289560" y="99060"/>
                </a:lnTo>
                <a:lnTo>
                  <a:pt x="312420" y="83820"/>
                </a:lnTo>
                <a:lnTo>
                  <a:pt x="327660" y="76200"/>
                </a:lnTo>
                <a:lnTo>
                  <a:pt x="342900" y="68580"/>
                </a:lnTo>
                <a:lnTo>
                  <a:pt x="365760" y="60960"/>
                </a:lnTo>
                <a:lnTo>
                  <a:pt x="381000" y="53340"/>
                </a:lnTo>
                <a:lnTo>
                  <a:pt x="396240" y="45720"/>
                </a:lnTo>
                <a:lnTo>
                  <a:pt x="419100" y="38100"/>
                </a:lnTo>
                <a:lnTo>
                  <a:pt x="434340" y="30480"/>
                </a:lnTo>
                <a:lnTo>
                  <a:pt x="457200" y="22860"/>
                </a:lnTo>
                <a:lnTo>
                  <a:pt x="472440" y="15240"/>
                </a:lnTo>
                <a:lnTo>
                  <a:pt x="495300" y="15240"/>
                </a:lnTo>
                <a:lnTo>
                  <a:pt x="510540" y="7620"/>
                </a:lnTo>
                <a:lnTo>
                  <a:pt x="533400" y="7620"/>
                </a:lnTo>
                <a:lnTo>
                  <a:pt x="548640" y="0"/>
                </a:lnTo>
                <a:lnTo>
                  <a:pt x="571500" y="0"/>
                </a:lnTo>
                <a:lnTo>
                  <a:pt x="586740" y="0"/>
                </a:lnTo>
                <a:lnTo>
                  <a:pt x="609600" y="0"/>
                </a:lnTo>
                <a:lnTo>
                  <a:pt x="632460" y="0"/>
                </a:lnTo>
                <a:lnTo>
                  <a:pt x="647700" y="0"/>
                </a:lnTo>
                <a:lnTo>
                  <a:pt x="670560" y="0"/>
                </a:lnTo>
                <a:lnTo>
                  <a:pt x="685800" y="0"/>
                </a:lnTo>
                <a:lnTo>
                  <a:pt x="708660" y="7620"/>
                </a:lnTo>
                <a:lnTo>
                  <a:pt x="723900" y="7620"/>
                </a:lnTo>
                <a:lnTo>
                  <a:pt x="746760" y="15240"/>
                </a:lnTo>
                <a:lnTo>
                  <a:pt x="762000" y="15240"/>
                </a:lnTo>
                <a:lnTo>
                  <a:pt x="777240" y="22860"/>
                </a:lnTo>
                <a:lnTo>
                  <a:pt x="800100" y="30480"/>
                </a:lnTo>
                <a:lnTo>
                  <a:pt x="815340" y="30480"/>
                </a:lnTo>
                <a:lnTo>
                  <a:pt x="830580" y="38100"/>
                </a:lnTo>
                <a:lnTo>
                  <a:pt x="853440" y="45720"/>
                </a:lnTo>
                <a:lnTo>
                  <a:pt x="868680" y="53340"/>
                </a:lnTo>
                <a:lnTo>
                  <a:pt x="883920" y="60960"/>
                </a:lnTo>
                <a:lnTo>
                  <a:pt x="899160" y="68580"/>
                </a:lnTo>
                <a:lnTo>
                  <a:pt x="914400" y="83820"/>
                </a:lnTo>
                <a:lnTo>
                  <a:pt x="929640" y="91440"/>
                </a:lnTo>
                <a:lnTo>
                  <a:pt x="944880" y="99060"/>
                </a:lnTo>
                <a:lnTo>
                  <a:pt x="960120" y="114300"/>
                </a:lnTo>
                <a:lnTo>
                  <a:pt x="975360" y="121920"/>
                </a:lnTo>
                <a:lnTo>
                  <a:pt x="990600" y="137160"/>
                </a:lnTo>
                <a:lnTo>
                  <a:pt x="1005840" y="152400"/>
                </a:lnTo>
                <a:lnTo>
                  <a:pt x="1021080" y="160020"/>
                </a:lnTo>
                <a:lnTo>
                  <a:pt x="1036320" y="175260"/>
                </a:lnTo>
                <a:lnTo>
                  <a:pt x="1051560" y="190500"/>
                </a:lnTo>
                <a:lnTo>
                  <a:pt x="1059180" y="205740"/>
                </a:lnTo>
                <a:lnTo>
                  <a:pt x="1074420" y="220980"/>
                </a:lnTo>
                <a:lnTo>
                  <a:pt x="1082040" y="236220"/>
                </a:lnTo>
                <a:lnTo>
                  <a:pt x="1097280" y="251460"/>
                </a:lnTo>
                <a:lnTo>
                  <a:pt x="1112520" y="266700"/>
                </a:lnTo>
                <a:lnTo>
                  <a:pt x="1120140" y="281940"/>
                </a:lnTo>
                <a:lnTo>
                  <a:pt x="1135380" y="297180"/>
                </a:lnTo>
                <a:lnTo>
                  <a:pt x="1143000" y="312420"/>
                </a:lnTo>
                <a:lnTo>
                  <a:pt x="1158240" y="327660"/>
                </a:lnTo>
                <a:lnTo>
                  <a:pt x="1165860" y="342900"/>
                </a:lnTo>
                <a:lnTo>
                  <a:pt x="1173480" y="358140"/>
                </a:lnTo>
                <a:lnTo>
                  <a:pt x="1181100" y="373380"/>
                </a:lnTo>
                <a:lnTo>
                  <a:pt x="1196340" y="388620"/>
                </a:lnTo>
                <a:lnTo>
                  <a:pt x="1203960" y="411480"/>
                </a:lnTo>
                <a:lnTo>
                  <a:pt x="1211580" y="426720"/>
                </a:lnTo>
                <a:lnTo>
                  <a:pt x="1219200" y="441960"/>
                </a:lnTo>
                <a:lnTo>
                  <a:pt x="1226820" y="457200"/>
                </a:lnTo>
                <a:lnTo>
                  <a:pt x="1234440" y="472440"/>
                </a:lnTo>
                <a:lnTo>
                  <a:pt x="1242060" y="487680"/>
                </a:lnTo>
                <a:lnTo>
                  <a:pt x="1242060" y="510540"/>
                </a:lnTo>
                <a:lnTo>
                  <a:pt x="1249680" y="525780"/>
                </a:lnTo>
                <a:lnTo>
                  <a:pt x="1257300" y="541020"/>
                </a:lnTo>
                <a:lnTo>
                  <a:pt x="1257300" y="563880"/>
                </a:lnTo>
                <a:lnTo>
                  <a:pt x="1264920" y="579120"/>
                </a:lnTo>
                <a:lnTo>
                  <a:pt x="1264920" y="594360"/>
                </a:lnTo>
                <a:lnTo>
                  <a:pt x="1272540" y="617220"/>
                </a:lnTo>
                <a:lnTo>
                  <a:pt x="1272540" y="632460"/>
                </a:lnTo>
                <a:lnTo>
                  <a:pt x="1272540" y="647700"/>
                </a:lnTo>
                <a:lnTo>
                  <a:pt x="1272540" y="662940"/>
                </a:lnTo>
                <a:lnTo>
                  <a:pt x="1272540" y="685800"/>
                </a:lnTo>
                <a:lnTo>
                  <a:pt x="1272540" y="701040"/>
                </a:lnTo>
                <a:lnTo>
                  <a:pt x="1272540" y="716280"/>
                </a:lnTo>
                <a:lnTo>
                  <a:pt x="1272540" y="731520"/>
                </a:lnTo>
                <a:lnTo>
                  <a:pt x="1272540" y="746760"/>
                </a:lnTo>
                <a:lnTo>
                  <a:pt x="1272540" y="762000"/>
                </a:lnTo>
                <a:lnTo>
                  <a:pt x="1264920" y="777240"/>
                </a:lnTo>
                <a:lnTo>
                  <a:pt x="1264920" y="792480"/>
                </a:lnTo>
                <a:lnTo>
                  <a:pt x="1257300" y="815340"/>
                </a:lnTo>
                <a:lnTo>
                  <a:pt x="1257300" y="830580"/>
                </a:lnTo>
                <a:lnTo>
                  <a:pt x="1257300" y="845820"/>
                </a:lnTo>
                <a:lnTo>
                  <a:pt x="1249680" y="861060"/>
                </a:lnTo>
                <a:lnTo>
                  <a:pt x="1242060" y="876300"/>
                </a:lnTo>
                <a:lnTo>
                  <a:pt x="1242060" y="891540"/>
                </a:lnTo>
                <a:lnTo>
                  <a:pt x="1234440" y="906780"/>
                </a:lnTo>
                <a:lnTo>
                  <a:pt x="1226820" y="922020"/>
                </a:lnTo>
                <a:lnTo>
                  <a:pt x="1219200" y="937260"/>
                </a:lnTo>
                <a:lnTo>
                  <a:pt x="1219200" y="952500"/>
                </a:lnTo>
                <a:lnTo>
                  <a:pt x="1211580" y="967740"/>
                </a:lnTo>
                <a:lnTo>
                  <a:pt x="1203960" y="982980"/>
                </a:lnTo>
                <a:lnTo>
                  <a:pt x="1196340" y="998220"/>
                </a:lnTo>
                <a:lnTo>
                  <a:pt x="1196340" y="1013460"/>
                </a:lnTo>
                <a:lnTo>
                  <a:pt x="1181100" y="1028700"/>
                </a:lnTo>
                <a:lnTo>
                  <a:pt x="1181100" y="1043940"/>
                </a:lnTo>
                <a:lnTo>
                  <a:pt x="1173480" y="1059180"/>
                </a:lnTo>
                <a:lnTo>
                  <a:pt x="1158240" y="1074420"/>
                </a:lnTo>
                <a:lnTo>
                  <a:pt x="1150620" y="1082040"/>
                </a:lnTo>
                <a:lnTo>
                  <a:pt x="1143000" y="1097280"/>
                </a:lnTo>
                <a:lnTo>
                  <a:pt x="1135380" y="1112520"/>
                </a:lnTo>
                <a:lnTo>
                  <a:pt x="1127760" y="1127760"/>
                </a:lnTo>
                <a:lnTo>
                  <a:pt x="1120140" y="1135380"/>
                </a:lnTo>
                <a:lnTo>
                  <a:pt x="1104900" y="1150620"/>
                </a:lnTo>
                <a:lnTo>
                  <a:pt x="1097280" y="1158240"/>
                </a:lnTo>
                <a:lnTo>
                  <a:pt x="1082040" y="1173480"/>
                </a:lnTo>
                <a:lnTo>
                  <a:pt x="1074420" y="1181100"/>
                </a:lnTo>
                <a:lnTo>
                  <a:pt x="1059180" y="1196340"/>
                </a:lnTo>
                <a:lnTo>
                  <a:pt x="1051560" y="1203960"/>
                </a:lnTo>
                <a:lnTo>
                  <a:pt x="1036320" y="1211580"/>
                </a:lnTo>
                <a:lnTo>
                  <a:pt x="1021080" y="1219200"/>
                </a:lnTo>
                <a:lnTo>
                  <a:pt x="1005840" y="1226820"/>
                </a:lnTo>
                <a:lnTo>
                  <a:pt x="990600" y="1234440"/>
                </a:lnTo>
                <a:lnTo>
                  <a:pt x="975360" y="1242060"/>
                </a:lnTo>
                <a:lnTo>
                  <a:pt x="960120" y="1249680"/>
                </a:lnTo>
                <a:lnTo>
                  <a:pt x="952500" y="1257300"/>
                </a:lnTo>
                <a:lnTo>
                  <a:pt x="937260" y="1257300"/>
                </a:lnTo>
                <a:lnTo>
                  <a:pt x="922020" y="1264920"/>
                </a:lnTo>
                <a:lnTo>
                  <a:pt x="906780" y="1272540"/>
                </a:lnTo>
                <a:lnTo>
                  <a:pt x="883920" y="1272540"/>
                </a:lnTo>
                <a:lnTo>
                  <a:pt x="868680" y="1272540"/>
                </a:lnTo>
                <a:lnTo>
                  <a:pt x="853440" y="1280160"/>
                </a:lnTo>
                <a:lnTo>
                  <a:pt x="830580" y="1280160"/>
                </a:lnTo>
                <a:lnTo>
                  <a:pt x="815340" y="1287780"/>
                </a:lnTo>
                <a:lnTo>
                  <a:pt x="800100" y="1287780"/>
                </a:lnTo>
                <a:lnTo>
                  <a:pt x="784860" y="1287780"/>
                </a:lnTo>
                <a:lnTo>
                  <a:pt x="762000" y="1287780"/>
                </a:lnTo>
                <a:lnTo>
                  <a:pt x="746760" y="1287780"/>
                </a:lnTo>
                <a:lnTo>
                  <a:pt x="731520" y="1287780"/>
                </a:lnTo>
                <a:lnTo>
                  <a:pt x="716280" y="1280160"/>
                </a:lnTo>
                <a:lnTo>
                  <a:pt x="693420" y="1280160"/>
                </a:lnTo>
                <a:lnTo>
                  <a:pt x="678180" y="1280160"/>
                </a:lnTo>
                <a:lnTo>
                  <a:pt x="662940" y="1272540"/>
                </a:lnTo>
                <a:lnTo>
                  <a:pt x="647700" y="1272540"/>
                </a:lnTo>
                <a:lnTo>
                  <a:pt x="632460" y="1264920"/>
                </a:lnTo>
                <a:lnTo>
                  <a:pt x="609600" y="1257300"/>
                </a:lnTo>
                <a:lnTo>
                  <a:pt x="594360" y="1249680"/>
                </a:lnTo>
                <a:lnTo>
                  <a:pt x="579120" y="1242060"/>
                </a:lnTo>
                <a:lnTo>
                  <a:pt x="563880" y="1234440"/>
                </a:lnTo>
                <a:lnTo>
                  <a:pt x="541020" y="1226820"/>
                </a:lnTo>
                <a:lnTo>
                  <a:pt x="525780" y="1219200"/>
                </a:lnTo>
                <a:lnTo>
                  <a:pt x="510540" y="1203960"/>
                </a:lnTo>
                <a:lnTo>
                  <a:pt x="495300" y="1196340"/>
                </a:lnTo>
                <a:lnTo>
                  <a:pt x="480060" y="1181100"/>
                </a:lnTo>
                <a:lnTo>
                  <a:pt x="464820" y="1173480"/>
                </a:lnTo>
                <a:lnTo>
                  <a:pt x="449580" y="1158240"/>
                </a:lnTo>
                <a:lnTo>
                  <a:pt x="434340" y="1150620"/>
                </a:lnTo>
                <a:lnTo>
                  <a:pt x="419100" y="1135380"/>
                </a:lnTo>
                <a:lnTo>
                  <a:pt x="403860" y="1120140"/>
                </a:lnTo>
                <a:lnTo>
                  <a:pt x="388620" y="1104900"/>
                </a:lnTo>
                <a:lnTo>
                  <a:pt x="373380" y="1089660"/>
                </a:lnTo>
                <a:lnTo>
                  <a:pt x="358140" y="1074420"/>
                </a:lnTo>
                <a:lnTo>
                  <a:pt x="342900" y="1059180"/>
                </a:lnTo>
                <a:lnTo>
                  <a:pt x="335280" y="1043940"/>
                </a:lnTo>
                <a:lnTo>
                  <a:pt x="320040" y="1028700"/>
                </a:lnTo>
                <a:lnTo>
                  <a:pt x="304800" y="1013460"/>
                </a:lnTo>
                <a:lnTo>
                  <a:pt x="297180" y="998220"/>
                </a:lnTo>
                <a:lnTo>
                  <a:pt x="281940" y="982980"/>
                </a:lnTo>
                <a:lnTo>
                  <a:pt x="274320" y="967740"/>
                </a:lnTo>
                <a:lnTo>
                  <a:pt x="259080" y="952500"/>
                </a:lnTo>
                <a:lnTo>
                  <a:pt x="251460" y="937260"/>
                </a:lnTo>
                <a:lnTo>
                  <a:pt x="236220" y="922020"/>
                </a:lnTo>
                <a:lnTo>
                  <a:pt x="228600" y="906780"/>
                </a:lnTo>
                <a:lnTo>
                  <a:pt x="220980" y="891540"/>
                </a:lnTo>
                <a:lnTo>
                  <a:pt x="213360" y="876300"/>
                </a:lnTo>
                <a:lnTo>
                  <a:pt x="198120" y="861060"/>
                </a:lnTo>
                <a:lnTo>
                  <a:pt x="190500" y="845820"/>
                </a:lnTo>
                <a:lnTo>
                  <a:pt x="182880" y="822960"/>
                </a:lnTo>
                <a:lnTo>
                  <a:pt x="182880" y="82296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Freeform 8224"/>
          <p:cNvSpPr/>
          <p:nvPr/>
        </p:nvSpPr>
        <p:spPr>
          <a:xfrm>
            <a:off x="1096920" y="3992400"/>
            <a:ext cx="130320" cy="30240"/>
          </a:xfrm>
          <a:custGeom>
            <a:avLst/>
            <a:gdLst>
              <a:gd name="textAreaLeft" fmla="*/ 0 w 130320"/>
              <a:gd name="textAreaRight" fmla="*/ 130680 w 13032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29541" h="30481">
                <a:moveTo>
                  <a:pt x="7620" y="30480"/>
                </a:moveTo>
                <a:lnTo>
                  <a:pt x="0" y="30480"/>
                </a:lnTo>
                <a:lnTo>
                  <a:pt x="0" y="30480"/>
                </a:lnTo>
                <a:lnTo>
                  <a:pt x="0" y="30480"/>
                </a:lnTo>
                <a:lnTo>
                  <a:pt x="0" y="22860"/>
                </a:lnTo>
                <a:lnTo>
                  <a:pt x="0" y="22860"/>
                </a:lnTo>
                <a:lnTo>
                  <a:pt x="0" y="22860"/>
                </a:lnTo>
                <a:lnTo>
                  <a:pt x="7620" y="22860"/>
                </a:lnTo>
                <a:lnTo>
                  <a:pt x="15240" y="22860"/>
                </a:lnTo>
                <a:lnTo>
                  <a:pt x="15240" y="22860"/>
                </a:lnTo>
                <a:lnTo>
                  <a:pt x="30480" y="15240"/>
                </a:lnTo>
                <a:lnTo>
                  <a:pt x="45720" y="15240"/>
                </a:lnTo>
                <a:lnTo>
                  <a:pt x="60960" y="15240"/>
                </a:lnTo>
                <a:lnTo>
                  <a:pt x="76200" y="7620"/>
                </a:lnTo>
                <a:lnTo>
                  <a:pt x="91440" y="7620"/>
                </a:lnTo>
                <a:lnTo>
                  <a:pt x="106680" y="7620"/>
                </a:lnTo>
                <a:lnTo>
                  <a:pt x="129540" y="0"/>
                </a:lnTo>
                <a:lnTo>
                  <a:pt x="129540" y="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Freeform 8225"/>
          <p:cNvSpPr/>
          <p:nvPr/>
        </p:nvSpPr>
        <p:spPr>
          <a:xfrm>
            <a:off x="1311120" y="3894120"/>
            <a:ext cx="90720" cy="114480"/>
          </a:xfrm>
          <a:custGeom>
            <a:avLst/>
            <a:gdLst>
              <a:gd name="textAreaLeft" fmla="*/ 0 w 90720"/>
              <a:gd name="textAreaRight" fmla="*/ 91080 w 9072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91441" h="114301">
                <a:moveTo>
                  <a:pt x="60960" y="7620"/>
                </a:moveTo>
                <a:lnTo>
                  <a:pt x="60960" y="7620"/>
                </a:lnTo>
                <a:lnTo>
                  <a:pt x="60960" y="0"/>
                </a:lnTo>
                <a:lnTo>
                  <a:pt x="60960" y="0"/>
                </a:lnTo>
                <a:lnTo>
                  <a:pt x="60960" y="0"/>
                </a:lnTo>
                <a:lnTo>
                  <a:pt x="60960" y="0"/>
                </a:lnTo>
                <a:lnTo>
                  <a:pt x="53340" y="0"/>
                </a:lnTo>
                <a:lnTo>
                  <a:pt x="53340" y="0"/>
                </a:lnTo>
                <a:lnTo>
                  <a:pt x="45720" y="0"/>
                </a:lnTo>
                <a:lnTo>
                  <a:pt x="38100" y="0"/>
                </a:lnTo>
                <a:lnTo>
                  <a:pt x="38100" y="7620"/>
                </a:lnTo>
                <a:lnTo>
                  <a:pt x="30480" y="15240"/>
                </a:lnTo>
                <a:lnTo>
                  <a:pt x="15240" y="22860"/>
                </a:lnTo>
                <a:lnTo>
                  <a:pt x="15240" y="38100"/>
                </a:lnTo>
                <a:lnTo>
                  <a:pt x="7620" y="45720"/>
                </a:lnTo>
                <a:lnTo>
                  <a:pt x="0" y="53340"/>
                </a:lnTo>
                <a:lnTo>
                  <a:pt x="0" y="68580"/>
                </a:lnTo>
                <a:lnTo>
                  <a:pt x="0" y="76200"/>
                </a:lnTo>
                <a:lnTo>
                  <a:pt x="0" y="91440"/>
                </a:lnTo>
                <a:lnTo>
                  <a:pt x="0" y="99060"/>
                </a:lnTo>
                <a:lnTo>
                  <a:pt x="7620" y="106680"/>
                </a:lnTo>
                <a:lnTo>
                  <a:pt x="15240" y="114300"/>
                </a:lnTo>
                <a:lnTo>
                  <a:pt x="22860" y="114300"/>
                </a:lnTo>
                <a:lnTo>
                  <a:pt x="38100" y="114300"/>
                </a:lnTo>
                <a:lnTo>
                  <a:pt x="45720" y="114300"/>
                </a:lnTo>
                <a:lnTo>
                  <a:pt x="53340" y="114300"/>
                </a:lnTo>
                <a:lnTo>
                  <a:pt x="68580" y="114300"/>
                </a:lnTo>
                <a:lnTo>
                  <a:pt x="76200" y="106680"/>
                </a:lnTo>
                <a:lnTo>
                  <a:pt x="83820" y="99060"/>
                </a:lnTo>
                <a:lnTo>
                  <a:pt x="91440" y="91440"/>
                </a:lnTo>
                <a:lnTo>
                  <a:pt x="91440" y="83820"/>
                </a:lnTo>
                <a:lnTo>
                  <a:pt x="91440" y="68580"/>
                </a:lnTo>
                <a:lnTo>
                  <a:pt x="91440" y="60960"/>
                </a:lnTo>
                <a:lnTo>
                  <a:pt x="83820" y="53340"/>
                </a:lnTo>
                <a:lnTo>
                  <a:pt x="83820" y="45720"/>
                </a:lnTo>
                <a:lnTo>
                  <a:pt x="76200" y="38100"/>
                </a:lnTo>
                <a:lnTo>
                  <a:pt x="68580" y="38100"/>
                </a:lnTo>
                <a:lnTo>
                  <a:pt x="60960" y="30480"/>
                </a:lnTo>
                <a:lnTo>
                  <a:pt x="53340" y="30480"/>
                </a:lnTo>
                <a:lnTo>
                  <a:pt x="45720" y="38100"/>
                </a:lnTo>
                <a:lnTo>
                  <a:pt x="45720" y="38100"/>
                </a:lnTo>
                <a:lnTo>
                  <a:pt x="38100" y="38100"/>
                </a:lnTo>
                <a:lnTo>
                  <a:pt x="38100" y="45720"/>
                </a:lnTo>
                <a:lnTo>
                  <a:pt x="38100" y="4572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Freeform 8226"/>
          <p:cNvSpPr/>
          <p:nvPr/>
        </p:nvSpPr>
        <p:spPr>
          <a:xfrm>
            <a:off x="1325520" y="4008600"/>
            <a:ext cx="92160" cy="98280"/>
          </a:xfrm>
          <a:custGeom>
            <a:avLst/>
            <a:gdLst>
              <a:gd name="textAreaLeft" fmla="*/ 0 w 92160"/>
              <a:gd name="textAreaRight" fmla="*/ 92520 w 921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91441" h="99061">
                <a:moveTo>
                  <a:pt x="53340" y="15240"/>
                </a:moveTo>
                <a:lnTo>
                  <a:pt x="45720" y="15240"/>
                </a:lnTo>
                <a:lnTo>
                  <a:pt x="38100" y="7620"/>
                </a:lnTo>
                <a:lnTo>
                  <a:pt x="38100" y="7620"/>
                </a:lnTo>
                <a:lnTo>
                  <a:pt x="38100" y="0"/>
                </a:ln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22860" y="0"/>
                </a:lnTo>
                <a:lnTo>
                  <a:pt x="22860" y="7620"/>
                </a:lnTo>
                <a:lnTo>
                  <a:pt x="22860" y="15240"/>
                </a:lnTo>
                <a:lnTo>
                  <a:pt x="15240" y="15240"/>
                </a:lnTo>
                <a:lnTo>
                  <a:pt x="15240" y="22860"/>
                </a:lnTo>
                <a:lnTo>
                  <a:pt x="7620" y="30480"/>
                </a:lnTo>
                <a:lnTo>
                  <a:pt x="7620" y="45720"/>
                </a:lnTo>
                <a:lnTo>
                  <a:pt x="0" y="53340"/>
                </a:lnTo>
                <a:lnTo>
                  <a:pt x="0" y="60960"/>
                </a:lnTo>
                <a:lnTo>
                  <a:pt x="0" y="76200"/>
                </a:lnTo>
                <a:lnTo>
                  <a:pt x="0" y="83820"/>
                </a:lnTo>
                <a:lnTo>
                  <a:pt x="7620" y="91440"/>
                </a:lnTo>
                <a:lnTo>
                  <a:pt x="15240" y="91440"/>
                </a:lnTo>
                <a:lnTo>
                  <a:pt x="15240" y="99060"/>
                </a:lnTo>
                <a:lnTo>
                  <a:pt x="30480" y="99060"/>
                </a:lnTo>
                <a:lnTo>
                  <a:pt x="38100" y="99060"/>
                </a:lnTo>
                <a:lnTo>
                  <a:pt x="45720" y="99060"/>
                </a:lnTo>
                <a:lnTo>
                  <a:pt x="53340" y="91440"/>
                </a:lnTo>
                <a:lnTo>
                  <a:pt x="68580" y="91440"/>
                </a:lnTo>
                <a:lnTo>
                  <a:pt x="76200" y="83820"/>
                </a:lnTo>
                <a:lnTo>
                  <a:pt x="83820" y="68580"/>
                </a:lnTo>
                <a:lnTo>
                  <a:pt x="83820" y="60960"/>
                </a:lnTo>
                <a:lnTo>
                  <a:pt x="91440" y="53340"/>
                </a:lnTo>
                <a:lnTo>
                  <a:pt x="91440" y="45720"/>
                </a:lnTo>
                <a:lnTo>
                  <a:pt x="83820" y="38100"/>
                </a:lnTo>
                <a:lnTo>
                  <a:pt x="83820" y="30480"/>
                </a:lnTo>
                <a:lnTo>
                  <a:pt x="83820" y="22860"/>
                </a:lnTo>
                <a:lnTo>
                  <a:pt x="76200" y="15240"/>
                </a:lnTo>
                <a:lnTo>
                  <a:pt x="68580" y="15240"/>
                </a:lnTo>
                <a:lnTo>
                  <a:pt x="68580" y="15240"/>
                </a:lnTo>
                <a:lnTo>
                  <a:pt x="60960" y="15240"/>
                </a:lnTo>
                <a:lnTo>
                  <a:pt x="53340" y="15240"/>
                </a:lnTo>
                <a:lnTo>
                  <a:pt x="45720" y="15240"/>
                </a:lnTo>
                <a:lnTo>
                  <a:pt x="45720" y="22860"/>
                </a:lnTo>
                <a:lnTo>
                  <a:pt x="45720" y="2286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Freeform 8227"/>
          <p:cNvSpPr/>
          <p:nvPr/>
        </p:nvSpPr>
        <p:spPr>
          <a:xfrm>
            <a:off x="1494000" y="4030560"/>
            <a:ext cx="52200" cy="114480"/>
          </a:xfrm>
          <a:custGeom>
            <a:avLst/>
            <a:gdLst>
              <a:gd name="textAreaLeft" fmla="*/ 0 w 52200"/>
              <a:gd name="textAreaRight" fmla="*/ 52560 w 5220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53341" h="11430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7620" y="7620"/>
                </a:lnTo>
                <a:lnTo>
                  <a:pt x="7620" y="15240"/>
                </a:lnTo>
                <a:lnTo>
                  <a:pt x="15240" y="15240"/>
                </a:lnTo>
                <a:lnTo>
                  <a:pt x="22860" y="22860"/>
                </a:lnTo>
                <a:lnTo>
                  <a:pt x="22860" y="30480"/>
                </a:lnTo>
                <a:lnTo>
                  <a:pt x="30480" y="38100"/>
                </a:lnTo>
                <a:lnTo>
                  <a:pt x="38100" y="45720"/>
                </a:lnTo>
                <a:lnTo>
                  <a:pt x="45720" y="53340"/>
                </a:lnTo>
                <a:lnTo>
                  <a:pt x="45720" y="68580"/>
                </a:lnTo>
                <a:lnTo>
                  <a:pt x="45720" y="76200"/>
                </a:lnTo>
                <a:lnTo>
                  <a:pt x="53340" y="83820"/>
                </a:lnTo>
                <a:lnTo>
                  <a:pt x="53340" y="91440"/>
                </a:lnTo>
                <a:lnTo>
                  <a:pt x="45720" y="99060"/>
                </a:lnTo>
                <a:lnTo>
                  <a:pt x="45720" y="99060"/>
                </a:lnTo>
                <a:lnTo>
                  <a:pt x="45720" y="106680"/>
                </a:lnTo>
                <a:lnTo>
                  <a:pt x="38100" y="106680"/>
                </a:lnTo>
                <a:lnTo>
                  <a:pt x="30480" y="106680"/>
                </a:lnTo>
                <a:lnTo>
                  <a:pt x="30480" y="114300"/>
                </a:lnTo>
                <a:lnTo>
                  <a:pt x="30480" y="11430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Freeform 8228"/>
          <p:cNvSpPr/>
          <p:nvPr/>
        </p:nvSpPr>
        <p:spPr>
          <a:xfrm>
            <a:off x="1616040" y="3908520"/>
            <a:ext cx="22320" cy="145800"/>
          </a:xfrm>
          <a:custGeom>
            <a:avLst/>
            <a:gdLst>
              <a:gd name="textAreaLeft" fmla="*/ 0 w 22320"/>
              <a:gd name="textAreaRight" fmla="*/ 22680 w 2232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22861" h="144781">
                <a:moveTo>
                  <a:pt x="7620" y="0"/>
                </a:moveTo>
                <a:lnTo>
                  <a:pt x="0" y="0"/>
                </a:lnTo>
                <a:lnTo>
                  <a:pt x="0" y="7620"/>
                </a:lnTo>
                <a:lnTo>
                  <a:pt x="0" y="15240"/>
                </a:lnTo>
                <a:lnTo>
                  <a:pt x="0" y="22860"/>
                </a:lnTo>
                <a:lnTo>
                  <a:pt x="0" y="30480"/>
                </a:lnTo>
                <a:lnTo>
                  <a:pt x="0" y="38100"/>
                </a:lnTo>
                <a:lnTo>
                  <a:pt x="0" y="45720"/>
                </a:lnTo>
                <a:lnTo>
                  <a:pt x="0" y="53340"/>
                </a:lnTo>
                <a:lnTo>
                  <a:pt x="0" y="68580"/>
                </a:lnTo>
                <a:lnTo>
                  <a:pt x="0" y="83820"/>
                </a:lnTo>
                <a:lnTo>
                  <a:pt x="0" y="91440"/>
                </a:lnTo>
                <a:lnTo>
                  <a:pt x="7620" y="99060"/>
                </a:lnTo>
                <a:lnTo>
                  <a:pt x="7620" y="114300"/>
                </a:lnTo>
                <a:lnTo>
                  <a:pt x="7620" y="121920"/>
                </a:lnTo>
                <a:lnTo>
                  <a:pt x="15240" y="129540"/>
                </a:lnTo>
                <a:lnTo>
                  <a:pt x="22860" y="144780"/>
                </a:lnTo>
                <a:lnTo>
                  <a:pt x="22860" y="14478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Freeform 8229"/>
          <p:cNvSpPr/>
          <p:nvPr/>
        </p:nvSpPr>
        <p:spPr>
          <a:xfrm>
            <a:off x="1646280" y="3817800"/>
            <a:ext cx="114120" cy="319320"/>
          </a:xfrm>
          <a:custGeom>
            <a:avLst/>
            <a:gdLst>
              <a:gd name="textAreaLeft" fmla="*/ 0 w 114120"/>
              <a:gd name="textAreaRight" fmla="*/ 114480 w 1141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114301" h="320041">
                <a:moveTo>
                  <a:pt x="0" y="0"/>
                </a:moveTo>
                <a:lnTo>
                  <a:pt x="0" y="0"/>
                </a:lnTo>
                <a:lnTo>
                  <a:pt x="7620" y="7620"/>
                </a:lnTo>
                <a:lnTo>
                  <a:pt x="7620" y="7620"/>
                </a:lnTo>
                <a:lnTo>
                  <a:pt x="15240" y="15240"/>
                </a:lnTo>
                <a:lnTo>
                  <a:pt x="22860" y="30480"/>
                </a:lnTo>
                <a:lnTo>
                  <a:pt x="38100" y="38100"/>
                </a:lnTo>
                <a:lnTo>
                  <a:pt x="45720" y="53340"/>
                </a:lnTo>
                <a:lnTo>
                  <a:pt x="60960" y="68580"/>
                </a:lnTo>
                <a:lnTo>
                  <a:pt x="68580" y="91440"/>
                </a:lnTo>
                <a:lnTo>
                  <a:pt x="76200" y="106680"/>
                </a:lnTo>
                <a:lnTo>
                  <a:pt x="91440" y="129540"/>
                </a:lnTo>
                <a:lnTo>
                  <a:pt x="99060" y="152400"/>
                </a:lnTo>
                <a:lnTo>
                  <a:pt x="106680" y="175260"/>
                </a:lnTo>
                <a:lnTo>
                  <a:pt x="114300" y="198120"/>
                </a:lnTo>
                <a:lnTo>
                  <a:pt x="114300" y="220980"/>
                </a:lnTo>
                <a:lnTo>
                  <a:pt x="114300" y="243840"/>
                </a:lnTo>
                <a:lnTo>
                  <a:pt x="114300" y="259080"/>
                </a:lnTo>
                <a:lnTo>
                  <a:pt x="114300" y="281940"/>
                </a:lnTo>
                <a:lnTo>
                  <a:pt x="106680" y="297180"/>
                </a:lnTo>
                <a:lnTo>
                  <a:pt x="99060" y="320040"/>
                </a:lnTo>
                <a:lnTo>
                  <a:pt x="99060" y="32004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Freeform 8230"/>
          <p:cNvSpPr/>
          <p:nvPr/>
        </p:nvSpPr>
        <p:spPr>
          <a:xfrm>
            <a:off x="1058760" y="3809880"/>
            <a:ext cx="182520" cy="373320"/>
          </a:xfrm>
          <a:custGeom>
            <a:avLst/>
            <a:gdLst>
              <a:gd name="textAreaLeft" fmla="*/ 0 w 182520"/>
              <a:gd name="textAreaRight" fmla="*/ 182880 w 182520"/>
              <a:gd name="textAreaTop" fmla="*/ 0 h 373320"/>
              <a:gd name="textAreaBottom" fmla="*/ 373680 h 373320"/>
            </a:gdLst>
            <a:ahLst/>
            <a:rect l="textAreaLeft" t="textAreaTop" r="textAreaRight" b="textAreaBottom"/>
            <a:pathLst>
              <a:path w="182881" h="373381">
                <a:moveTo>
                  <a:pt x="182880" y="0"/>
                </a:moveTo>
                <a:lnTo>
                  <a:pt x="182880" y="0"/>
                </a:lnTo>
                <a:lnTo>
                  <a:pt x="167640" y="0"/>
                </a:lnTo>
                <a:lnTo>
                  <a:pt x="160020" y="7620"/>
                </a:lnTo>
                <a:lnTo>
                  <a:pt x="152400" y="7620"/>
                </a:lnTo>
                <a:lnTo>
                  <a:pt x="144780" y="15240"/>
                </a:lnTo>
                <a:lnTo>
                  <a:pt x="137160" y="22860"/>
                </a:lnTo>
                <a:lnTo>
                  <a:pt x="121920" y="30480"/>
                </a:lnTo>
                <a:lnTo>
                  <a:pt x="114300" y="45720"/>
                </a:lnTo>
                <a:lnTo>
                  <a:pt x="99060" y="60960"/>
                </a:lnTo>
                <a:lnTo>
                  <a:pt x="83820" y="68580"/>
                </a:lnTo>
                <a:lnTo>
                  <a:pt x="68580" y="91440"/>
                </a:lnTo>
                <a:lnTo>
                  <a:pt x="53340" y="114300"/>
                </a:lnTo>
                <a:lnTo>
                  <a:pt x="45720" y="129540"/>
                </a:lnTo>
                <a:lnTo>
                  <a:pt x="30480" y="152400"/>
                </a:lnTo>
                <a:lnTo>
                  <a:pt x="15240" y="175260"/>
                </a:lnTo>
                <a:lnTo>
                  <a:pt x="7620" y="198120"/>
                </a:lnTo>
                <a:lnTo>
                  <a:pt x="7620" y="220980"/>
                </a:lnTo>
                <a:lnTo>
                  <a:pt x="0" y="243840"/>
                </a:lnTo>
                <a:lnTo>
                  <a:pt x="0" y="266700"/>
                </a:lnTo>
                <a:lnTo>
                  <a:pt x="0" y="289560"/>
                </a:lnTo>
                <a:lnTo>
                  <a:pt x="7620" y="304800"/>
                </a:lnTo>
                <a:lnTo>
                  <a:pt x="15240" y="320040"/>
                </a:lnTo>
                <a:lnTo>
                  <a:pt x="30480" y="335280"/>
                </a:lnTo>
                <a:lnTo>
                  <a:pt x="53340" y="350520"/>
                </a:lnTo>
                <a:lnTo>
                  <a:pt x="68580" y="358140"/>
                </a:lnTo>
                <a:lnTo>
                  <a:pt x="99060" y="373380"/>
                </a:lnTo>
                <a:lnTo>
                  <a:pt x="99060" y="37338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Freeform 8231"/>
          <p:cNvSpPr/>
          <p:nvPr/>
        </p:nvSpPr>
        <p:spPr>
          <a:xfrm>
            <a:off x="1539720" y="4245120"/>
            <a:ext cx="615960" cy="60120"/>
          </a:xfrm>
          <a:custGeom>
            <a:avLst/>
            <a:gdLst>
              <a:gd name="textAreaLeft" fmla="*/ 0 w 615960"/>
              <a:gd name="textAreaRight" fmla="*/ 616320 w 61596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617221" h="60961">
                <a:moveTo>
                  <a:pt x="7620" y="60960"/>
                </a:moveTo>
                <a:lnTo>
                  <a:pt x="7620" y="60960"/>
                </a:lnTo>
                <a:lnTo>
                  <a:pt x="7620" y="60960"/>
                </a:lnTo>
                <a:lnTo>
                  <a:pt x="0" y="60960"/>
                </a:lnTo>
                <a:lnTo>
                  <a:pt x="0" y="60960"/>
                </a:lnTo>
                <a:lnTo>
                  <a:pt x="0" y="53340"/>
                </a:lnTo>
                <a:lnTo>
                  <a:pt x="0" y="53340"/>
                </a:lnTo>
                <a:lnTo>
                  <a:pt x="0" y="53340"/>
                </a:lnTo>
                <a:lnTo>
                  <a:pt x="0" y="53340"/>
                </a:lnTo>
                <a:lnTo>
                  <a:pt x="0" y="53340"/>
                </a:lnTo>
                <a:lnTo>
                  <a:pt x="0" y="53340"/>
                </a:lnTo>
                <a:lnTo>
                  <a:pt x="0" y="53340"/>
                </a:lnTo>
                <a:lnTo>
                  <a:pt x="0" y="53340"/>
                </a:lnTo>
                <a:lnTo>
                  <a:pt x="0" y="53340"/>
                </a:lnTo>
                <a:lnTo>
                  <a:pt x="0" y="53340"/>
                </a:lnTo>
                <a:lnTo>
                  <a:pt x="0" y="53340"/>
                </a:lnTo>
                <a:lnTo>
                  <a:pt x="0" y="53340"/>
                </a:lnTo>
                <a:lnTo>
                  <a:pt x="0" y="53340"/>
                </a:lnTo>
                <a:lnTo>
                  <a:pt x="0" y="53340"/>
                </a:lnTo>
                <a:lnTo>
                  <a:pt x="0" y="53340"/>
                </a:lnTo>
                <a:lnTo>
                  <a:pt x="0" y="53340"/>
                </a:lnTo>
                <a:lnTo>
                  <a:pt x="0" y="53340"/>
                </a:lnTo>
                <a:lnTo>
                  <a:pt x="0" y="53340"/>
                </a:lnTo>
                <a:lnTo>
                  <a:pt x="0" y="53340"/>
                </a:lnTo>
                <a:lnTo>
                  <a:pt x="0" y="53340"/>
                </a:lnTo>
                <a:lnTo>
                  <a:pt x="0" y="53340"/>
                </a:lnTo>
                <a:lnTo>
                  <a:pt x="7620" y="53340"/>
                </a:lnTo>
                <a:lnTo>
                  <a:pt x="7620" y="53340"/>
                </a:lnTo>
                <a:lnTo>
                  <a:pt x="15240" y="53340"/>
                </a:lnTo>
                <a:lnTo>
                  <a:pt x="15240" y="53340"/>
                </a:lnTo>
                <a:lnTo>
                  <a:pt x="22860" y="53340"/>
                </a:lnTo>
                <a:lnTo>
                  <a:pt x="30480" y="53340"/>
                </a:lnTo>
                <a:lnTo>
                  <a:pt x="38100" y="53340"/>
                </a:lnTo>
                <a:lnTo>
                  <a:pt x="45720" y="53340"/>
                </a:lnTo>
                <a:lnTo>
                  <a:pt x="53340" y="53340"/>
                </a:lnTo>
                <a:lnTo>
                  <a:pt x="60960" y="53340"/>
                </a:lnTo>
                <a:lnTo>
                  <a:pt x="76200" y="53340"/>
                </a:lnTo>
                <a:lnTo>
                  <a:pt x="91440" y="45720"/>
                </a:lnTo>
                <a:lnTo>
                  <a:pt x="99060" y="45720"/>
                </a:lnTo>
                <a:lnTo>
                  <a:pt x="114300" y="45720"/>
                </a:lnTo>
                <a:lnTo>
                  <a:pt x="129540" y="45720"/>
                </a:lnTo>
                <a:lnTo>
                  <a:pt x="152400" y="45720"/>
                </a:lnTo>
                <a:lnTo>
                  <a:pt x="167640" y="38100"/>
                </a:lnTo>
                <a:lnTo>
                  <a:pt x="182880" y="38100"/>
                </a:lnTo>
                <a:lnTo>
                  <a:pt x="205740" y="38100"/>
                </a:lnTo>
                <a:lnTo>
                  <a:pt x="220980" y="38100"/>
                </a:lnTo>
                <a:lnTo>
                  <a:pt x="243840" y="30480"/>
                </a:lnTo>
                <a:lnTo>
                  <a:pt x="259080" y="30480"/>
                </a:lnTo>
                <a:lnTo>
                  <a:pt x="281940" y="30480"/>
                </a:lnTo>
                <a:lnTo>
                  <a:pt x="297180" y="22860"/>
                </a:lnTo>
                <a:lnTo>
                  <a:pt x="320040" y="22860"/>
                </a:lnTo>
                <a:lnTo>
                  <a:pt x="342900" y="22860"/>
                </a:lnTo>
                <a:lnTo>
                  <a:pt x="358140" y="22860"/>
                </a:lnTo>
                <a:lnTo>
                  <a:pt x="381000" y="15240"/>
                </a:lnTo>
                <a:lnTo>
                  <a:pt x="396240" y="15240"/>
                </a:lnTo>
                <a:lnTo>
                  <a:pt x="419100" y="15240"/>
                </a:lnTo>
                <a:lnTo>
                  <a:pt x="441960" y="15240"/>
                </a:lnTo>
                <a:lnTo>
                  <a:pt x="457200" y="7620"/>
                </a:lnTo>
                <a:lnTo>
                  <a:pt x="472440" y="7620"/>
                </a:lnTo>
                <a:lnTo>
                  <a:pt x="487680" y="7620"/>
                </a:lnTo>
                <a:lnTo>
                  <a:pt x="502920" y="7620"/>
                </a:lnTo>
                <a:lnTo>
                  <a:pt x="510540" y="7620"/>
                </a:lnTo>
                <a:lnTo>
                  <a:pt x="525780" y="0"/>
                </a:lnTo>
                <a:lnTo>
                  <a:pt x="541020" y="0"/>
                </a:lnTo>
                <a:lnTo>
                  <a:pt x="548640" y="0"/>
                </a:lnTo>
                <a:lnTo>
                  <a:pt x="556260" y="0"/>
                </a:lnTo>
                <a:lnTo>
                  <a:pt x="563880" y="0"/>
                </a:lnTo>
                <a:lnTo>
                  <a:pt x="579120" y="0"/>
                </a:lnTo>
                <a:lnTo>
                  <a:pt x="586740" y="0"/>
                </a:lnTo>
                <a:lnTo>
                  <a:pt x="594360" y="0"/>
                </a:lnTo>
                <a:lnTo>
                  <a:pt x="601980" y="0"/>
                </a:lnTo>
                <a:lnTo>
                  <a:pt x="601980" y="0"/>
                </a:lnTo>
                <a:lnTo>
                  <a:pt x="609600" y="0"/>
                </a:lnTo>
                <a:lnTo>
                  <a:pt x="617220" y="7620"/>
                </a:lnTo>
                <a:lnTo>
                  <a:pt x="617220" y="762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Freeform 8232"/>
          <p:cNvSpPr/>
          <p:nvPr/>
        </p:nvSpPr>
        <p:spPr>
          <a:xfrm>
            <a:off x="1692360" y="4275000"/>
            <a:ext cx="304560" cy="152640"/>
          </a:xfrm>
          <a:custGeom>
            <a:avLst/>
            <a:gdLst>
              <a:gd name="textAreaLeft" fmla="*/ 0 w 304560"/>
              <a:gd name="textAreaRight" fmla="*/ 304560 w 3045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304801" h="152401">
                <a:moveTo>
                  <a:pt x="0" y="53340"/>
                </a:moveTo>
                <a:lnTo>
                  <a:pt x="0" y="53340"/>
                </a:lnTo>
                <a:lnTo>
                  <a:pt x="0" y="53340"/>
                </a:lnTo>
                <a:lnTo>
                  <a:pt x="0" y="53340"/>
                </a:lnTo>
                <a:lnTo>
                  <a:pt x="0" y="53340"/>
                </a:lnTo>
                <a:lnTo>
                  <a:pt x="0" y="53340"/>
                </a:lnTo>
                <a:lnTo>
                  <a:pt x="0" y="53340"/>
                </a:lnTo>
                <a:lnTo>
                  <a:pt x="7620" y="53340"/>
                </a:lnTo>
                <a:lnTo>
                  <a:pt x="7620" y="53340"/>
                </a:lnTo>
                <a:lnTo>
                  <a:pt x="7620" y="53340"/>
                </a:lnTo>
                <a:lnTo>
                  <a:pt x="15240" y="53340"/>
                </a:lnTo>
                <a:lnTo>
                  <a:pt x="15240" y="53340"/>
                </a:lnTo>
                <a:lnTo>
                  <a:pt x="15240" y="53340"/>
                </a:lnTo>
                <a:lnTo>
                  <a:pt x="22860" y="53340"/>
                </a:lnTo>
                <a:lnTo>
                  <a:pt x="22860" y="53340"/>
                </a:lnTo>
                <a:lnTo>
                  <a:pt x="30480" y="53340"/>
                </a:lnTo>
                <a:lnTo>
                  <a:pt x="38100" y="53340"/>
                </a:lnTo>
                <a:lnTo>
                  <a:pt x="45720" y="53340"/>
                </a:lnTo>
                <a:lnTo>
                  <a:pt x="53340" y="53340"/>
                </a:lnTo>
                <a:lnTo>
                  <a:pt x="60960" y="45720"/>
                </a:lnTo>
                <a:lnTo>
                  <a:pt x="68580" y="45720"/>
                </a:lnTo>
                <a:lnTo>
                  <a:pt x="76200" y="45720"/>
                </a:lnTo>
                <a:lnTo>
                  <a:pt x="83820" y="45720"/>
                </a:lnTo>
                <a:lnTo>
                  <a:pt x="91440" y="45720"/>
                </a:lnTo>
                <a:lnTo>
                  <a:pt x="99060" y="45720"/>
                </a:lnTo>
                <a:lnTo>
                  <a:pt x="99060" y="45720"/>
                </a:lnTo>
                <a:lnTo>
                  <a:pt x="106680" y="45720"/>
                </a:lnTo>
                <a:lnTo>
                  <a:pt x="114300" y="45720"/>
                </a:lnTo>
                <a:lnTo>
                  <a:pt x="114300" y="45720"/>
                </a:lnTo>
                <a:lnTo>
                  <a:pt x="114300" y="53340"/>
                </a:lnTo>
                <a:lnTo>
                  <a:pt x="121920" y="53340"/>
                </a:lnTo>
                <a:lnTo>
                  <a:pt x="121920" y="53340"/>
                </a:lnTo>
                <a:lnTo>
                  <a:pt x="121920" y="60960"/>
                </a:lnTo>
                <a:lnTo>
                  <a:pt x="121920" y="60960"/>
                </a:lnTo>
                <a:lnTo>
                  <a:pt x="121920" y="68580"/>
                </a:lnTo>
                <a:lnTo>
                  <a:pt x="121920" y="76200"/>
                </a:lnTo>
                <a:lnTo>
                  <a:pt x="114300" y="76200"/>
                </a:lnTo>
                <a:lnTo>
                  <a:pt x="114300" y="83820"/>
                </a:lnTo>
                <a:lnTo>
                  <a:pt x="114300" y="91440"/>
                </a:lnTo>
                <a:lnTo>
                  <a:pt x="106680" y="99060"/>
                </a:lnTo>
                <a:lnTo>
                  <a:pt x="106680" y="106680"/>
                </a:lnTo>
                <a:lnTo>
                  <a:pt x="106680" y="106680"/>
                </a:lnTo>
                <a:lnTo>
                  <a:pt x="99060" y="114300"/>
                </a:lnTo>
                <a:lnTo>
                  <a:pt x="99060" y="121920"/>
                </a:lnTo>
                <a:lnTo>
                  <a:pt x="99060" y="129540"/>
                </a:lnTo>
                <a:lnTo>
                  <a:pt x="99060" y="129540"/>
                </a:lnTo>
                <a:lnTo>
                  <a:pt x="99060" y="137160"/>
                </a:lnTo>
                <a:lnTo>
                  <a:pt x="99060" y="144780"/>
                </a:lnTo>
                <a:lnTo>
                  <a:pt x="99060" y="144780"/>
                </a:lnTo>
                <a:lnTo>
                  <a:pt x="99060" y="152400"/>
                </a:lnTo>
                <a:lnTo>
                  <a:pt x="99060" y="152400"/>
                </a:lnTo>
                <a:lnTo>
                  <a:pt x="106680" y="152400"/>
                </a:lnTo>
                <a:lnTo>
                  <a:pt x="106680" y="152400"/>
                </a:lnTo>
                <a:lnTo>
                  <a:pt x="106680" y="152400"/>
                </a:lnTo>
                <a:lnTo>
                  <a:pt x="106680" y="152400"/>
                </a:lnTo>
                <a:lnTo>
                  <a:pt x="106680" y="152400"/>
                </a:lnTo>
                <a:lnTo>
                  <a:pt x="106680" y="152400"/>
                </a:lnTo>
                <a:lnTo>
                  <a:pt x="106680" y="144780"/>
                </a:lnTo>
                <a:lnTo>
                  <a:pt x="106680" y="144780"/>
                </a:lnTo>
                <a:lnTo>
                  <a:pt x="114300" y="137160"/>
                </a:lnTo>
                <a:lnTo>
                  <a:pt x="114300" y="137160"/>
                </a:lnTo>
                <a:lnTo>
                  <a:pt x="114300" y="129540"/>
                </a:lnTo>
                <a:lnTo>
                  <a:pt x="121920" y="121920"/>
                </a:lnTo>
                <a:lnTo>
                  <a:pt x="121920" y="114300"/>
                </a:lnTo>
                <a:lnTo>
                  <a:pt x="129540" y="114300"/>
                </a:lnTo>
                <a:lnTo>
                  <a:pt x="129540" y="106680"/>
                </a:lnTo>
                <a:lnTo>
                  <a:pt x="137160" y="99060"/>
                </a:lnTo>
                <a:lnTo>
                  <a:pt x="137160" y="91440"/>
                </a:lnTo>
                <a:lnTo>
                  <a:pt x="137160" y="91440"/>
                </a:lnTo>
                <a:lnTo>
                  <a:pt x="144780" y="83820"/>
                </a:lnTo>
                <a:lnTo>
                  <a:pt x="144780" y="76200"/>
                </a:lnTo>
                <a:lnTo>
                  <a:pt x="144780" y="76200"/>
                </a:lnTo>
                <a:lnTo>
                  <a:pt x="152400" y="68580"/>
                </a:lnTo>
                <a:lnTo>
                  <a:pt x="152400" y="60960"/>
                </a:lnTo>
                <a:lnTo>
                  <a:pt x="152400" y="60960"/>
                </a:lnTo>
                <a:lnTo>
                  <a:pt x="160020" y="53340"/>
                </a:lnTo>
                <a:lnTo>
                  <a:pt x="160020" y="53340"/>
                </a:lnTo>
                <a:lnTo>
                  <a:pt x="167640" y="45720"/>
                </a:lnTo>
                <a:lnTo>
                  <a:pt x="167640" y="45720"/>
                </a:lnTo>
                <a:lnTo>
                  <a:pt x="167640" y="45720"/>
                </a:lnTo>
                <a:lnTo>
                  <a:pt x="175260" y="38100"/>
                </a:lnTo>
                <a:lnTo>
                  <a:pt x="175260" y="38100"/>
                </a:lnTo>
                <a:lnTo>
                  <a:pt x="182880" y="38100"/>
                </a:lnTo>
                <a:lnTo>
                  <a:pt x="190500" y="38100"/>
                </a:lnTo>
                <a:lnTo>
                  <a:pt x="198120" y="30480"/>
                </a:lnTo>
                <a:lnTo>
                  <a:pt x="205740" y="30480"/>
                </a:lnTo>
                <a:lnTo>
                  <a:pt x="213360" y="22860"/>
                </a:lnTo>
                <a:lnTo>
                  <a:pt x="213360" y="22860"/>
                </a:lnTo>
                <a:lnTo>
                  <a:pt x="228600" y="22860"/>
                </a:lnTo>
                <a:lnTo>
                  <a:pt x="236220" y="15240"/>
                </a:lnTo>
                <a:lnTo>
                  <a:pt x="243840" y="15240"/>
                </a:lnTo>
                <a:lnTo>
                  <a:pt x="251460" y="7620"/>
                </a:lnTo>
                <a:lnTo>
                  <a:pt x="266700" y="7620"/>
                </a:lnTo>
                <a:lnTo>
                  <a:pt x="274320" y="7620"/>
                </a:lnTo>
                <a:lnTo>
                  <a:pt x="281940" y="7620"/>
                </a:lnTo>
                <a:lnTo>
                  <a:pt x="289560" y="7620"/>
                </a:lnTo>
                <a:lnTo>
                  <a:pt x="304800" y="0"/>
                </a:lnTo>
                <a:lnTo>
                  <a:pt x="304800" y="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Freeform 8233"/>
          <p:cNvSpPr/>
          <p:nvPr/>
        </p:nvSpPr>
        <p:spPr>
          <a:xfrm>
            <a:off x="1866960" y="4335480"/>
            <a:ext cx="114120" cy="130320"/>
          </a:xfrm>
          <a:custGeom>
            <a:avLst/>
            <a:gdLst>
              <a:gd name="textAreaLeft" fmla="*/ 0 w 114120"/>
              <a:gd name="textAreaRight" fmla="*/ 114480 w 11412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114301" h="129541">
                <a:moveTo>
                  <a:pt x="60960" y="7620"/>
                </a:moveTo>
                <a:lnTo>
                  <a:pt x="60960" y="7620"/>
                </a:lnTo>
                <a:lnTo>
                  <a:pt x="60960" y="7620"/>
                </a:lnTo>
                <a:lnTo>
                  <a:pt x="60960" y="7620"/>
                </a:lnTo>
                <a:lnTo>
                  <a:pt x="60960" y="0"/>
                </a:lnTo>
                <a:lnTo>
                  <a:pt x="60960" y="0"/>
                </a:lnTo>
                <a:lnTo>
                  <a:pt x="60960" y="0"/>
                </a:lnTo>
                <a:lnTo>
                  <a:pt x="60960" y="0"/>
                </a:lnTo>
                <a:lnTo>
                  <a:pt x="60960" y="0"/>
                </a:lnTo>
                <a:lnTo>
                  <a:pt x="60960" y="0"/>
                </a:lnTo>
                <a:lnTo>
                  <a:pt x="60960" y="0"/>
                </a:lnTo>
                <a:lnTo>
                  <a:pt x="60960" y="0"/>
                </a:lnTo>
                <a:lnTo>
                  <a:pt x="60960" y="0"/>
                </a:lnTo>
                <a:lnTo>
                  <a:pt x="60960" y="0"/>
                </a:lnTo>
                <a:lnTo>
                  <a:pt x="60960" y="0"/>
                </a:lnTo>
                <a:lnTo>
                  <a:pt x="60960" y="0"/>
                </a:lnTo>
                <a:lnTo>
                  <a:pt x="60960" y="0"/>
                </a:lnTo>
                <a:lnTo>
                  <a:pt x="53340" y="0"/>
                </a:lnTo>
                <a:lnTo>
                  <a:pt x="45720" y="7620"/>
                </a:lnTo>
                <a:lnTo>
                  <a:pt x="45720" y="7620"/>
                </a:lnTo>
                <a:lnTo>
                  <a:pt x="38100" y="7620"/>
                </a:lnTo>
                <a:lnTo>
                  <a:pt x="30480" y="15240"/>
                </a:lnTo>
                <a:lnTo>
                  <a:pt x="30480" y="15240"/>
                </a:lnTo>
                <a:lnTo>
                  <a:pt x="22860" y="22860"/>
                </a:lnTo>
                <a:lnTo>
                  <a:pt x="15240" y="22860"/>
                </a:lnTo>
                <a:lnTo>
                  <a:pt x="15240" y="30480"/>
                </a:lnTo>
                <a:lnTo>
                  <a:pt x="7620" y="30480"/>
                </a:lnTo>
                <a:lnTo>
                  <a:pt x="7620" y="30480"/>
                </a:lnTo>
                <a:lnTo>
                  <a:pt x="0" y="38100"/>
                </a:lnTo>
                <a:lnTo>
                  <a:pt x="0" y="38100"/>
                </a:lnTo>
                <a:lnTo>
                  <a:pt x="7620" y="45720"/>
                </a:lnTo>
                <a:lnTo>
                  <a:pt x="7620" y="45720"/>
                </a:lnTo>
                <a:lnTo>
                  <a:pt x="15240" y="45720"/>
                </a:lnTo>
                <a:lnTo>
                  <a:pt x="22860" y="45720"/>
                </a:lnTo>
                <a:lnTo>
                  <a:pt x="22860" y="53340"/>
                </a:lnTo>
                <a:lnTo>
                  <a:pt x="30480" y="53340"/>
                </a:lnTo>
                <a:lnTo>
                  <a:pt x="45720" y="53340"/>
                </a:lnTo>
                <a:lnTo>
                  <a:pt x="53340" y="53340"/>
                </a:lnTo>
                <a:lnTo>
                  <a:pt x="60960" y="60960"/>
                </a:lnTo>
                <a:lnTo>
                  <a:pt x="68580" y="60960"/>
                </a:lnTo>
                <a:lnTo>
                  <a:pt x="83820" y="68580"/>
                </a:lnTo>
                <a:lnTo>
                  <a:pt x="91440" y="68580"/>
                </a:lnTo>
                <a:lnTo>
                  <a:pt x="99060" y="76200"/>
                </a:lnTo>
                <a:lnTo>
                  <a:pt x="99060" y="76200"/>
                </a:lnTo>
                <a:lnTo>
                  <a:pt x="106680" y="83820"/>
                </a:lnTo>
                <a:lnTo>
                  <a:pt x="114300" y="83820"/>
                </a:lnTo>
                <a:lnTo>
                  <a:pt x="114300" y="91440"/>
                </a:lnTo>
                <a:lnTo>
                  <a:pt x="114300" y="99060"/>
                </a:lnTo>
                <a:lnTo>
                  <a:pt x="114300" y="99060"/>
                </a:lnTo>
                <a:lnTo>
                  <a:pt x="106680" y="106680"/>
                </a:lnTo>
                <a:lnTo>
                  <a:pt x="99060" y="114300"/>
                </a:lnTo>
                <a:lnTo>
                  <a:pt x="99060" y="114300"/>
                </a:lnTo>
                <a:lnTo>
                  <a:pt x="91440" y="121920"/>
                </a:lnTo>
                <a:lnTo>
                  <a:pt x="83820" y="129540"/>
                </a:lnTo>
                <a:lnTo>
                  <a:pt x="76200" y="129540"/>
                </a:lnTo>
                <a:lnTo>
                  <a:pt x="68580" y="129540"/>
                </a:lnTo>
                <a:lnTo>
                  <a:pt x="60960" y="129540"/>
                </a:lnTo>
                <a:lnTo>
                  <a:pt x="53340" y="129540"/>
                </a:lnTo>
                <a:lnTo>
                  <a:pt x="45720" y="129540"/>
                </a:lnTo>
                <a:lnTo>
                  <a:pt x="38100" y="129540"/>
                </a:lnTo>
                <a:lnTo>
                  <a:pt x="38100" y="12954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Freeform 8234"/>
          <p:cNvSpPr/>
          <p:nvPr/>
        </p:nvSpPr>
        <p:spPr>
          <a:xfrm>
            <a:off x="1943280" y="4321080"/>
            <a:ext cx="75960" cy="6480"/>
          </a:xfrm>
          <a:custGeom>
            <a:avLst/>
            <a:gdLst>
              <a:gd name="textAreaLeft" fmla="*/ 0 w 75960"/>
              <a:gd name="textAreaRight" fmla="*/ 76320 w 759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76201" h="7621">
                <a:moveTo>
                  <a:pt x="0" y="7620"/>
                </a:moveTo>
                <a:lnTo>
                  <a:pt x="0" y="7620"/>
                </a:lnTo>
                <a:lnTo>
                  <a:pt x="0" y="0"/>
                </a:lnTo>
                <a:lnTo>
                  <a:pt x="7620" y="7620"/>
                </a:lnTo>
                <a:lnTo>
                  <a:pt x="15240" y="0"/>
                </a:lnTo>
                <a:lnTo>
                  <a:pt x="15240" y="0"/>
                </a:lnTo>
                <a:lnTo>
                  <a:pt x="22860" y="0"/>
                </a:lnTo>
                <a:lnTo>
                  <a:pt x="30480" y="0"/>
                </a:lnTo>
                <a:lnTo>
                  <a:pt x="38100" y="0"/>
                </a:lnTo>
                <a:lnTo>
                  <a:pt x="45720" y="0"/>
                </a:lnTo>
                <a:lnTo>
                  <a:pt x="53340" y="0"/>
                </a:lnTo>
                <a:lnTo>
                  <a:pt x="76200" y="0"/>
                </a:lnTo>
                <a:lnTo>
                  <a:pt x="76200" y="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Freeform 8235"/>
          <p:cNvSpPr/>
          <p:nvPr/>
        </p:nvSpPr>
        <p:spPr>
          <a:xfrm>
            <a:off x="1515960" y="4289400"/>
            <a:ext cx="84240" cy="617400"/>
          </a:xfrm>
          <a:custGeom>
            <a:avLst/>
            <a:gdLst>
              <a:gd name="textAreaLeft" fmla="*/ 0 w 84240"/>
              <a:gd name="textAreaRight" fmla="*/ 84600 w 84240"/>
              <a:gd name="textAreaTop" fmla="*/ 0 h 617400"/>
              <a:gd name="textAreaBottom" fmla="*/ 617760 h 617400"/>
            </a:gdLst>
            <a:ahLst/>
            <a:rect l="textAreaLeft" t="textAreaTop" r="textAreaRight" b="textAreaBottom"/>
            <a:pathLst>
              <a:path w="83821" h="617221">
                <a:moveTo>
                  <a:pt x="0" y="0"/>
                </a:moveTo>
                <a:lnTo>
                  <a:pt x="0" y="0"/>
                </a:lnTo>
                <a:lnTo>
                  <a:pt x="0" y="7620"/>
                </a:lnTo>
                <a:lnTo>
                  <a:pt x="0" y="7620"/>
                </a:lnTo>
                <a:lnTo>
                  <a:pt x="0" y="15240"/>
                </a:lnTo>
                <a:lnTo>
                  <a:pt x="7620" y="15240"/>
                </a:lnTo>
                <a:lnTo>
                  <a:pt x="7620" y="22860"/>
                </a:lnTo>
                <a:lnTo>
                  <a:pt x="7620" y="30480"/>
                </a:lnTo>
                <a:lnTo>
                  <a:pt x="7620" y="38100"/>
                </a:lnTo>
                <a:lnTo>
                  <a:pt x="7620" y="45720"/>
                </a:lnTo>
                <a:lnTo>
                  <a:pt x="7620" y="60960"/>
                </a:lnTo>
                <a:lnTo>
                  <a:pt x="15240" y="68580"/>
                </a:lnTo>
                <a:lnTo>
                  <a:pt x="15240" y="76200"/>
                </a:lnTo>
                <a:lnTo>
                  <a:pt x="15240" y="91440"/>
                </a:lnTo>
                <a:lnTo>
                  <a:pt x="22860" y="99060"/>
                </a:lnTo>
                <a:lnTo>
                  <a:pt x="22860" y="114300"/>
                </a:lnTo>
                <a:lnTo>
                  <a:pt x="22860" y="129540"/>
                </a:lnTo>
                <a:lnTo>
                  <a:pt x="22860" y="144780"/>
                </a:lnTo>
                <a:lnTo>
                  <a:pt x="22860" y="160020"/>
                </a:lnTo>
                <a:lnTo>
                  <a:pt x="22860" y="175260"/>
                </a:lnTo>
                <a:lnTo>
                  <a:pt x="22860" y="190500"/>
                </a:lnTo>
                <a:lnTo>
                  <a:pt x="22860" y="213360"/>
                </a:lnTo>
                <a:lnTo>
                  <a:pt x="22860" y="228600"/>
                </a:lnTo>
                <a:lnTo>
                  <a:pt x="22860" y="243840"/>
                </a:lnTo>
                <a:lnTo>
                  <a:pt x="30480" y="266700"/>
                </a:lnTo>
                <a:lnTo>
                  <a:pt x="30480" y="281940"/>
                </a:lnTo>
                <a:lnTo>
                  <a:pt x="30480" y="304800"/>
                </a:lnTo>
                <a:lnTo>
                  <a:pt x="30480" y="320040"/>
                </a:lnTo>
                <a:lnTo>
                  <a:pt x="30480" y="335280"/>
                </a:lnTo>
                <a:lnTo>
                  <a:pt x="38100" y="358140"/>
                </a:lnTo>
                <a:lnTo>
                  <a:pt x="38100" y="381000"/>
                </a:lnTo>
                <a:lnTo>
                  <a:pt x="38100" y="396240"/>
                </a:lnTo>
                <a:lnTo>
                  <a:pt x="45720" y="419100"/>
                </a:lnTo>
                <a:lnTo>
                  <a:pt x="45720" y="434340"/>
                </a:lnTo>
                <a:lnTo>
                  <a:pt x="53340" y="449580"/>
                </a:lnTo>
                <a:lnTo>
                  <a:pt x="53340" y="472440"/>
                </a:lnTo>
                <a:lnTo>
                  <a:pt x="53340" y="487680"/>
                </a:lnTo>
                <a:lnTo>
                  <a:pt x="60960" y="502920"/>
                </a:lnTo>
                <a:lnTo>
                  <a:pt x="68580" y="518160"/>
                </a:lnTo>
                <a:lnTo>
                  <a:pt x="68580" y="541020"/>
                </a:lnTo>
                <a:lnTo>
                  <a:pt x="76200" y="548640"/>
                </a:lnTo>
                <a:lnTo>
                  <a:pt x="76200" y="563880"/>
                </a:lnTo>
                <a:lnTo>
                  <a:pt x="76200" y="571500"/>
                </a:lnTo>
                <a:lnTo>
                  <a:pt x="83820" y="586740"/>
                </a:lnTo>
                <a:lnTo>
                  <a:pt x="83820" y="594360"/>
                </a:lnTo>
                <a:lnTo>
                  <a:pt x="83820" y="601980"/>
                </a:lnTo>
                <a:lnTo>
                  <a:pt x="83820" y="617220"/>
                </a:lnTo>
                <a:lnTo>
                  <a:pt x="83820" y="61722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Freeform 8236"/>
          <p:cNvSpPr/>
          <p:nvPr/>
        </p:nvSpPr>
        <p:spPr>
          <a:xfrm>
            <a:off x="930240" y="4282920"/>
            <a:ext cx="601560" cy="6480"/>
          </a:xfrm>
          <a:custGeom>
            <a:avLst/>
            <a:gdLst>
              <a:gd name="textAreaLeft" fmla="*/ 0 w 601560"/>
              <a:gd name="textAreaRight" fmla="*/ 601920 w 6015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601981" h="7621">
                <a:moveTo>
                  <a:pt x="601980" y="7620"/>
                </a:moveTo>
                <a:lnTo>
                  <a:pt x="601980" y="7620"/>
                </a:lnTo>
                <a:lnTo>
                  <a:pt x="601980" y="7620"/>
                </a:lnTo>
                <a:lnTo>
                  <a:pt x="601980" y="7620"/>
                </a:lnTo>
                <a:lnTo>
                  <a:pt x="601980" y="7620"/>
                </a:lnTo>
                <a:lnTo>
                  <a:pt x="601980" y="7620"/>
                </a:lnTo>
                <a:lnTo>
                  <a:pt x="594360" y="7620"/>
                </a:lnTo>
                <a:lnTo>
                  <a:pt x="594360" y="7620"/>
                </a:lnTo>
                <a:lnTo>
                  <a:pt x="594360" y="7620"/>
                </a:lnTo>
                <a:lnTo>
                  <a:pt x="586740" y="7620"/>
                </a:lnTo>
                <a:lnTo>
                  <a:pt x="579120" y="7620"/>
                </a:lnTo>
                <a:lnTo>
                  <a:pt x="579120" y="0"/>
                </a:lnTo>
                <a:lnTo>
                  <a:pt x="571500" y="0"/>
                </a:lnTo>
                <a:lnTo>
                  <a:pt x="563880" y="0"/>
                </a:lnTo>
                <a:lnTo>
                  <a:pt x="556260" y="0"/>
                </a:lnTo>
                <a:lnTo>
                  <a:pt x="541020" y="0"/>
                </a:lnTo>
                <a:lnTo>
                  <a:pt x="533400" y="0"/>
                </a:lnTo>
                <a:lnTo>
                  <a:pt x="525780" y="0"/>
                </a:lnTo>
                <a:lnTo>
                  <a:pt x="510540" y="0"/>
                </a:lnTo>
                <a:lnTo>
                  <a:pt x="495300" y="0"/>
                </a:lnTo>
                <a:lnTo>
                  <a:pt x="487680" y="0"/>
                </a:lnTo>
                <a:lnTo>
                  <a:pt x="472440" y="0"/>
                </a:lnTo>
                <a:lnTo>
                  <a:pt x="457200" y="0"/>
                </a:lnTo>
                <a:lnTo>
                  <a:pt x="441960" y="0"/>
                </a:lnTo>
                <a:lnTo>
                  <a:pt x="426720" y="0"/>
                </a:lnTo>
                <a:lnTo>
                  <a:pt x="411480" y="0"/>
                </a:lnTo>
                <a:lnTo>
                  <a:pt x="388620" y="0"/>
                </a:lnTo>
                <a:lnTo>
                  <a:pt x="373380" y="0"/>
                </a:lnTo>
                <a:lnTo>
                  <a:pt x="358140" y="0"/>
                </a:lnTo>
                <a:lnTo>
                  <a:pt x="335280" y="0"/>
                </a:lnTo>
                <a:lnTo>
                  <a:pt x="312420" y="0"/>
                </a:lnTo>
                <a:lnTo>
                  <a:pt x="297180" y="0"/>
                </a:lnTo>
                <a:lnTo>
                  <a:pt x="274320" y="0"/>
                </a:lnTo>
                <a:lnTo>
                  <a:pt x="251460" y="0"/>
                </a:lnTo>
                <a:lnTo>
                  <a:pt x="228600" y="0"/>
                </a:lnTo>
                <a:lnTo>
                  <a:pt x="213360" y="0"/>
                </a:lnTo>
                <a:lnTo>
                  <a:pt x="190500" y="0"/>
                </a:lnTo>
                <a:lnTo>
                  <a:pt x="167640" y="0"/>
                </a:lnTo>
                <a:lnTo>
                  <a:pt x="152400" y="0"/>
                </a:lnTo>
                <a:lnTo>
                  <a:pt x="129540" y="0"/>
                </a:lnTo>
                <a:lnTo>
                  <a:pt x="106680" y="0"/>
                </a:lnTo>
                <a:lnTo>
                  <a:pt x="91440" y="7620"/>
                </a:lnTo>
                <a:lnTo>
                  <a:pt x="76200" y="7620"/>
                </a:lnTo>
                <a:lnTo>
                  <a:pt x="60960" y="7620"/>
                </a:lnTo>
                <a:lnTo>
                  <a:pt x="45720" y="7620"/>
                </a:lnTo>
                <a:lnTo>
                  <a:pt x="30480" y="7620"/>
                </a:lnTo>
                <a:lnTo>
                  <a:pt x="22860" y="7620"/>
                </a:lnTo>
                <a:lnTo>
                  <a:pt x="15240" y="7620"/>
                </a:lnTo>
                <a:lnTo>
                  <a:pt x="7620" y="7620"/>
                </a:lnTo>
                <a:lnTo>
                  <a:pt x="7620" y="762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Freeform 8237"/>
          <p:cNvSpPr/>
          <p:nvPr/>
        </p:nvSpPr>
        <p:spPr>
          <a:xfrm>
            <a:off x="1486080" y="3733920"/>
            <a:ext cx="29880" cy="555480"/>
          </a:xfrm>
          <a:custGeom>
            <a:avLst/>
            <a:gdLst>
              <a:gd name="textAreaLeft" fmla="*/ 0 w 29880"/>
              <a:gd name="textAreaRight" fmla="*/ 30240 w 2988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30481" h="556261">
                <a:moveTo>
                  <a:pt x="30480" y="548640"/>
                </a:moveTo>
                <a:lnTo>
                  <a:pt x="22860" y="548640"/>
                </a:lnTo>
                <a:lnTo>
                  <a:pt x="22860" y="548640"/>
                </a:lnTo>
                <a:lnTo>
                  <a:pt x="22860" y="548640"/>
                </a:lnTo>
                <a:lnTo>
                  <a:pt x="22860" y="548640"/>
                </a:lnTo>
                <a:lnTo>
                  <a:pt x="22860" y="548640"/>
                </a:lnTo>
                <a:lnTo>
                  <a:pt x="22860" y="556260"/>
                </a:lnTo>
                <a:lnTo>
                  <a:pt x="22860" y="556260"/>
                </a:lnTo>
                <a:lnTo>
                  <a:pt x="22860" y="556260"/>
                </a:lnTo>
                <a:lnTo>
                  <a:pt x="22860" y="556260"/>
                </a:lnTo>
                <a:lnTo>
                  <a:pt x="22860" y="556260"/>
                </a:lnTo>
                <a:lnTo>
                  <a:pt x="22860" y="556260"/>
                </a:lnTo>
                <a:lnTo>
                  <a:pt x="22860" y="556260"/>
                </a:lnTo>
                <a:lnTo>
                  <a:pt x="22860" y="548640"/>
                </a:lnTo>
                <a:lnTo>
                  <a:pt x="22860" y="548640"/>
                </a:lnTo>
                <a:lnTo>
                  <a:pt x="22860" y="548640"/>
                </a:lnTo>
                <a:lnTo>
                  <a:pt x="22860" y="548640"/>
                </a:lnTo>
                <a:lnTo>
                  <a:pt x="22860" y="548640"/>
                </a:lnTo>
                <a:lnTo>
                  <a:pt x="22860" y="548640"/>
                </a:lnTo>
                <a:lnTo>
                  <a:pt x="22860" y="548640"/>
                </a:lnTo>
                <a:lnTo>
                  <a:pt x="22860" y="541020"/>
                </a:lnTo>
                <a:lnTo>
                  <a:pt x="22860" y="541020"/>
                </a:lnTo>
                <a:lnTo>
                  <a:pt x="22860" y="533400"/>
                </a:lnTo>
                <a:lnTo>
                  <a:pt x="22860" y="533400"/>
                </a:lnTo>
                <a:lnTo>
                  <a:pt x="22860" y="533400"/>
                </a:lnTo>
                <a:lnTo>
                  <a:pt x="22860" y="525780"/>
                </a:lnTo>
                <a:lnTo>
                  <a:pt x="22860" y="518160"/>
                </a:lnTo>
                <a:lnTo>
                  <a:pt x="22860" y="518160"/>
                </a:lnTo>
                <a:lnTo>
                  <a:pt x="22860" y="510540"/>
                </a:lnTo>
                <a:lnTo>
                  <a:pt x="22860" y="502920"/>
                </a:lnTo>
                <a:lnTo>
                  <a:pt x="22860" y="495300"/>
                </a:lnTo>
                <a:lnTo>
                  <a:pt x="22860" y="487680"/>
                </a:lnTo>
                <a:lnTo>
                  <a:pt x="15240" y="480060"/>
                </a:lnTo>
                <a:lnTo>
                  <a:pt x="15240" y="472440"/>
                </a:lnTo>
                <a:lnTo>
                  <a:pt x="15240" y="464820"/>
                </a:lnTo>
                <a:lnTo>
                  <a:pt x="15240" y="457200"/>
                </a:lnTo>
                <a:lnTo>
                  <a:pt x="15240" y="441960"/>
                </a:lnTo>
                <a:lnTo>
                  <a:pt x="15240" y="434340"/>
                </a:lnTo>
                <a:lnTo>
                  <a:pt x="15240" y="426720"/>
                </a:lnTo>
                <a:lnTo>
                  <a:pt x="15240" y="411480"/>
                </a:lnTo>
                <a:lnTo>
                  <a:pt x="7620" y="396240"/>
                </a:lnTo>
                <a:lnTo>
                  <a:pt x="7620" y="381000"/>
                </a:lnTo>
                <a:lnTo>
                  <a:pt x="7620" y="365760"/>
                </a:lnTo>
                <a:lnTo>
                  <a:pt x="7620" y="358140"/>
                </a:lnTo>
                <a:lnTo>
                  <a:pt x="7620" y="335280"/>
                </a:lnTo>
                <a:lnTo>
                  <a:pt x="7620" y="320040"/>
                </a:lnTo>
                <a:lnTo>
                  <a:pt x="7620" y="304800"/>
                </a:lnTo>
                <a:lnTo>
                  <a:pt x="0" y="289560"/>
                </a:lnTo>
                <a:lnTo>
                  <a:pt x="0" y="266700"/>
                </a:lnTo>
                <a:lnTo>
                  <a:pt x="0" y="251460"/>
                </a:lnTo>
                <a:lnTo>
                  <a:pt x="0" y="228600"/>
                </a:lnTo>
                <a:lnTo>
                  <a:pt x="0" y="213360"/>
                </a:lnTo>
                <a:lnTo>
                  <a:pt x="0" y="190500"/>
                </a:lnTo>
                <a:lnTo>
                  <a:pt x="0" y="175260"/>
                </a:lnTo>
                <a:lnTo>
                  <a:pt x="0" y="152400"/>
                </a:lnTo>
                <a:lnTo>
                  <a:pt x="0" y="137160"/>
                </a:lnTo>
                <a:lnTo>
                  <a:pt x="0" y="114300"/>
                </a:lnTo>
                <a:lnTo>
                  <a:pt x="0" y="91440"/>
                </a:lnTo>
                <a:lnTo>
                  <a:pt x="0" y="76200"/>
                </a:lnTo>
                <a:lnTo>
                  <a:pt x="0" y="60960"/>
                </a:lnTo>
                <a:lnTo>
                  <a:pt x="0" y="38100"/>
                </a:lnTo>
                <a:lnTo>
                  <a:pt x="0" y="2286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.2:  Find the center and radius of a circle with the following equ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1680" y="1751040"/>
            <a:ext cx="854064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quation:  (x – 4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+ (y + 2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nter (4, -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us =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 1"/>
          <p:cNvSpPr/>
          <p:nvPr/>
        </p:nvSpPr>
        <p:spPr>
          <a:xfrm>
            <a:off x="2629080" y="1616040"/>
            <a:ext cx="220320" cy="220680"/>
          </a:xfrm>
          <a:custGeom>
            <a:avLst/>
            <a:gdLst>
              <a:gd name="textAreaLeft" fmla="*/ 0 w 220320"/>
              <a:gd name="textAreaRight" fmla="*/ 220680 w 22032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20981" h="220981">
                <a:moveTo>
                  <a:pt x="220980" y="0"/>
                </a:moveTo>
                <a:lnTo>
                  <a:pt x="220980" y="0"/>
                </a:lnTo>
                <a:lnTo>
                  <a:pt x="220980" y="0"/>
                </a:lnTo>
                <a:lnTo>
                  <a:pt x="220980" y="0"/>
                </a:lnTo>
                <a:lnTo>
                  <a:pt x="220980" y="0"/>
                </a:lnTo>
                <a:lnTo>
                  <a:pt x="213360" y="0"/>
                </a:lnTo>
                <a:lnTo>
                  <a:pt x="213360" y="7620"/>
                </a:lnTo>
                <a:lnTo>
                  <a:pt x="213360" y="15240"/>
                </a:lnTo>
                <a:lnTo>
                  <a:pt x="205740" y="22860"/>
                </a:lnTo>
                <a:lnTo>
                  <a:pt x="198120" y="30480"/>
                </a:lnTo>
                <a:lnTo>
                  <a:pt x="190500" y="45720"/>
                </a:lnTo>
                <a:lnTo>
                  <a:pt x="182880" y="53340"/>
                </a:lnTo>
                <a:lnTo>
                  <a:pt x="167640" y="68580"/>
                </a:lnTo>
                <a:lnTo>
                  <a:pt x="152400" y="91440"/>
                </a:lnTo>
                <a:lnTo>
                  <a:pt x="144780" y="106680"/>
                </a:lnTo>
                <a:lnTo>
                  <a:pt x="129540" y="121920"/>
                </a:lnTo>
                <a:lnTo>
                  <a:pt x="114300" y="137160"/>
                </a:lnTo>
                <a:lnTo>
                  <a:pt x="99060" y="152400"/>
                </a:lnTo>
                <a:lnTo>
                  <a:pt x="83820" y="167640"/>
                </a:lnTo>
                <a:lnTo>
                  <a:pt x="68580" y="182880"/>
                </a:lnTo>
                <a:lnTo>
                  <a:pt x="60960" y="190500"/>
                </a:lnTo>
                <a:lnTo>
                  <a:pt x="45720" y="205740"/>
                </a:lnTo>
                <a:lnTo>
                  <a:pt x="38100" y="213360"/>
                </a:lnTo>
                <a:lnTo>
                  <a:pt x="22860" y="213360"/>
                </a:lnTo>
                <a:lnTo>
                  <a:pt x="15240" y="220980"/>
                </a:lnTo>
                <a:lnTo>
                  <a:pt x="7620" y="220980"/>
                </a:lnTo>
                <a:lnTo>
                  <a:pt x="0" y="220980"/>
                </a:lnTo>
                <a:lnTo>
                  <a:pt x="0" y="2209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Freeform 2"/>
          <p:cNvSpPr/>
          <p:nvPr/>
        </p:nvSpPr>
        <p:spPr>
          <a:xfrm>
            <a:off x="2651040" y="1660680"/>
            <a:ext cx="222480" cy="145800"/>
          </a:xfrm>
          <a:custGeom>
            <a:avLst/>
            <a:gdLst>
              <a:gd name="textAreaLeft" fmla="*/ 0 w 222480"/>
              <a:gd name="textAreaRight" fmla="*/ 222840 w 22248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220981" h="144781">
                <a:moveTo>
                  <a:pt x="0" y="7620"/>
                </a:moveTo>
                <a:lnTo>
                  <a:pt x="0" y="7620"/>
                </a:lnTo>
                <a:lnTo>
                  <a:pt x="7620" y="0"/>
                </a:lnTo>
                <a:lnTo>
                  <a:pt x="15240" y="0"/>
                </a:lnTo>
                <a:lnTo>
                  <a:pt x="22860" y="0"/>
                </a:lnTo>
                <a:lnTo>
                  <a:pt x="30480" y="0"/>
                </a:lnTo>
                <a:lnTo>
                  <a:pt x="38100" y="7620"/>
                </a:lnTo>
                <a:lnTo>
                  <a:pt x="45720" y="7620"/>
                </a:lnTo>
                <a:lnTo>
                  <a:pt x="60960" y="15240"/>
                </a:lnTo>
                <a:lnTo>
                  <a:pt x="68580" y="30480"/>
                </a:lnTo>
                <a:lnTo>
                  <a:pt x="76200" y="38100"/>
                </a:lnTo>
                <a:lnTo>
                  <a:pt x="91440" y="53340"/>
                </a:lnTo>
                <a:lnTo>
                  <a:pt x="99060" y="60960"/>
                </a:lnTo>
                <a:lnTo>
                  <a:pt x="114300" y="76200"/>
                </a:lnTo>
                <a:lnTo>
                  <a:pt x="129540" y="91440"/>
                </a:lnTo>
                <a:lnTo>
                  <a:pt x="137160" y="99060"/>
                </a:lnTo>
                <a:lnTo>
                  <a:pt x="152400" y="114300"/>
                </a:lnTo>
                <a:lnTo>
                  <a:pt x="167640" y="121920"/>
                </a:lnTo>
                <a:lnTo>
                  <a:pt x="182880" y="129540"/>
                </a:lnTo>
                <a:lnTo>
                  <a:pt x="198120" y="137160"/>
                </a:lnTo>
                <a:lnTo>
                  <a:pt x="220980" y="144780"/>
                </a:lnTo>
                <a:lnTo>
                  <a:pt x="220980" y="1447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Freeform 3"/>
          <p:cNvSpPr/>
          <p:nvPr/>
        </p:nvSpPr>
        <p:spPr>
          <a:xfrm>
            <a:off x="2911320" y="1722600"/>
            <a:ext cx="196920" cy="14040"/>
          </a:xfrm>
          <a:custGeom>
            <a:avLst/>
            <a:gdLst>
              <a:gd name="textAreaLeft" fmla="*/ 0 w 196920"/>
              <a:gd name="textAreaRight" fmla="*/ 197280 w 19692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198121" h="15241">
                <a:moveTo>
                  <a:pt x="0" y="15240"/>
                </a:moveTo>
                <a:lnTo>
                  <a:pt x="0" y="15240"/>
                </a:lnTo>
                <a:lnTo>
                  <a:pt x="0" y="15240"/>
                </a:lnTo>
                <a:lnTo>
                  <a:pt x="0" y="15240"/>
                </a:lnTo>
                <a:lnTo>
                  <a:pt x="0" y="15240"/>
                </a:lnTo>
                <a:lnTo>
                  <a:pt x="7620" y="15240"/>
                </a:lnTo>
                <a:lnTo>
                  <a:pt x="22860" y="15240"/>
                </a:lnTo>
                <a:lnTo>
                  <a:pt x="30480" y="15240"/>
                </a:lnTo>
                <a:lnTo>
                  <a:pt x="53340" y="15240"/>
                </a:lnTo>
                <a:lnTo>
                  <a:pt x="68580" y="7620"/>
                </a:lnTo>
                <a:lnTo>
                  <a:pt x="83820" y="7620"/>
                </a:lnTo>
                <a:lnTo>
                  <a:pt x="99060" y="7620"/>
                </a:lnTo>
                <a:lnTo>
                  <a:pt x="121920" y="7620"/>
                </a:lnTo>
                <a:lnTo>
                  <a:pt x="137160" y="7620"/>
                </a:lnTo>
                <a:lnTo>
                  <a:pt x="152400" y="7620"/>
                </a:lnTo>
                <a:lnTo>
                  <a:pt x="167640" y="0"/>
                </a:lnTo>
                <a:lnTo>
                  <a:pt x="198120" y="0"/>
                </a:lnTo>
                <a:lnTo>
                  <a:pt x="19812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1320" bIns="-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Freeform 4"/>
          <p:cNvSpPr/>
          <p:nvPr/>
        </p:nvSpPr>
        <p:spPr>
          <a:xfrm>
            <a:off x="3216240" y="1508040"/>
            <a:ext cx="190440" cy="274680"/>
          </a:xfrm>
          <a:custGeom>
            <a:avLst/>
            <a:gdLst>
              <a:gd name="textAreaLeft" fmla="*/ 0 w 190440"/>
              <a:gd name="textAreaRight" fmla="*/ 190800 w 19044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90501" h="27432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620"/>
                </a:lnTo>
                <a:lnTo>
                  <a:pt x="0" y="7620"/>
                </a:lnTo>
                <a:lnTo>
                  <a:pt x="0" y="15240"/>
                </a:lnTo>
                <a:lnTo>
                  <a:pt x="0" y="22860"/>
                </a:lnTo>
                <a:lnTo>
                  <a:pt x="7620" y="30480"/>
                </a:lnTo>
                <a:lnTo>
                  <a:pt x="7620" y="45720"/>
                </a:lnTo>
                <a:lnTo>
                  <a:pt x="7620" y="53340"/>
                </a:lnTo>
                <a:lnTo>
                  <a:pt x="7620" y="68580"/>
                </a:lnTo>
                <a:lnTo>
                  <a:pt x="7620" y="83820"/>
                </a:lnTo>
                <a:lnTo>
                  <a:pt x="7620" y="99060"/>
                </a:lnTo>
                <a:lnTo>
                  <a:pt x="7620" y="114300"/>
                </a:lnTo>
                <a:lnTo>
                  <a:pt x="7620" y="137160"/>
                </a:lnTo>
                <a:lnTo>
                  <a:pt x="7620" y="152400"/>
                </a:lnTo>
                <a:lnTo>
                  <a:pt x="7620" y="167640"/>
                </a:lnTo>
                <a:lnTo>
                  <a:pt x="7620" y="190500"/>
                </a:lnTo>
                <a:lnTo>
                  <a:pt x="15240" y="205740"/>
                </a:lnTo>
                <a:lnTo>
                  <a:pt x="15240" y="213360"/>
                </a:lnTo>
                <a:lnTo>
                  <a:pt x="15240" y="228600"/>
                </a:lnTo>
                <a:lnTo>
                  <a:pt x="15240" y="236220"/>
                </a:lnTo>
                <a:lnTo>
                  <a:pt x="15240" y="251460"/>
                </a:lnTo>
                <a:lnTo>
                  <a:pt x="15240" y="259080"/>
                </a:lnTo>
                <a:lnTo>
                  <a:pt x="15240" y="259080"/>
                </a:lnTo>
                <a:lnTo>
                  <a:pt x="15240" y="266700"/>
                </a:lnTo>
                <a:lnTo>
                  <a:pt x="15240" y="266700"/>
                </a:lnTo>
                <a:lnTo>
                  <a:pt x="15240" y="266700"/>
                </a:lnTo>
                <a:lnTo>
                  <a:pt x="15240" y="266700"/>
                </a:lnTo>
                <a:lnTo>
                  <a:pt x="15240" y="266700"/>
                </a:lnTo>
                <a:lnTo>
                  <a:pt x="22860" y="259080"/>
                </a:lnTo>
                <a:lnTo>
                  <a:pt x="22860" y="251460"/>
                </a:lnTo>
                <a:lnTo>
                  <a:pt x="22860" y="243840"/>
                </a:lnTo>
                <a:lnTo>
                  <a:pt x="30480" y="228600"/>
                </a:lnTo>
                <a:lnTo>
                  <a:pt x="30480" y="220980"/>
                </a:lnTo>
                <a:lnTo>
                  <a:pt x="38100" y="213360"/>
                </a:lnTo>
                <a:lnTo>
                  <a:pt x="45720" y="198120"/>
                </a:lnTo>
                <a:lnTo>
                  <a:pt x="53340" y="190500"/>
                </a:lnTo>
                <a:lnTo>
                  <a:pt x="53340" y="182880"/>
                </a:lnTo>
                <a:lnTo>
                  <a:pt x="60960" y="175260"/>
                </a:lnTo>
                <a:lnTo>
                  <a:pt x="68580" y="167640"/>
                </a:lnTo>
                <a:lnTo>
                  <a:pt x="76200" y="167640"/>
                </a:lnTo>
                <a:lnTo>
                  <a:pt x="83820" y="160020"/>
                </a:lnTo>
                <a:lnTo>
                  <a:pt x="83820" y="160020"/>
                </a:lnTo>
                <a:lnTo>
                  <a:pt x="91440" y="160020"/>
                </a:lnTo>
                <a:lnTo>
                  <a:pt x="99060" y="167640"/>
                </a:lnTo>
                <a:lnTo>
                  <a:pt x="106680" y="167640"/>
                </a:lnTo>
                <a:lnTo>
                  <a:pt x="114300" y="175260"/>
                </a:lnTo>
                <a:lnTo>
                  <a:pt x="121920" y="182880"/>
                </a:lnTo>
                <a:lnTo>
                  <a:pt x="129540" y="190500"/>
                </a:lnTo>
                <a:lnTo>
                  <a:pt x="137160" y="198120"/>
                </a:lnTo>
                <a:lnTo>
                  <a:pt x="144780" y="205740"/>
                </a:lnTo>
                <a:lnTo>
                  <a:pt x="152400" y="220980"/>
                </a:lnTo>
                <a:lnTo>
                  <a:pt x="160020" y="228600"/>
                </a:lnTo>
                <a:lnTo>
                  <a:pt x="160020" y="243840"/>
                </a:lnTo>
                <a:lnTo>
                  <a:pt x="167640" y="251460"/>
                </a:lnTo>
                <a:lnTo>
                  <a:pt x="175260" y="259080"/>
                </a:lnTo>
                <a:lnTo>
                  <a:pt x="175260" y="266700"/>
                </a:lnTo>
                <a:lnTo>
                  <a:pt x="182880" y="266700"/>
                </a:lnTo>
                <a:lnTo>
                  <a:pt x="182880" y="274320"/>
                </a:lnTo>
                <a:lnTo>
                  <a:pt x="190500" y="274320"/>
                </a:lnTo>
                <a:lnTo>
                  <a:pt x="190500" y="274320"/>
                </a:lnTo>
                <a:lnTo>
                  <a:pt x="190500" y="2743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Freeform 5"/>
          <p:cNvSpPr/>
          <p:nvPr/>
        </p:nvSpPr>
        <p:spPr>
          <a:xfrm>
            <a:off x="3375000" y="1447920"/>
            <a:ext cx="146160" cy="342720"/>
          </a:xfrm>
          <a:custGeom>
            <a:avLst/>
            <a:gdLst>
              <a:gd name="textAreaLeft" fmla="*/ 0 w 146160"/>
              <a:gd name="textAreaRight" fmla="*/ 146520 w 14616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144781" h="342901">
                <a:moveTo>
                  <a:pt x="0" y="0"/>
                </a:moveTo>
                <a:lnTo>
                  <a:pt x="0" y="0"/>
                </a:lnTo>
                <a:lnTo>
                  <a:pt x="0" y="7620"/>
                </a:lnTo>
                <a:lnTo>
                  <a:pt x="7620" y="7620"/>
                </a:lnTo>
                <a:lnTo>
                  <a:pt x="22860" y="15240"/>
                </a:lnTo>
                <a:lnTo>
                  <a:pt x="30480" y="22860"/>
                </a:lnTo>
                <a:lnTo>
                  <a:pt x="38100" y="38100"/>
                </a:lnTo>
                <a:lnTo>
                  <a:pt x="45720" y="45720"/>
                </a:lnTo>
                <a:lnTo>
                  <a:pt x="60960" y="60960"/>
                </a:lnTo>
                <a:lnTo>
                  <a:pt x="76200" y="76200"/>
                </a:lnTo>
                <a:lnTo>
                  <a:pt x="83820" y="99060"/>
                </a:lnTo>
                <a:lnTo>
                  <a:pt x="99060" y="114300"/>
                </a:lnTo>
                <a:lnTo>
                  <a:pt x="106680" y="137160"/>
                </a:lnTo>
                <a:lnTo>
                  <a:pt x="121920" y="160020"/>
                </a:lnTo>
                <a:lnTo>
                  <a:pt x="129540" y="182880"/>
                </a:lnTo>
                <a:lnTo>
                  <a:pt x="137160" y="205740"/>
                </a:lnTo>
                <a:lnTo>
                  <a:pt x="144780" y="220980"/>
                </a:lnTo>
                <a:lnTo>
                  <a:pt x="144780" y="251460"/>
                </a:lnTo>
                <a:lnTo>
                  <a:pt x="144780" y="266700"/>
                </a:lnTo>
                <a:lnTo>
                  <a:pt x="144780" y="289560"/>
                </a:lnTo>
                <a:lnTo>
                  <a:pt x="144780" y="304800"/>
                </a:lnTo>
                <a:lnTo>
                  <a:pt x="137160" y="320040"/>
                </a:lnTo>
                <a:lnTo>
                  <a:pt x="129540" y="342900"/>
                </a:lnTo>
                <a:lnTo>
                  <a:pt x="129540" y="3429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Freeform 6"/>
          <p:cNvSpPr/>
          <p:nvPr/>
        </p:nvSpPr>
        <p:spPr>
          <a:xfrm>
            <a:off x="2492280" y="1600200"/>
            <a:ext cx="204840" cy="320760"/>
          </a:xfrm>
          <a:custGeom>
            <a:avLst/>
            <a:gdLst>
              <a:gd name="textAreaLeft" fmla="*/ 0 w 204840"/>
              <a:gd name="textAreaRight" fmla="*/ 205200 w 20484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w="205741" h="320041">
                <a:moveTo>
                  <a:pt x="99060" y="0"/>
                </a:moveTo>
                <a:lnTo>
                  <a:pt x="99060" y="0"/>
                </a:lnTo>
                <a:lnTo>
                  <a:pt x="83820" y="7620"/>
                </a:lnTo>
                <a:lnTo>
                  <a:pt x="76200" y="15240"/>
                </a:lnTo>
                <a:lnTo>
                  <a:pt x="60960" y="30480"/>
                </a:lnTo>
                <a:lnTo>
                  <a:pt x="53340" y="38100"/>
                </a:lnTo>
                <a:lnTo>
                  <a:pt x="45720" y="53340"/>
                </a:lnTo>
                <a:lnTo>
                  <a:pt x="30480" y="68580"/>
                </a:lnTo>
                <a:lnTo>
                  <a:pt x="22860" y="83820"/>
                </a:lnTo>
                <a:lnTo>
                  <a:pt x="15240" y="99060"/>
                </a:lnTo>
                <a:lnTo>
                  <a:pt x="7620" y="121920"/>
                </a:lnTo>
                <a:lnTo>
                  <a:pt x="0" y="137160"/>
                </a:lnTo>
                <a:lnTo>
                  <a:pt x="0" y="160020"/>
                </a:lnTo>
                <a:lnTo>
                  <a:pt x="0" y="175260"/>
                </a:lnTo>
                <a:lnTo>
                  <a:pt x="7620" y="198120"/>
                </a:lnTo>
                <a:lnTo>
                  <a:pt x="15240" y="220980"/>
                </a:lnTo>
                <a:lnTo>
                  <a:pt x="22860" y="236220"/>
                </a:lnTo>
                <a:lnTo>
                  <a:pt x="38100" y="251460"/>
                </a:lnTo>
                <a:lnTo>
                  <a:pt x="53340" y="266700"/>
                </a:lnTo>
                <a:lnTo>
                  <a:pt x="76200" y="281940"/>
                </a:lnTo>
                <a:lnTo>
                  <a:pt x="99060" y="289560"/>
                </a:lnTo>
                <a:lnTo>
                  <a:pt x="129540" y="304800"/>
                </a:lnTo>
                <a:lnTo>
                  <a:pt x="160020" y="304800"/>
                </a:lnTo>
                <a:lnTo>
                  <a:pt x="205740" y="320040"/>
                </a:lnTo>
                <a:lnTo>
                  <a:pt x="205740" y="3200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Freeform 7"/>
          <p:cNvSpPr/>
          <p:nvPr/>
        </p:nvSpPr>
        <p:spPr>
          <a:xfrm>
            <a:off x="3483000" y="1355760"/>
            <a:ext cx="182520" cy="160200"/>
          </a:xfrm>
          <a:custGeom>
            <a:avLst/>
            <a:gdLst>
              <a:gd name="textAreaLeft" fmla="*/ 0 w 182520"/>
              <a:gd name="textAreaRight" fmla="*/ 182880 w 18252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182881" h="160021">
                <a:moveTo>
                  <a:pt x="7620" y="53340"/>
                </a:moveTo>
                <a:lnTo>
                  <a:pt x="0" y="45720"/>
                </a:lnTo>
                <a:lnTo>
                  <a:pt x="0" y="38100"/>
                </a:lnTo>
                <a:lnTo>
                  <a:pt x="0" y="38100"/>
                </a:lnTo>
                <a:lnTo>
                  <a:pt x="0" y="30480"/>
                </a:lnTo>
                <a:lnTo>
                  <a:pt x="0" y="22860"/>
                </a:lnTo>
                <a:lnTo>
                  <a:pt x="0" y="22860"/>
                </a:lnTo>
                <a:lnTo>
                  <a:pt x="0" y="15240"/>
                </a:lnTo>
                <a:lnTo>
                  <a:pt x="15240" y="15240"/>
                </a:lnTo>
                <a:lnTo>
                  <a:pt x="22860" y="7620"/>
                </a:lnTo>
                <a:lnTo>
                  <a:pt x="30480" y="7620"/>
                </a:lnTo>
                <a:lnTo>
                  <a:pt x="38100" y="7620"/>
                </a:lnTo>
                <a:lnTo>
                  <a:pt x="60960" y="7620"/>
                </a:lnTo>
                <a:lnTo>
                  <a:pt x="68580" y="0"/>
                </a:lnTo>
                <a:lnTo>
                  <a:pt x="83820" y="7620"/>
                </a:lnTo>
                <a:lnTo>
                  <a:pt x="99060" y="7620"/>
                </a:lnTo>
                <a:lnTo>
                  <a:pt x="114300" y="7620"/>
                </a:lnTo>
                <a:lnTo>
                  <a:pt x="129540" y="7620"/>
                </a:lnTo>
                <a:lnTo>
                  <a:pt x="137160" y="15240"/>
                </a:lnTo>
                <a:lnTo>
                  <a:pt x="152400" y="15240"/>
                </a:lnTo>
                <a:lnTo>
                  <a:pt x="160020" y="22860"/>
                </a:lnTo>
                <a:lnTo>
                  <a:pt x="160020" y="30480"/>
                </a:lnTo>
                <a:lnTo>
                  <a:pt x="160020" y="38100"/>
                </a:lnTo>
                <a:lnTo>
                  <a:pt x="160020" y="38100"/>
                </a:lnTo>
                <a:lnTo>
                  <a:pt x="160020" y="45720"/>
                </a:lnTo>
                <a:lnTo>
                  <a:pt x="152400" y="53340"/>
                </a:lnTo>
                <a:lnTo>
                  <a:pt x="144780" y="60960"/>
                </a:lnTo>
                <a:lnTo>
                  <a:pt x="137160" y="68580"/>
                </a:lnTo>
                <a:lnTo>
                  <a:pt x="121920" y="76200"/>
                </a:lnTo>
                <a:lnTo>
                  <a:pt x="114300" y="83820"/>
                </a:lnTo>
                <a:lnTo>
                  <a:pt x="106680" y="91440"/>
                </a:lnTo>
                <a:lnTo>
                  <a:pt x="99060" y="99060"/>
                </a:lnTo>
                <a:lnTo>
                  <a:pt x="99060" y="106680"/>
                </a:lnTo>
                <a:lnTo>
                  <a:pt x="99060" y="121920"/>
                </a:lnTo>
                <a:lnTo>
                  <a:pt x="99060" y="121920"/>
                </a:lnTo>
                <a:lnTo>
                  <a:pt x="114300" y="129540"/>
                </a:lnTo>
                <a:lnTo>
                  <a:pt x="121920" y="137160"/>
                </a:lnTo>
                <a:lnTo>
                  <a:pt x="137160" y="144780"/>
                </a:lnTo>
                <a:lnTo>
                  <a:pt x="160020" y="144780"/>
                </a:lnTo>
                <a:lnTo>
                  <a:pt x="182880" y="160020"/>
                </a:lnTo>
                <a:lnTo>
                  <a:pt x="182880" y="1600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Freeform 8"/>
          <p:cNvSpPr/>
          <p:nvPr/>
        </p:nvSpPr>
        <p:spPr>
          <a:xfrm>
            <a:off x="4259160" y="1554120"/>
            <a:ext cx="214560" cy="297000"/>
          </a:xfrm>
          <a:custGeom>
            <a:avLst/>
            <a:gdLst>
              <a:gd name="textAreaLeft" fmla="*/ 0 w 214560"/>
              <a:gd name="textAreaRight" fmla="*/ 214920 w 21456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213361" h="297181">
                <a:moveTo>
                  <a:pt x="30480" y="0"/>
                </a:moveTo>
                <a:lnTo>
                  <a:pt x="30480" y="0"/>
                </a:lnTo>
                <a:lnTo>
                  <a:pt x="22860" y="0"/>
                </a:lnTo>
                <a:lnTo>
                  <a:pt x="22860" y="7620"/>
                </a:lnTo>
                <a:lnTo>
                  <a:pt x="22860" y="7620"/>
                </a:lnTo>
                <a:lnTo>
                  <a:pt x="22860" y="15240"/>
                </a:lnTo>
                <a:lnTo>
                  <a:pt x="15240" y="22860"/>
                </a:lnTo>
                <a:lnTo>
                  <a:pt x="7620" y="30480"/>
                </a:lnTo>
                <a:lnTo>
                  <a:pt x="7620" y="38100"/>
                </a:lnTo>
                <a:lnTo>
                  <a:pt x="0" y="45720"/>
                </a:lnTo>
                <a:lnTo>
                  <a:pt x="0" y="60960"/>
                </a:lnTo>
                <a:lnTo>
                  <a:pt x="0" y="68580"/>
                </a:lnTo>
                <a:lnTo>
                  <a:pt x="0" y="83820"/>
                </a:lnTo>
                <a:lnTo>
                  <a:pt x="0" y="91440"/>
                </a:lnTo>
                <a:lnTo>
                  <a:pt x="0" y="106680"/>
                </a:lnTo>
                <a:lnTo>
                  <a:pt x="0" y="114300"/>
                </a:lnTo>
                <a:lnTo>
                  <a:pt x="7620" y="121920"/>
                </a:lnTo>
                <a:lnTo>
                  <a:pt x="7620" y="129540"/>
                </a:lnTo>
                <a:lnTo>
                  <a:pt x="15240" y="137160"/>
                </a:lnTo>
                <a:lnTo>
                  <a:pt x="22860" y="144780"/>
                </a:lnTo>
                <a:lnTo>
                  <a:pt x="30480" y="144780"/>
                </a:lnTo>
                <a:lnTo>
                  <a:pt x="38100" y="152400"/>
                </a:lnTo>
                <a:lnTo>
                  <a:pt x="53340" y="152400"/>
                </a:lnTo>
                <a:lnTo>
                  <a:pt x="60960" y="144780"/>
                </a:lnTo>
                <a:lnTo>
                  <a:pt x="76200" y="144780"/>
                </a:lnTo>
                <a:lnTo>
                  <a:pt x="83820" y="137160"/>
                </a:lnTo>
                <a:lnTo>
                  <a:pt x="99060" y="129540"/>
                </a:lnTo>
                <a:lnTo>
                  <a:pt x="106680" y="121920"/>
                </a:lnTo>
                <a:lnTo>
                  <a:pt x="121920" y="114300"/>
                </a:lnTo>
                <a:lnTo>
                  <a:pt x="129540" y="99060"/>
                </a:lnTo>
                <a:lnTo>
                  <a:pt x="144780" y="83820"/>
                </a:lnTo>
                <a:lnTo>
                  <a:pt x="152400" y="76200"/>
                </a:lnTo>
                <a:lnTo>
                  <a:pt x="160020" y="60960"/>
                </a:lnTo>
                <a:lnTo>
                  <a:pt x="167640" y="53340"/>
                </a:lnTo>
                <a:lnTo>
                  <a:pt x="167640" y="45720"/>
                </a:lnTo>
                <a:lnTo>
                  <a:pt x="167640" y="30480"/>
                </a:lnTo>
                <a:lnTo>
                  <a:pt x="167640" y="30480"/>
                </a:lnTo>
                <a:lnTo>
                  <a:pt x="167640" y="22860"/>
                </a:lnTo>
                <a:lnTo>
                  <a:pt x="175260" y="15240"/>
                </a:lnTo>
                <a:lnTo>
                  <a:pt x="175260" y="15240"/>
                </a:lnTo>
                <a:lnTo>
                  <a:pt x="175260" y="15240"/>
                </a:lnTo>
                <a:lnTo>
                  <a:pt x="175260" y="15240"/>
                </a:lnTo>
                <a:lnTo>
                  <a:pt x="175260" y="15240"/>
                </a:lnTo>
                <a:lnTo>
                  <a:pt x="175260" y="15240"/>
                </a:lnTo>
                <a:lnTo>
                  <a:pt x="175260" y="30480"/>
                </a:lnTo>
                <a:lnTo>
                  <a:pt x="175260" y="30480"/>
                </a:lnTo>
                <a:lnTo>
                  <a:pt x="182880" y="45720"/>
                </a:lnTo>
                <a:lnTo>
                  <a:pt x="182880" y="53340"/>
                </a:lnTo>
                <a:lnTo>
                  <a:pt x="182880" y="68580"/>
                </a:lnTo>
                <a:lnTo>
                  <a:pt x="190500" y="83820"/>
                </a:lnTo>
                <a:lnTo>
                  <a:pt x="190500" y="99060"/>
                </a:lnTo>
                <a:lnTo>
                  <a:pt x="198120" y="114300"/>
                </a:lnTo>
                <a:lnTo>
                  <a:pt x="198120" y="129540"/>
                </a:lnTo>
                <a:lnTo>
                  <a:pt x="205740" y="144780"/>
                </a:lnTo>
                <a:lnTo>
                  <a:pt x="205740" y="160020"/>
                </a:lnTo>
                <a:lnTo>
                  <a:pt x="213360" y="175260"/>
                </a:lnTo>
                <a:lnTo>
                  <a:pt x="213360" y="190500"/>
                </a:lnTo>
                <a:lnTo>
                  <a:pt x="213360" y="205740"/>
                </a:lnTo>
                <a:lnTo>
                  <a:pt x="213360" y="220980"/>
                </a:lnTo>
                <a:lnTo>
                  <a:pt x="205740" y="236220"/>
                </a:lnTo>
                <a:lnTo>
                  <a:pt x="205740" y="251460"/>
                </a:lnTo>
                <a:lnTo>
                  <a:pt x="198120" y="259080"/>
                </a:lnTo>
                <a:lnTo>
                  <a:pt x="190500" y="266700"/>
                </a:lnTo>
                <a:lnTo>
                  <a:pt x="175260" y="274320"/>
                </a:lnTo>
                <a:lnTo>
                  <a:pt x="167640" y="281940"/>
                </a:lnTo>
                <a:lnTo>
                  <a:pt x="152400" y="289560"/>
                </a:lnTo>
                <a:lnTo>
                  <a:pt x="137160" y="297180"/>
                </a:lnTo>
                <a:lnTo>
                  <a:pt x="121920" y="297180"/>
                </a:lnTo>
                <a:lnTo>
                  <a:pt x="99060" y="297180"/>
                </a:lnTo>
                <a:lnTo>
                  <a:pt x="83820" y="297180"/>
                </a:lnTo>
                <a:lnTo>
                  <a:pt x="76200" y="297180"/>
                </a:lnTo>
                <a:lnTo>
                  <a:pt x="60960" y="297180"/>
                </a:lnTo>
                <a:lnTo>
                  <a:pt x="45720" y="289560"/>
                </a:lnTo>
                <a:lnTo>
                  <a:pt x="30480" y="281940"/>
                </a:lnTo>
                <a:lnTo>
                  <a:pt x="30480" y="2819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Freeform 9"/>
          <p:cNvSpPr/>
          <p:nvPr/>
        </p:nvSpPr>
        <p:spPr>
          <a:xfrm>
            <a:off x="4541760" y="1622520"/>
            <a:ext cx="166680" cy="7920"/>
          </a:xfrm>
          <a:custGeom>
            <a:avLst/>
            <a:gdLst>
              <a:gd name="textAreaLeft" fmla="*/ 0 w 166680"/>
              <a:gd name="textAreaRight" fmla="*/ 167040 w 1666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67641" h="762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7620" y="0"/>
                </a:lnTo>
                <a:lnTo>
                  <a:pt x="7620" y="0"/>
                </a:lnTo>
                <a:lnTo>
                  <a:pt x="15240" y="0"/>
                </a:lnTo>
                <a:lnTo>
                  <a:pt x="22860" y="0"/>
                </a:lnTo>
                <a:lnTo>
                  <a:pt x="38100" y="7620"/>
                </a:lnTo>
                <a:lnTo>
                  <a:pt x="53340" y="7620"/>
                </a:lnTo>
                <a:lnTo>
                  <a:pt x="68580" y="7620"/>
                </a:lnTo>
                <a:lnTo>
                  <a:pt x="83820" y="7620"/>
                </a:lnTo>
                <a:lnTo>
                  <a:pt x="99060" y="7620"/>
                </a:lnTo>
                <a:lnTo>
                  <a:pt x="114300" y="7620"/>
                </a:lnTo>
                <a:lnTo>
                  <a:pt x="129540" y="7620"/>
                </a:lnTo>
                <a:lnTo>
                  <a:pt x="144780" y="7620"/>
                </a:lnTo>
                <a:lnTo>
                  <a:pt x="167640" y="7620"/>
                </a:lnTo>
                <a:lnTo>
                  <a:pt x="167640" y="7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Freeform 10"/>
          <p:cNvSpPr/>
          <p:nvPr/>
        </p:nvSpPr>
        <p:spPr>
          <a:xfrm>
            <a:off x="4778280" y="1463760"/>
            <a:ext cx="22320" cy="304560"/>
          </a:xfrm>
          <a:custGeom>
            <a:avLst/>
            <a:gdLst>
              <a:gd name="textAreaLeft" fmla="*/ 0 w 22320"/>
              <a:gd name="textAreaRight" fmla="*/ 22680 w 22320"/>
              <a:gd name="textAreaTop" fmla="*/ 0 h 304560"/>
              <a:gd name="textAreaBottom" fmla="*/ 304560 h 304560"/>
            </a:gdLst>
            <a:ahLst/>
            <a:rect l="textAreaLeft" t="textAreaTop" r="textAreaRight" b="textAreaBottom"/>
            <a:pathLst>
              <a:path w="22861" h="304801">
                <a:moveTo>
                  <a:pt x="22860" y="0"/>
                </a:moveTo>
                <a:lnTo>
                  <a:pt x="22860" y="0"/>
                </a:lnTo>
                <a:lnTo>
                  <a:pt x="22860" y="0"/>
                </a:lnTo>
                <a:lnTo>
                  <a:pt x="22860" y="7620"/>
                </a:lnTo>
                <a:lnTo>
                  <a:pt x="22860" y="15240"/>
                </a:lnTo>
                <a:lnTo>
                  <a:pt x="22860" y="22860"/>
                </a:lnTo>
                <a:lnTo>
                  <a:pt x="22860" y="30480"/>
                </a:lnTo>
                <a:lnTo>
                  <a:pt x="22860" y="38100"/>
                </a:lnTo>
                <a:lnTo>
                  <a:pt x="22860" y="53340"/>
                </a:lnTo>
                <a:lnTo>
                  <a:pt x="22860" y="68580"/>
                </a:lnTo>
                <a:lnTo>
                  <a:pt x="22860" y="83820"/>
                </a:lnTo>
                <a:lnTo>
                  <a:pt x="22860" y="99060"/>
                </a:lnTo>
                <a:lnTo>
                  <a:pt x="15240" y="114300"/>
                </a:lnTo>
                <a:lnTo>
                  <a:pt x="15240" y="129540"/>
                </a:lnTo>
                <a:lnTo>
                  <a:pt x="15240" y="144780"/>
                </a:lnTo>
                <a:lnTo>
                  <a:pt x="15240" y="167640"/>
                </a:lnTo>
                <a:lnTo>
                  <a:pt x="7620" y="182880"/>
                </a:lnTo>
                <a:lnTo>
                  <a:pt x="7620" y="198120"/>
                </a:lnTo>
                <a:lnTo>
                  <a:pt x="7620" y="213360"/>
                </a:lnTo>
                <a:lnTo>
                  <a:pt x="0" y="228600"/>
                </a:lnTo>
                <a:lnTo>
                  <a:pt x="0" y="243840"/>
                </a:lnTo>
                <a:lnTo>
                  <a:pt x="0" y="259080"/>
                </a:lnTo>
                <a:lnTo>
                  <a:pt x="0" y="266700"/>
                </a:lnTo>
                <a:lnTo>
                  <a:pt x="0" y="274320"/>
                </a:lnTo>
                <a:lnTo>
                  <a:pt x="7620" y="289560"/>
                </a:lnTo>
                <a:lnTo>
                  <a:pt x="7620" y="297180"/>
                </a:lnTo>
                <a:lnTo>
                  <a:pt x="7620" y="297180"/>
                </a:lnTo>
                <a:lnTo>
                  <a:pt x="7620" y="304800"/>
                </a:lnTo>
                <a:lnTo>
                  <a:pt x="7620" y="3048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Freeform 11"/>
          <p:cNvSpPr/>
          <p:nvPr/>
        </p:nvSpPr>
        <p:spPr>
          <a:xfrm>
            <a:off x="4792680" y="1546200"/>
            <a:ext cx="182520" cy="152280"/>
          </a:xfrm>
          <a:custGeom>
            <a:avLst/>
            <a:gdLst>
              <a:gd name="textAreaLeft" fmla="*/ 0 w 182520"/>
              <a:gd name="textAreaRight" fmla="*/ 182880 w 182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82881" h="152401">
                <a:moveTo>
                  <a:pt x="129540" y="0"/>
                </a:moveTo>
                <a:lnTo>
                  <a:pt x="129540" y="0"/>
                </a:lnTo>
                <a:lnTo>
                  <a:pt x="129540" y="0"/>
                </a:lnTo>
                <a:lnTo>
                  <a:pt x="129540" y="0"/>
                </a:lnTo>
                <a:lnTo>
                  <a:pt x="121920" y="0"/>
                </a:lnTo>
                <a:lnTo>
                  <a:pt x="121920" y="7620"/>
                </a:lnTo>
                <a:lnTo>
                  <a:pt x="114300" y="15240"/>
                </a:lnTo>
                <a:lnTo>
                  <a:pt x="106680" y="22860"/>
                </a:lnTo>
                <a:lnTo>
                  <a:pt x="99060" y="22860"/>
                </a:lnTo>
                <a:lnTo>
                  <a:pt x="83820" y="38100"/>
                </a:lnTo>
                <a:lnTo>
                  <a:pt x="76200" y="45720"/>
                </a:lnTo>
                <a:lnTo>
                  <a:pt x="60960" y="53340"/>
                </a:lnTo>
                <a:lnTo>
                  <a:pt x="53340" y="60960"/>
                </a:lnTo>
                <a:lnTo>
                  <a:pt x="38100" y="68580"/>
                </a:lnTo>
                <a:lnTo>
                  <a:pt x="30480" y="83820"/>
                </a:lnTo>
                <a:lnTo>
                  <a:pt x="15240" y="83820"/>
                </a:lnTo>
                <a:lnTo>
                  <a:pt x="15240" y="91440"/>
                </a:lnTo>
                <a:lnTo>
                  <a:pt x="7620" y="99060"/>
                </a:lnTo>
                <a:lnTo>
                  <a:pt x="0" y="106680"/>
                </a:lnTo>
                <a:lnTo>
                  <a:pt x="0" y="106680"/>
                </a:lnTo>
                <a:lnTo>
                  <a:pt x="0" y="106680"/>
                </a:lnTo>
                <a:lnTo>
                  <a:pt x="0" y="106680"/>
                </a:lnTo>
                <a:lnTo>
                  <a:pt x="0" y="106680"/>
                </a:lnTo>
                <a:lnTo>
                  <a:pt x="0" y="106680"/>
                </a:lnTo>
                <a:lnTo>
                  <a:pt x="7620" y="106680"/>
                </a:lnTo>
                <a:lnTo>
                  <a:pt x="15240" y="106680"/>
                </a:lnTo>
                <a:lnTo>
                  <a:pt x="30480" y="99060"/>
                </a:lnTo>
                <a:lnTo>
                  <a:pt x="38100" y="99060"/>
                </a:lnTo>
                <a:lnTo>
                  <a:pt x="53340" y="99060"/>
                </a:lnTo>
                <a:lnTo>
                  <a:pt x="60960" y="99060"/>
                </a:lnTo>
                <a:lnTo>
                  <a:pt x="76200" y="99060"/>
                </a:lnTo>
                <a:lnTo>
                  <a:pt x="91440" y="99060"/>
                </a:lnTo>
                <a:lnTo>
                  <a:pt x="99060" y="106680"/>
                </a:lnTo>
                <a:lnTo>
                  <a:pt x="114300" y="106680"/>
                </a:lnTo>
                <a:lnTo>
                  <a:pt x="121920" y="106680"/>
                </a:lnTo>
                <a:lnTo>
                  <a:pt x="137160" y="114300"/>
                </a:lnTo>
                <a:lnTo>
                  <a:pt x="144780" y="121920"/>
                </a:lnTo>
                <a:lnTo>
                  <a:pt x="152400" y="121920"/>
                </a:lnTo>
                <a:lnTo>
                  <a:pt x="160020" y="129540"/>
                </a:lnTo>
                <a:lnTo>
                  <a:pt x="167640" y="137160"/>
                </a:lnTo>
                <a:lnTo>
                  <a:pt x="175260" y="137160"/>
                </a:lnTo>
                <a:lnTo>
                  <a:pt x="175260" y="144780"/>
                </a:lnTo>
                <a:lnTo>
                  <a:pt x="182880" y="152400"/>
                </a:lnTo>
                <a:lnTo>
                  <a:pt x="182880" y="152400"/>
                </a:lnTo>
                <a:lnTo>
                  <a:pt x="182880" y="1524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Freeform 12"/>
          <p:cNvSpPr/>
          <p:nvPr/>
        </p:nvSpPr>
        <p:spPr>
          <a:xfrm>
            <a:off x="4952880" y="1387440"/>
            <a:ext cx="136800" cy="365040"/>
          </a:xfrm>
          <a:custGeom>
            <a:avLst/>
            <a:gdLst>
              <a:gd name="textAreaLeft" fmla="*/ 0 w 136800"/>
              <a:gd name="textAreaRight" fmla="*/ 137160 w 13680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137161" h="36576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7620" y="0"/>
                </a:lnTo>
                <a:lnTo>
                  <a:pt x="15240" y="0"/>
                </a:lnTo>
                <a:lnTo>
                  <a:pt x="22860" y="7620"/>
                </a:lnTo>
                <a:lnTo>
                  <a:pt x="30480" y="15240"/>
                </a:lnTo>
                <a:lnTo>
                  <a:pt x="38100" y="22860"/>
                </a:lnTo>
                <a:lnTo>
                  <a:pt x="45720" y="30480"/>
                </a:lnTo>
                <a:lnTo>
                  <a:pt x="60960" y="38100"/>
                </a:lnTo>
                <a:lnTo>
                  <a:pt x="76200" y="53340"/>
                </a:lnTo>
                <a:lnTo>
                  <a:pt x="83820" y="68580"/>
                </a:lnTo>
                <a:lnTo>
                  <a:pt x="91440" y="83820"/>
                </a:lnTo>
                <a:lnTo>
                  <a:pt x="106680" y="106680"/>
                </a:lnTo>
                <a:lnTo>
                  <a:pt x="114300" y="121920"/>
                </a:lnTo>
                <a:lnTo>
                  <a:pt x="121920" y="144780"/>
                </a:lnTo>
                <a:lnTo>
                  <a:pt x="129540" y="167640"/>
                </a:lnTo>
                <a:lnTo>
                  <a:pt x="129540" y="190500"/>
                </a:lnTo>
                <a:lnTo>
                  <a:pt x="137160" y="213360"/>
                </a:lnTo>
                <a:lnTo>
                  <a:pt x="129540" y="236220"/>
                </a:lnTo>
                <a:lnTo>
                  <a:pt x="129540" y="259080"/>
                </a:lnTo>
                <a:lnTo>
                  <a:pt x="121920" y="281940"/>
                </a:lnTo>
                <a:lnTo>
                  <a:pt x="114300" y="297180"/>
                </a:lnTo>
                <a:lnTo>
                  <a:pt x="99060" y="312420"/>
                </a:lnTo>
                <a:lnTo>
                  <a:pt x="83820" y="335280"/>
                </a:lnTo>
                <a:lnTo>
                  <a:pt x="68580" y="342900"/>
                </a:lnTo>
                <a:lnTo>
                  <a:pt x="45720" y="365760"/>
                </a:lnTo>
                <a:lnTo>
                  <a:pt x="45720" y="3657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Freeform 13"/>
          <p:cNvSpPr/>
          <p:nvPr/>
        </p:nvSpPr>
        <p:spPr>
          <a:xfrm>
            <a:off x="4060800" y="1501920"/>
            <a:ext cx="190440" cy="334800"/>
          </a:xfrm>
          <a:custGeom>
            <a:avLst/>
            <a:gdLst>
              <a:gd name="textAreaLeft" fmla="*/ 0 w 190440"/>
              <a:gd name="textAreaRight" fmla="*/ 190800 w 19044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190501" h="335281">
                <a:moveTo>
                  <a:pt x="60960" y="0"/>
                </a:moveTo>
                <a:lnTo>
                  <a:pt x="53340" y="0"/>
                </a:lnTo>
                <a:lnTo>
                  <a:pt x="53340" y="7620"/>
                </a:lnTo>
                <a:lnTo>
                  <a:pt x="45720" y="15240"/>
                </a:lnTo>
                <a:lnTo>
                  <a:pt x="38100" y="22860"/>
                </a:lnTo>
                <a:lnTo>
                  <a:pt x="30480" y="38100"/>
                </a:lnTo>
                <a:lnTo>
                  <a:pt x="30480" y="53340"/>
                </a:lnTo>
                <a:lnTo>
                  <a:pt x="22860" y="68580"/>
                </a:lnTo>
                <a:lnTo>
                  <a:pt x="15240" y="83820"/>
                </a:lnTo>
                <a:lnTo>
                  <a:pt x="7620" y="106680"/>
                </a:lnTo>
                <a:lnTo>
                  <a:pt x="0" y="121920"/>
                </a:lnTo>
                <a:lnTo>
                  <a:pt x="0" y="144780"/>
                </a:lnTo>
                <a:lnTo>
                  <a:pt x="0" y="167640"/>
                </a:lnTo>
                <a:lnTo>
                  <a:pt x="0" y="198120"/>
                </a:lnTo>
                <a:lnTo>
                  <a:pt x="0" y="220980"/>
                </a:lnTo>
                <a:lnTo>
                  <a:pt x="7620" y="236220"/>
                </a:lnTo>
                <a:lnTo>
                  <a:pt x="22860" y="259080"/>
                </a:lnTo>
                <a:lnTo>
                  <a:pt x="38100" y="281940"/>
                </a:lnTo>
                <a:lnTo>
                  <a:pt x="53340" y="289560"/>
                </a:lnTo>
                <a:lnTo>
                  <a:pt x="83820" y="304800"/>
                </a:lnTo>
                <a:lnTo>
                  <a:pt x="106680" y="320040"/>
                </a:lnTo>
                <a:lnTo>
                  <a:pt x="137160" y="327660"/>
                </a:lnTo>
                <a:lnTo>
                  <a:pt x="190500" y="335280"/>
                </a:lnTo>
                <a:lnTo>
                  <a:pt x="190500" y="3352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Freeform 14"/>
          <p:cNvSpPr/>
          <p:nvPr/>
        </p:nvSpPr>
        <p:spPr>
          <a:xfrm>
            <a:off x="5121360" y="1317600"/>
            <a:ext cx="204840" cy="168480"/>
          </a:xfrm>
          <a:custGeom>
            <a:avLst/>
            <a:gdLst>
              <a:gd name="textAreaLeft" fmla="*/ 0 w 204840"/>
              <a:gd name="textAreaRight" fmla="*/ 205200 w 20484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205741" h="167641">
                <a:moveTo>
                  <a:pt x="0" y="30480"/>
                </a:moveTo>
                <a:lnTo>
                  <a:pt x="0" y="22860"/>
                </a:lnTo>
                <a:lnTo>
                  <a:pt x="7620" y="15240"/>
                </a:lnTo>
                <a:lnTo>
                  <a:pt x="15240" y="7620"/>
                </a:lnTo>
                <a:lnTo>
                  <a:pt x="22860" y="7620"/>
                </a:lnTo>
                <a:lnTo>
                  <a:pt x="30480" y="0"/>
                </a:lnTo>
                <a:lnTo>
                  <a:pt x="45720" y="0"/>
                </a:lnTo>
                <a:lnTo>
                  <a:pt x="53340" y="0"/>
                </a:lnTo>
                <a:lnTo>
                  <a:pt x="68580" y="0"/>
                </a:lnTo>
                <a:lnTo>
                  <a:pt x="83820" y="0"/>
                </a:lnTo>
                <a:lnTo>
                  <a:pt x="99060" y="0"/>
                </a:lnTo>
                <a:lnTo>
                  <a:pt x="114300" y="0"/>
                </a:lnTo>
                <a:lnTo>
                  <a:pt x="129540" y="0"/>
                </a:lnTo>
                <a:lnTo>
                  <a:pt x="144780" y="7620"/>
                </a:lnTo>
                <a:lnTo>
                  <a:pt x="152400" y="7620"/>
                </a:lnTo>
                <a:lnTo>
                  <a:pt x="167640" y="7620"/>
                </a:lnTo>
                <a:lnTo>
                  <a:pt x="175260" y="15240"/>
                </a:lnTo>
                <a:lnTo>
                  <a:pt x="190500" y="22860"/>
                </a:lnTo>
                <a:lnTo>
                  <a:pt x="190500" y="22860"/>
                </a:lnTo>
                <a:lnTo>
                  <a:pt x="190500" y="30480"/>
                </a:lnTo>
                <a:lnTo>
                  <a:pt x="190500" y="38100"/>
                </a:lnTo>
                <a:lnTo>
                  <a:pt x="190500" y="45720"/>
                </a:lnTo>
                <a:lnTo>
                  <a:pt x="182880" y="53340"/>
                </a:lnTo>
                <a:lnTo>
                  <a:pt x="175260" y="60960"/>
                </a:lnTo>
                <a:lnTo>
                  <a:pt x="160020" y="68580"/>
                </a:lnTo>
                <a:lnTo>
                  <a:pt x="152400" y="76200"/>
                </a:lnTo>
                <a:lnTo>
                  <a:pt x="137160" y="83820"/>
                </a:lnTo>
                <a:lnTo>
                  <a:pt x="121920" y="91440"/>
                </a:lnTo>
                <a:lnTo>
                  <a:pt x="114300" y="99060"/>
                </a:lnTo>
                <a:lnTo>
                  <a:pt x="99060" y="106680"/>
                </a:lnTo>
                <a:lnTo>
                  <a:pt x="91440" y="114300"/>
                </a:lnTo>
                <a:lnTo>
                  <a:pt x="91440" y="114300"/>
                </a:lnTo>
                <a:lnTo>
                  <a:pt x="83820" y="121920"/>
                </a:lnTo>
                <a:lnTo>
                  <a:pt x="83820" y="129540"/>
                </a:lnTo>
                <a:lnTo>
                  <a:pt x="91440" y="137160"/>
                </a:lnTo>
                <a:lnTo>
                  <a:pt x="99060" y="144780"/>
                </a:lnTo>
                <a:lnTo>
                  <a:pt x="106680" y="144780"/>
                </a:lnTo>
                <a:lnTo>
                  <a:pt x="114300" y="152400"/>
                </a:lnTo>
                <a:lnTo>
                  <a:pt x="129540" y="152400"/>
                </a:lnTo>
                <a:lnTo>
                  <a:pt x="144780" y="160020"/>
                </a:lnTo>
                <a:lnTo>
                  <a:pt x="160020" y="160020"/>
                </a:lnTo>
                <a:lnTo>
                  <a:pt x="175260" y="160020"/>
                </a:lnTo>
                <a:lnTo>
                  <a:pt x="190500" y="160020"/>
                </a:lnTo>
                <a:lnTo>
                  <a:pt x="205740" y="167640"/>
                </a:lnTo>
                <a:lnTo>
                  <a:pt x="205740" y="1676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Freeform 15"/>
          <p:cNvSpPr/>
          <p:nvPr/>
        </p:nvSpPr>
        <p:spPr>
          <a:xfrm>
            <a:off x="5813280" y="1463760"/>
            <a:ext cx="214560" cy="326880"/>
          </a:xfrm>
          <a:custGeom>
            <a:avLst/>
            <a:gdLst>
              <a:gd name="textAreaLeft" fmla="*/ 0 w 214560"/>
              <a:gd name="textAreaRight" fmla="*/ 214920 w 214560"/>
              <a:gd name="textAreaTop" fmla="*/ 0 h 326880"/>
              <a:gd name="textAreaBottom" fmla="*/ 327240 h 326880"/>
            </a:gdLst>
            <a:ahLst/>
            <a:rect l="textAreaLeft" t="textAreaTop" r="textAreaRight" b="textAreaBottom"/>
            <a:pathLst>
              <a:path w="213361" h="327661">
                <a:moveTo>
                  <a:pt x="7620" y="53340"/>
                </a:moveTo>
                <a:lnTo>
                  <a:pt x="7620" y="53340"/>
                </a:lnTo>
                <a:lnTo>
                  <a:pt x="7620" y="45720"/>
                </a:lnTo>
                <a:lnTo>
                  <a:pt x="7620" y="53340"/>
                </a:lnTo>
                <a:lnTo>
                  <a:pt x="7620" y="53340"/>
                </a:lnTo>
                <a:lnTo>
                  <a:pt x="7620" y="53340"/>
                </a:lnTo>
                <a:lnTo>
                  <a:pt x="0" y="60960"/>
                </a:lnTo>
                <a:lnTo>
                  <a:pt x="0" y="68580"/>
                </a:lnTo>
                <a:lnTo>
                  <a:pt x="0" y="76200"/>
                </a:lnTo>
                <a:lnTo>
                  <a:pt x="0" y="83820"/>
                </a:lnTo>
                <a:lnTo>
                  <a:pt x="7620" y="99060"/>
                </a:lnTo>
                <a:lnTo>
                  <a:pt x="7620" y="106680"/>
                </a:lnTo>
                <a:lnTo>
                  <a:pt x="7620" y="121920"/>
                </a:lnTo>
                <a:lnTo>
                  <a:pt x="7620" y="137160"/>
                </a:lnTo>
                <a:lnTo>
                  <a:pt x="7620" y="152400"/>
                </a:lnTo>
                <a:lnTo>
                  <a:pt x="7620" y="167640"/>
                </a:lnTo>
                <a:lnTo>
                  <a:pt x="0" y="190500"/>
                </a:lnTo>
                <a:lnTo>
                  <a:pt x="0" y="205740"/>
                </a:lnTo>
                <a:lnTo>
                  <a:pt x="0" y="220980"/>
                </a:lnTo>
                <a:lnTo>
                  <a:pt x="0" y="243840"/>
                </a:lnTo>
                <a:lnTo>
                  <a:pt x="0" y="259080"/>
                </a:lnTo>
                <a:lnTo>
                  <a:pt x="0" y="274320"/>
                </a:lnTo>
                <a:lnTo>
                  <a:pt x="0" y="289560"/>
                </a:lnTo>
                <a:lnTo>
                  <a:pt x="0" y="304800"/>
                </a:lnTo>
                <a:lnTo>
                  <a:pt x="0" y="312420"/>
                </a:lnTo>
                <a:lnTo>
                  <a:pt x="0" y="320040"/>
                </a:lnTo>
                <a:lnTo>
                  <a:pt x="0" y="320040"/>
                </a:lnTo>
                <a:lnTo>
                  <a:pt x="0" y="327660"/>
                </a:lnTo>
                <a:lnTo>
                  <a:pt x="0" y="327660"/>
                </a:lnTo>
                <a:lnTo>
                  <a:pt x="0" y="327660"/>
                </a:lnTo>
                <a:lnTo>
                  <a:pt x="0" y="320040"/>
                </a:lnTo>
                <a:lnTo>
                  <a:pt x="0" y="312420"/>
                </a:lnTo>
                <a:lnTo>
                  <a:pt x="7620" y="304800"/>
                </a:lnTo>
                <a:lnTo>
                  <a:pt x="7620" y="289560"/>
                </a:lnTo>
                <a:lnTo>
                  <a:pt x="7620" y="274320"/>
                </a:lnTo>
                <a:lnTo>
                  <a:pt x="15240" y="259080"/>
                </a:lnTo>
                <a:lnTo>
                  <a:pt x="15240" y="243840"/>
                </a:lnTo>
                <a:lnTo>
                  <a:pt x="15240" y="228600"/>
                </a:lnTo>
                <a:lnTo>
                  <a:pt x="15240" y="205740"/>
                </a:lnTo>
                <a:lnTo>
                  <a:pt x="15240" y="190500"/>
                </a:lnTo>
                <a:lnTo>
                  <a:pt x="22860" y="175260"/>
                </a:lnTo>
                <a:lnTo>
                  <a:pt x="22860" y="160020"/>
                </a:lnTo>
                <a:lnTo>
                  <a:pt x="22860" y="144780"/>
                </a:lnTo>
                <a:lnTo>
                  <a:pt x="22860" y="129540"/>
                </a:lnTo>
                <a:lnTo>
                  <a:pt x="30480" y="114300"/>
                </a:lnTo>
                <a:lnTo>
                  <a:pt x="30480" y="99060"/>
                </a:lnTo>
                <a:lnTo>
                  <a:pt x="38100" y="83820"/>
                </a:lnTo>
                <a:lnTo>
                  <a:pt x="38100" y="68580"/>
                </a:lnTo>
                <a:lnTo>
                  <a:pt x="45720" y="60960"/>
                </a:lnTo>
                <a:lnTo>
                  <a:pt x="53340" y="45720"/>
                </a:lnTo>
                <a:lnTo>
                  <a:pt x="53340" y="38100"/>
                </a:lnTo>
                <a:lnTo>
                  <a:pt x="60960" y="30480"/>
                </a:lnTo>
                <a:lnTo>
                  <a:pt x="68580" y="22860"/>
                </a:lnTo>
                <a:lnTo>
                  <a:pt x="76200" y="15240"/>
                </a:lnTo>
                <a:lnTo>
                  <a:pt x="83820" y="7620"/>
                </a:lnTo>
                <a:lnTo>
                  <a:pt x="91440" y="7620"/>
                </a:lnTo>
                <a:lnTo>
                  <a:pt x="91440" y="0"/>
                </a:lnTo>
                <a:lnTo>
                  <a:pt x="99060" y="0"/>
                </a:lnTo>
                <a:lnTo>
                  <a:pt x="106680" y="0"/>
                </a:lnTo>
                <a:lnTo>
                  <a:pt x="114300" y="0"/>
                </a:lnTo>
                <a:lnTo>
                  <a:pt x="129540" y="0"/>
                </a:lnTo>
                <a:lnTo>
                  <a:pt x="137160" y="0"/>
                </a:lnTo>
                <a:lnTo>
                  <a:pt x="144780" y="7620"/>
                </a:lnTo>
                <a:lnTo>
                  <a:pt x="152400" y="15240"/>
                </a:lnTo>
                <a:lnTo>
                  <a:pt x="167640" y="15240"/>
                </a:lnTo>
                <a:lnTo>
                  <a:pt x="175260" y="22860"/>
                </a:lnTo>
                <a:lnTo>
                  <a:pt x="182880" y="30480"/>
                </a:lnTo>
                <a:lnTo>
                  <a:pt x="190500" y="30480"/>
                </a:lnTo>
                <a:lnTo>
                  <a:pt x="198120" y="38100"/>
                </a:lnTo>
                <a:lnTo>
                  <a:pt x="213360" y="45720"/>
                </a:lnTo>
                <a:lnTo>
                  <a:pt x="213360" y="457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Freeform 16"/>
          <p:cNvSpPr/>
          <p:nvPr/>
        </p:nvSpPr>
        <p:spPr>
          <a:xfrm>
            <a:off x="6111720" y="1349280"/>
            <a:ext cx="136800" cy="152640"/>
          </a:xfrm>
          <a:custGeom>
            <a:avLst/>
            <a:gdLst>
              <a:gd name="textAreaLeft" fmla="*/ 0 w 136800"/>
              <a:gd name="textAreaRight" fmla="*/ 137160 w 136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37161" h="152401">
                <a:moveTo>
                  <a:pt x="0" y="38100"/>
                </a:moveTo>
                <a:lnTo>
                  <a:pt x="0" y="38100"/>
                </a:lnTo>
                <a:lnTo>
                  <a:pt x="0" y="30480"/>
                </a:lnTo>
                <a:lnTo>
                  <a:pt x="0" y="22860"/>
                </a:lnTo>
                <a:lnTo>
                  <a:pt x="0" y="15240"/>
                </a:lnTo>
                <a:lnTo>
                  <a:pt x="0" y="15240"/>
                </a:lnTo>
                <a:lnTo>
                  <a:pt x="0" y="7620"/>
                </a:lnTo>
                <a:lnTo>
                  <a:pt x="0" y="7620"/>
                </a:lnTo>
                <a:lnTo>
                  <a:pt x="7620" y="7620"/>
                </a:lnTo>
                <a:lnTo>
                  <a:pt x="7620" y="0"/>
                </a:lnTo>
                <a:lnTo>
                  <a:pt x="15240" y="0"/>
                </a:lnTo>
                <a:lnTo>
                  <a:pt x="30480" y="0"/>
                </a:lnTo>
                <a:lnTo>
                  <a:pt x="38100" y="0"/>
                </a:lnTo>
                <a:lnTo>
                  <a:pt x="53340" y="0"/>
                </a:lnTo>
                <a:lnTo>
                  <a:pt x="60960" y="0"/>
                </a:lnTo>
                <a:lnTo>
                  <a:pt x="76200" y="0"/>
                </a:lnTo>
                <a:lnTo>
                  <a:pt x="91440" y="7620"/>
                </a:lnTo>
                <a:lnTo>
                  <a:pt x="99060" y="7620"/>
                </a:lnTo>
                <a:lnTo>
                  <a:pt x="106680" y="15240"/>
                </a:lnTo>
                <a:lnTo>
                  <a:pt x="121920" y="22860"/>
                </a:lnTo>
                <a:lnTo>
                  <a:pt x="129540" y="30480"/>
                </a:lnTo>
                <a:lnTo>
                  <a:pt x="137160" y="30480"/>
                </a:lnTo>
                <a:lnTo>
                  <a:pt x="137160" y="38100"/>
                </a:lnTo>
                <a:lnTo>
                  <a:pt x="137160" y="53340"/>
                </a:lnTo>
                <a:lnTo>
                  <a:pt x="137160" y="60960"/>
                </a:lnTo>
                <a:lnTo>
                  <a:pt x="129540" y="68580"/>
                </a:lnTo>
                <a:lnTo>
                  <a:pt x="121920" y="76200"/>
                </a:lnTo>
                <a:lnTo>
                  <a:pt x="106680" y="83820"/>
                </a:lnTo>
                <a:lnTo>
                  <a:pt x="91440" y="91440"/>
                </a:lnTo>
                <a:lnTo>
                  <a:pt x="83820" y="99060"/>
                </a:lnTo>
                <a:lnTo>
                  <a:pt x="68580" y="106680"/>
                </a:lnTo>
                <a:lnTo>
                  <a:pt x="45720" y="114300"/>
                </a:lnTo>
                <a:lnTo>
                  <a:pt x="38100" y="121920"/>
                </a:lnTo>
                <a:lnTo>
                  <a:pt x="30480" y="129540"/>
                </a:lnTo>
                <a:lnTo>
                  <a:pt x="15240" y="129540"/>
                </a:lnTo>
                <a:lnTo>
                  <a:pt x="15240" y="129540"/>
                </a:lnTo>
                <a:lnTo>
                  <a:pt x="15240" y="137160"/>
                </a:lnTo>
                <a:lnTo>
                  <a:pt x="15240" y="137160"/>
                </a:lnTo>
                <a:lnTo>
                  <a:pt x="22860" y="137160"/>
                </a:lnTo>
                <a:lnTo>
                  <a:pt x="30480" y="144780"/>
                </a:lnTo>
                <a:lnTo>
                  <a:pt x="38100" y="144780"/>
                </a:lnTo>
                <a:lnTo>
                  <a:pt x="53340" y="144780"/>
                </a:lnTo>
                <a:lnTo>
                  <a:pt x="68580" y="144780"/>
                </a:lnTo>
                <a:lnTo>
                  <a:pt x="91440" y="144780"/>
                </a:lnTo>
                <a:lnTo>
                  <a:pt x="114300" y="152400"/>
                </a:lnTo>
                <a:lnTo>
                  <a:pt x="114300" y="1524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Freeform 17"/>
          <p:cNvSpPr/>
          <p:nvPr/>
        </p:nvSpPr>
        <p:spPr>
          <a:xfrm>
            <a:off x="3178080" y="1874880"/>
            <a:ext cx="250920" cy="403200"/>
          </a:xfrm>
          <a:custGeom>
            <a:avLst/>
            <a:gdLst>
              <a:gd name="textAreaLeft" fmla="*/ 0 w 250920"/>
              <a:gd name="textAreaRight" fmla="*/ 251280 w 250920"/>
              <a:gd name="textAreaTop" fmla="*/ 0 h 403200"/>
              <a:gd name="textAreaBottom" fmla="*/ 403560 h 403200"/>
            </a:gdLst>
            <a:ahLst/>
            <a:rect l="textAreaLeft" t="textAreaTop" r="textAreaRight" b="textAreaBottom"/>
            <a:pathLst>
              <a:path w="251461" h="403861">
                <a:moveTo>
                  <a:pt x="60960" y="403860"/>
                </a:moveTo>
                <a:lnTo>
                  <a:pt x="60960" y="403860"/>
                </a:lnTo>
                <a:lnTo>
                  <a:pt x="60960" y="403860"/>
                </a:lnTo>
                <a:lnTo>
                  <a:pt x="68580" y="403860"/>
                </a:lnTo>
                <a:lnTo>
                  <a:pt x="76200" y="403860"/>
                </a:lnTo>
                <a:lnTo>
                  <a:pt x="76200" y="403860"/>
                </a:lnTo>
                <a:lnTo>
                  <a:pt x="83820" y="403860"/>
                </a:lnTo>
                <a:lnTo>
                  <a:pt x="91440" y="403860"/>
                </a:lnTo>
                <a:lnTo>
                  <a:pt x="99060" y="403860"/>
                </a:lnTo>
                <a:lnTo>
                  <a:pt x="106680" y="403860"/>
                </a:lnTo>
                <a:lnTo>
                  <a:pt x="114300" y="396240"/>
                </a:lnTo>
                <a:lnTo>
                  <a:pt x="121920" y="396240"/>
                </a:lnTo>
                <a:lnTo>
                  <a:pt x="129540" y="396240"/>
                </a:lnTo>
                <a:lnTo>
                  <a:pt x="137160" y="388620"/>
                </a:lnTo>
                <a:lnTo>
                  <a:pt x="144780" y="388620"/>
                </a:lnTo>
                <a:lnTo>
                  <a:pt x="152400" y="388620"/>
                </a:lnTo>
                <a:lnTo>
                  <a:pt x="160020" y="381000"/>
                </a:lnTo>
                <a:lnTo>
                  <a:pt x="160020" y="381000"/>
                </a:lnTo>
                <a:lnTo>
                  <a:pt x="175260" y="373380"/>
                </a:lnTo>
                <a:lnTo>
                  <a:pt x="175260" y="365760"/>
                </a:lnTo>
                <a:lnTo>
                  <a:pt x="182880" y="358140"/>
                </a:lnTo>
                <a:lnTo>
                  <a:pt x="190500" y="350520"/>
                </a:lnTo>
                <a:lnTo>
                  <a:pt x="198120" y="350520"/>
                </a:lnTo>
                <a:lnTo>
                  <a:pt x="198120" y="342900"/>
                </a:lnTo>
                <a:lnTo>
                  <a:pt x="205740" y="335280"/>
                </a:lnTo>
                <a:lnTo>
                  <a:pt x="213360" y="327660"/>
                </a:lnTo>
                <a:lnTo>
                  <a:pt x="220980" y="312420"/>
                </a:lnTo>
                <a:lnTo>
                  <a:pt x="220980" y="304800"/>
                </a:lnTo>
                <a:lnTo>
                  <a:pt x="228600" y="297180"/>
                </a:lnTo>
                <a:lnTo>
                  <a:pt x="236220" y="289560"/>
                </a:lnTo>
                <a:lnTo>
                  <a:pt x="236220" y="281940"/>
                </a:lnTo>
                <a:lnTo>
                  <a:pt x="243840" y="266700"/>
                </a:lnTo>
                <a:lnTo>
                  <a:pt x="243840" y="251460"/>
                </a:lnTo>
                <a:lnTo>
                  <a:pt x="243840" y="243840"/>
                </a:lnTo>
                <a:lnTo>
                  <a:pt x="251460" y="236220"/>
                </a:lnTo>
                <a:lnTo>
                  <a:pt x="251460" y="220980"/>
                </a:lnTo>
                <a:lnTo>
                  <a:pt x="251460" y="213360"/>
                </a:lnTo>
                <a:lnTo>
                  <a:pt x="251460" y="198120"/>
                </a:lnTo>
                <a:lnTo>
                  <a:pt x="251460" y="182880"/>
                </a:lnTo>
                <a:lnTo>
                  <a:pt x="251460" y="175260"/>
                </a:lnTo>
                <a:lnTo>
                  <a:pt x="251460" y="160020"/>
                </a:lnTo>
                <a:lnTo>
                  <a:pt x="251460" y="152400"/>
                </a:lnTo>
                <a:lnTo>
                  <a:pt x="243840" y="137160"/>
                </a:lnTo>
                <a:lnTo>
                  <a:pt x="243840" y="129540"/>
                </a:lnTo>
                <a:lnTo>
                  <a:pt x="236220" y="114300"/>
                </a:lnTo>
                <a:lnTo>
                  <a:pt x="236220" y="106680"/>
                </a:lnTo>
                <a:lnTo>
                  <a:pt x="228600" y="99060"/>
                </a:lnTo>
                <a:lnTo>
                  <a:pt x="220980" y="83820"/>
                </a:lnTo>
                <a:lnTo>
                  <a:pt x="220980" y="76200"/>
                </a:lnTo>
                <a:lnTo>
                  <a:pt x="213360" y="60960"/>
                </a:lnTo>
                <a:lnTo>
                  <a:pt x="205740" y="53340"/>
                </a:lnTo>
                <a:lnTo>
                  <a:pt x="198120" y="45720"/>
                </a:lnTo>
                <a:lnTo>
                  <a:pt x="190500" y="38100"/>
                </a:lnTo>
                <a:lnTo>
                  <a:pt x="182880" y="30480"/>
                </a:lnTo>
                <a:lnTo>
                  <a:pt x="175260" y="22860"/>
                </a:lnTo>
                <a:lnTo>
                  <a:pt x="175260" y="15240"/>
                </a:lnTo>
                <a:lnTo>
                  <a:pt x="160020" y="15240"/>
                </a:lnTo>
                <a:lnTo>
                  <a:pt x="160020" y="7620"/>
                </a:lnTo>
                <a:lnTo>
                  <a:pt x="152400" y="7620"/>
                </a:lnTo>
                <a:lnTo>
                  <a:pt x="144780" y="7620"/>
                </a:lnTo>
                <a:lnTo>
                  <a:pt x="137160" y="0"/>
                </a:lnTo>
                <a:lnTo>
                  <a:pt x="129540" y="0"/>
                </a:lnTo>
                <a:lnTo>
                  <a:pt x="121920" y="0"/>
                </a:lnTo>
                <a:lnTo>
                  <a:pt x="114300" y="0"/>
                </a:lnTo>
                <a:lnTo>
                  <a:pt x="99060" y="7620"/>
                </a:lnTo>
                <a:lnTo>
                  <a:pt x="91440" y="7620"/>
                </a:lnTo>
                <a:lnTo>
                  <a:pt x="91440" y="15240"/>
                </a:lnTo>
                <a:lnTo>
                  <a:pt x="83820" y="22860"/>
                </a:lnTo>
                <a:lnTo>
                  <a:pt x="76200" y="30480"/>
                </a:lnTo>
                <a:lnTo>
                  <a:pt x="68580" y="38100"/>
                </a:lnTo>
                <a:lnTo>
                  <a:pt x="60960" y="45720"/>
                </a:lnTo>
                <a:lnTo>
                  <a:pt x="53340" y="60960"/>
                </a:lnTo>
                <a:lnTo>
                  <a:pt x="45720" y="68580"/>
                </a:lnTo>
                <a:lnTo>
                  <a:pt x="38100" y="76200"/>
                </a:lnTo>
                <a:lnTo>
                  <a:pt x="38100" y="91440"/>
                </a:lnTo>
                <a:lnTo>
                  <a:pt x="30480" y="106680"/>
                </a:lnTo>
                <a:lnTo>
                  <a:pt x="22860" y="121920"/>
                </a:lnTo>
                <a:lnTo>
                  <a:pt x="22860" y="129540"/>
                </a:lnTo>
                <a:lnTo>
                  <a:pt x="15240" y="144780"/>
                </a:lnTo>
                <a:lnTo>
                  <a:pt x="7620" y="160020"/>
                </a:lnTo>
                <a:lnTo>
                  <a:pt x="7620" y="175260"/>
                </a:lnTo>
                <a:lnTo>
                  <a:pt x="7620" y="198120"/>
                </a:lnTo>
                <a:lnTo>
                  <a:pt x="7620" y="213360"/>
                </a:lnTo>
                <a:lnTo>
                  <a:pt x="0" y="220980"/>
                </a:lnTo>
                <a:lnTo>
                  <a:pt x="0" y="243840"/>
                </a:lnTo>
                <a:lnTo>
                  <a:pt x="0" y="251460"/>
                </a:lnTo>
                <a:lnTo>
                  <a:pt x="0" y="274320"/>
                </a:lnTo>
                <a:lnTo>
                  <a:pt x="0" y="281940"/>
                </a:lnTo>
                <a:lnTo>
                  <a:pt x="0" y="297180"/>
                </a:lnTo>
                <a:lnTo>
                  <a:pt x="0" y="312420"/>
                </a:lnTo>
                <a:lnTo>
                  <a:pt x="7620" y="327660"/>
                </a:lnTo>
                <a:lnTo>
                  <a:pt x="7620" y="335280"/>
                </a:lnTo>
                <a:lnTo>
                  <a:pt x="7620" y="350520"/>
                </a:lnTo>
                <a:lnTo>
                  <a:pt x="15240" y="358140"/>
                </a:lnTo>
                <a:lnTo>
                  <a:pt x="22860" y="365760"/>
                </a:lnTo>
                <a:lnTo>
                  <a:pt x="22860" y="373380"/>
                </a:lnTo>
                <a:lnTo>
                  <a:pt x="30480" y="381000"/>
                </a:lnTo>
                <a:lnTo>
                  <a:pt x="38100" y="381000"/>
                </a:lnTo>
                <a:lnTo>
                  <a:pt x="45720" y="388620"/>
                </a:lnTo>
                <a:lnTo>
                  <a:pt x="60960" y="388620"/>
                </a:lnTo>
                <a:lnTo>
                  <a:pt x="76200" y="388620"/>
                </a:lnTo>
                <a:lnTo>
                  <a:pt x="83820" y="388620"/>
                </a:lnTo>
                <a:lnTo>
                  <a:pt x="99060" y="388620"/>
                </a:lnTo>
                <a:lnTo>
                  <a:pt x="114300" y="388620"/>
                </a:lnTo>
                <a:lnTo>
                  <a:pt x="129540" y="388620"/>
                </a:lnTo>
                <a:lnTo>
                  <a:pt x="137160" y="381000"/>
                </a:lnTo>
                <a:lnTo>
                  <a:pt x="152400" y="381000"/>
                </a:lnTo>
                <a:lnTo>
                  <a:pt x="175260" y="373380"/>
                </a:lnTo>
                <a:lnTo>
                  <a:pt x="175260" y="3733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Freeform 18"/>
          <p:cNvSpPr/>
          <p:nvPr/>
        </p:nvSpPr>
        <p:spPr>
          <a:xfrm>
            <a:off x="3132000" y="2422440"/>
            <a:ext cx="136800" cy="108000"/>
          </a:xfrm>
          <a:custGeom>
            <a:avLst/>
            <a:gdLst>
              <a:gd name="textAreaLeft" fmla="*/ 0 w 136800"/>
              <a:gd name="textAreaRight" fmla="*/ 137160 w 1368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37161" h="106681">
                <a:moveTo>
                  <a:pt x="22860" y="0"/>
                </a:moveTo>
                <a:lnTo>
                  <a:pt x="22860" y="0"/>
                </a:lnTo>
                <a:lnTo>
                  <a:pt x="22860" y="7620"/>
                </a:lnTo>
                <a:lnTo>
                  <a:pt x="22860" y="7620"/>
                </a:lnTo>
                <a:lnTo>
                  <a:pt x="22860" y="7620"/>
                </a:lnTo>
                <a:lnTo>
                  <a:pt x="22860" y="15240"/>
                </a:lnTo>
                <a:lnTo>
                  <a:pt x="22860" y="15240"/>
                </a:lnTo>
                <a:lnTo>
                  <a:pt x="22860" y="22860"/>
                </a:lnTo>
                <a:lnTo>
                  <a:pt x="22860" y="22860"/>
                </a:lnTo>
                <a:lnTo>
                  <a:pt x="22860" y="30480"/>
                </a:lnTo>
                <a:lnTo>
                  <a:pt x="22860" y="30480"/>
                </a:lnTo>
                <a:lnTo>
                  <a:pt x="22860" y="38100"/>
                </a:lnTo>
                <a:lnTo>
                  <a:pt x="22860" y="45720"/>
                </a:lnTo>
                <a:lnTo>
                  <a:pt x="15240" y="53340"/>
                </a:lnTo>
                <a:lnTo>
                  <a:pt x="15240" y="60960"/>
                </a:lnTo>
                <a:lnTo>
                  <a:pt x="15240" y="60960"/>
                </a:lnTo>
                <a:lnTo>
                  <a:pt x="7620" y="68580"/>
                </a:lnTo>
                <a:lnTo>
                  <a:pt x="7620" y="76200"/>
                </a:lnTo>
                <a:lnTo>
                  <a:pt x="7620" y="76200"/>
                </a:lnTo>
                <a:lnTo>
                  <a:pt x="7620" y="83820"/>
                </a:lnTo>
                <a:lnTo>
                  <a:pt x="0" y="91440"/>
                </a:lnTo>
                <a:lnTo>
                  <a:pt x="0" y="91440"/>
                </a:lnTo>
                <a:lnTo>
                  <a:pt x="7620" y="99060"/>
                </a:lnTo>
                <a:lnTo>
                  <a:pt x="7620" y="99060"/>
                </a:lnTo>
                <a:lnTo>
                  <a:pt x="7620" y="99060"/>
                </a:lnTo>
                <a:lnTo>
                  <a:pt x="15240" y="106680"/>
                </a:lnTo>
                <a:lnTo>
                  <a:pt x="22860" y="106680"/>
                </a:lnTo>
                <a:lnTo>
                  <a:pt x="30480" y="106680"/>
                </a:lnTo>
                <a:lnTo>
                  <a:pt x="38100" y="99060"/>
                </a:lnTo>
                <a:lnTo>
                  <a:pt x="45720" y="99060"/>
                </a:lnTo>
                <a:lnTo>
                  <a:pt x="60960" y="91440"/>
                </a:lnTo>
                <a:lnTo>
                  <a:pt x="76200" y="91440"/>
                </a:lnTo>
                <a:lnTo>
                  <a:pt x="91440" y="91440"/>
                </a:lnTo>
                <a:lnTo>
                  <a:pt x="99060" y="83820"/>
                </a:lnTo>
                <a:lnTo>
                  <a:pt x="114300" y="76200"/>
                </a:lnTo>
                <a:lnTo>
                  <a:pt x="137160" y="68580"/>
                </a:lnTo>
                <a:lnTo>
                  <a:pt x="137160" y="685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Freeform 19"/>
          <p:cNvSpPr/>
          <p:nvPr/>
        </p:nvSpPr>
        <p:spPr>
          <a:xfrm>
            <a:off x="3246480" y="2408400"/>
            <a:ext cx="22320" cy="220680"/>
          </a:xfrm>
          <a:custGeom>
            <a:avLst/>
            <a:gdLst>
              <a:gd name="textAreaLeft" fmla="*/ 0 w 22320"/>
              <a:gd name="textAreaRight" fmla="*/ 22680 w 2232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2861" h="220981">
                <a:moveTo>
                  <a:pt x="22860" y="0"/>
                </a:moveTo>
                <a:lnTo>
                  <a:pt x="22860" y="0"/>
                </a:lnTo>
                <a:lnTo>
                  <a:pt x="15240" y="7620"/>
                </a:lnTo>
                <a:lnTo>
                  <a:pt x="15240" y="15240"/>
                </a:lnTo>
                <a:lnTo>
                  <a:pt x="15240" y="22860"/>
                </a:lnTo>
                <a:lnTo>
                  <a:pt x="7620" y="30480"/>
                </a:lnTo>
                <a:lnTo>
                  <a:pt x="7620" y="38100"/>
                </a:lnTo>
                <a:lnTo>
                  <a:pt x="7620" y="45720"/>
                </a:lnTo>
                <a:lnTo>
                  <a:pt x="7620" y="60960"/>
                </a:lnTo>
                <a:lnTo>
                  <a:pt x="7620" y="68580"/>
                </a:lnTo>
                <a:lnTo>
                  <a:pt x="7620" y="83820"/>
                </a:lnTo>
                <a:lnTo>
                  <a:pt x="7620" y="91440"/>
                </a:lnTo>
                <a:lnTo>
                  <a:pt x="0" y="106680"/>
                </a:lnTo>
                <a:lnTo>
                  <a:pt x="0" y="121920"/>
                </a:lnTo>
                <a:lnTo>
                  <a:pt x="0" y="129540"/>
                </a:lnTo>
                <a:lnTo>
                  <a:pt x="0" y="144780"/>
                </a:lnTo>
                <a:lnTo>
                  <a:pt x="0" y="160020"/>
                </a:lnTo>
                <a:lnTo>
                  <a:pt x="0" y="167640"/>
                </a:lnTo>
                <a:lnTo>
                  <a:pt x="0" y="175260"/>
                </a:lnTo>
                <a:lnTo>
                  <a:pt x="7620" y="190500"/>
                </a:lnTo>
                <a:lnTo>
                  <a:pt x="7620" y="198120"/>
                </a:lnTo>
                <a:lnTo>
                  <a:pt x="7620" y="205740"/>
                </a:lnTo>
                <a:lnTo>
                  <a:pt x="7620" y="220980"/>
                </a:lnTo>
                <a:lnTo>
                  <a:pt x="7620" y="2209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Freeform 20"/>
          <p:cNvSpPr/>
          <p:nvPr/>
        </p:nvSpPr>
        <p:spPr>
          <a:xfrm>
            <a:off x="3413160" y="2598840"/>
            <a:ext cx="61920" cy="122040"/>
          </a:xfrm>
          <a:custGeom>
            <a:avLst/>
            <a:gdLst>
              <a:gd name="textAreaLeft" fmla="*/ 0 w 61920"/>
              <a:gd name="textAreaRight" fmla="*/ 62280 w 61920"/>
              <a:gd name="textAreaTop" fmla="*/ 0 h 122040"/>
              <a:gd name="textAreaBottom" fmla="*/ 122400 h 122040"/>
            </a:gdLst>
            <a:ahLst/>
            <a:rect l="textAreaLeft" t="textAreaTop" r="textAreaRight" b="textAreaBottom"/>
            <a:pathLst>
              <a:path w="60961" h="121921">
                <a:moveTo>
                  <a:pt x="30480" y="0"/>
                </a:moveTo>
                <a:lnTo>
                  <a:pt x="30480" y="7620"/>
                </a:lnTo>
                <a:lnTo>
                  <a:pt x="38100" y="7620"/>
                </a:lnTo>
                <a:lnTo>
                  <a:pt x="45720" y="15240"/>
                </a:lnTo>
                <a:lnTo>
                  <a:pt x="53340" y="22860"/>
                </a:lnTo>
                <a:lnTo>
                  <a:pt x="53340" y="30480"/>
                </a:lnTo>
                <a:lnTo>
                  <a:pt x="53340" y="38100"/>
                </a:lnTo>
                <a:lnTo>
                  <a:pt x="60960" y="45720"/>
                </a:lnTo>
                <a:lnTo>
                  <a:pt x="60960" y="53340"/>
                </a:lnTo>
                <a:lnTo>
                  <a:pt x="60960" y="68580"/>
                </a:lnTo>
                <a:lnTo>
                  <a:pt x="53340" y="76200"/>
                </a:lnTo>
                <a:lnTo>
                  <a:pt x="53340" y="83820"/>
                </a:lnTo>
                <a:lnTo>
                  <a:pt x="45720" y="91440"/>
                </a:lnTo>
                <a:lnTo>
                  <a:pt x="38100" y="99060"/>
                </a:lnTo>
                <a:lnTo>
                  <a:pt x="22860" y="106680"/>
                </a:lnTo>
                <a:lnTo>
                  <a:pt x="15240" y="114300"/>
                </a:lnTo>
                <a:lnTo>
                  <a:pt x="0" y="121920"/>
                </a:lnTo>
                <a:lnTo>
                  <a:pt x="0" y="1219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Freeform 21"/>
          <p:cNvSpPr/>
          <p:nvPr/>
        </p:nvSpPr>
        <p:spPr>
          <a:xfrm>
            <a:off x="3483000" y="2492280"/>
            <a:ext cx="136440" cy="14400"/>
          </a:xfrm>
          <a:custGeom>
            <a:avLst/>
            <a:gdLst>
              <a:gd name="textAreaLeft" fmla="*/ 0 w 136440"/>
              <a:gd name="textAreaRight" fmla="*/ 136800 w 1364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37161" h="1524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7620" y="7620"/>
                </a:lnTo>
                <a:lnTo>
                  <a:pt x="15240" y="7620"/>
                </a:lnTo>
                <a:lnTo>
                  <a:pt x="22860" y="15240"/>
                </a:lnTo>
                <a:lnTo>
                  <a:pt x="30480" y="15240"/>
                </a:lnTo>
                <a:lnTo>
                  <a:pt x="38100" y="15240"/>
                </a:lnTo>
                <a:lnTo>
                  <a:pt x="53340" y="15240"/>
                </a:lnTo>
                <a:lnTo>
                  <a:pt x="60960" y="15240"/>
                </a:lnTo>
                <a:lnTo>
                  <a:pt x="76200" y="15240"/>
                </a:lnTo>
                <a:lnTo>
                  <a:pt x="83820" y="15240"/>
                </a:lnTo>
                <a:lnTo>
                  <a:pt x="99060" y="15240"/>
                </a:lnTo>
                <a:lnTo>
                  <a:pt x="114300" y="7620"/>
                </a:lnTo>
                <a:lnTo>
                  <a:pt x="121920" y="7620"/>
                </a:lnTo>
                <a:lnTo>
                  <a:pt x="137160" y="7620"/>
                </a:lnTo>
                <a:lnTo>
                  <a:pt x="137160" y="7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Freeform 22"/>
          <p:cNvSpPr/>
          <p:nvPr/>
        </p:nvSpPr>
        <p:spPr>
          <a:xfrm>
            <a:off x="3679920" y="2400480"/>
            <a:ext cx="114120" cy="198360"/>
          </a:xfrm>
          <a:custGeom>
            <a:avLst/>
            <a:gdLst>
              <a:gd name="textAreaLeft" fmla="*/ 0 w 114120"/>
              <a:gd name="textAreaRight" fmla="*/ 114480 w 11412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14301" h="198121">
                <a:moveTo>
                  <a:pt x="0" y="22860"/>
                </a:moveTo>
                <a:lnTo>
                  <a:pt x="0" y="22860"/>
                </a:lnTo>
                <a:lnTo>
                  <a:pt x="0" y="15240"/>
                </a:lnTo>
                <a:lnTo>
                  <a:pt x="0" y="15240"/>
                </a:lnTo>
                <a:lnTo>
                  <a:pt x="0" y="7620"/>
                </a:lnTo>
                <a:lnTo>
                  <a:pt x="7620" y="7620"/>
                </a:lnTo>
                <a:lnTo>
                  <a:pt x="15240" y="7620"/>
                </a:lnTo>
                <a:lnTo>
                  <a:pt x="22860" y="0"/>
                </a:lnTo>
                <a:lnTo>
                  <a:pt x="30480" y="0"/>
                </a:lnTo>
                <a:lnTo>
                  <a:pt x="38100" y="0"/>
                </a:lnTo>
                <a:lnTo>
                  <a:pt x="45720" y="0"/>
                </a:lnTo>
                <a:lnTo>
                  <a:pt x="60960" y="0"/>
                </a:lnTo>
                <a:lnTo>
                  <a:pt x="68580" y="0"/>
                </a:lnTo>
                <a:lnTo>
                  <a:pt x="76200" y="0"/>
                </a:lnTo>
                <a:lnTo>
                  <a:pt x="83820" y="7620"/>
                </a:lnTo>
                <a:lnTo>
                  <a:pt x="91440" y="7620"/>
                </a:lnTo>
                <a:lnTo>
                  <a:pt x="99060" y="15240"/>
                </a:lnTo>
                <a:lnTo>
                  <a:pt x="106680" y="15240"/>
                </a:lnTo>
                <a:lnTo>
                  <a:pt x="114300" y="22860"/>
                </a:lnTo>
                <a:lnTo>
                  <a:pt x="114300" y="30480"/>
                </a:lnTo>
                <a:lnTo>
                  <a:pt x="114300" y="38100"/>
                </a:lnTo>
                <a:lnTo>
                  <a:pt x="114300" y="45720"/>
                </a:lnTo>
                <a:lnTo>
                  <a:pt x="114300" y="53340"/>
                </a:lnTo>
                <a:lnTo>
                  <a:pt x="99060" y="68580"/>
                </a:lnTo>
                <a:lnTo>
                  <a:pt x="91440" y="76200"/>
                </a:lnTo>
                <a:lnTo>
                  <a:pt x="83820" y="91440"/>
                </a:lnTo>
                <a:lnTo>
                  <a:pt x="76200" y="99060"/>
                </a:lnTo>
                <a:lnTo>
                  <a:pt x="60960" y="114300"/>
                </a:lnTo>
                <a:lnTo>
                  <a:pt x="45720" y="121920"/>
                </a:lnTo>
                <a:lnTo>
                  <a:pt x="38100" y="137160"/>
                </a:lnTo>
                <a:lnTo>
                  <a:pt x="30480" y="144780"/>
                </a:lnTo>
                <a:lnTo>
                  <a:pt x="22860" y="152400"/>
                </a:lnTo>
                <a:lnTo>
                  <a:pt x="15240" y="167640"/>
                </a:lnTo>
                <a:lnTo>
                  <a:pt x="7620" y="175260"/>
                </a:lnTo>
                <a:lnTo>
                  <a:pt x="7620" y="182880"/>
                </a:lnTo>
                <a:lnTo>
                  <a:pt x="7620" y="190500"/>
                </a:lnTo>
                <a:lnTo>
                  <a:pt x="15240" y="190500"/>
                </a:lnTo>
                <a:lnTo>
                  <a:pt x="15240" y="198120"/>
                </a:lnTo>
                <a:lnTo>
                  <a:pt x="22860" y="198120"/>
                </a:lnTo>
                <a:lnTo>
                  <a:pt x="38100" y="198120"/>
                </a:lnTo>
                <a:lnTo>
                  <a:pt x="45720" y="198120"/>
                </a:lnTo>
                <a:lnTo>
                  <a:pt x="60960" y="198120"/>
                </a:lnTo>
                <a:lnTo>
                  <a:pt x="76200" y="198120"/>
                </a:lnTo>
                <a:lnTo>
                  <a:pt x="99060" y="190500"/>
                </a:lnTo>
                <a:lnTo>
                  <a:pt x="99060" y="1905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Freeform 23"/>
          <p:cNvSpPr/>
          <p:nvPr/>
        </p:nvSpPr>
        <p:spPr>
          <a:xfrm>
            <a:off x="3870360" y="2346480"/>
            <a:ext cx="76320" cy="336240"/>
          </a:xfrm>
          <a:custGeom>
            <a:avLst/>
            <a:gdLst>
              <a:gd name="textAreaLeft" fmla="*/ 0 w 76320"/>
              <a:gd name="textAreaRight" fmla="*/ 76320 w 76320"/>
              <a:gd name="textAreaTop" fmla="*/ 0 h 336240"/>
              <a:gd name="textAreaBottom" fmla="*/ 336600 h 336240"/>
            </a:gdLst>
            <a:ahLst/>
            <a:rect l="textAreaLeft" t="textAreaTop" r="textAreaRight" b="textAreaBottom"/>
            <a:pathLst>
              <a:path w="76201" h="335281">
                <a:moveTo>
                  <a:pt x="7620" y="0"/>
                </a:moveTo>
                <a:lnTo>
                  <a:pt x="0" y="0"/>
                </a:lnTo>
                <a:lnTo>
                  <a:pt x="0" y="0"/>
                </a:lnTo>
                <a:lnTo>
                  <a:pt x="7620" y="0"/>
                </a:lnTo>
                <a:lnTo>
                  <a:pt x="7620" y="0"/>
                </a:lnTo>
                <a:lnTo>
                  <a:pt x="15240" y="7620"/>
                </a:lnTo>
                <a:lnTo>
                  <a:pt x="15240" y="15240"/>
                </a:lnTo>
                <a:lnTo>
                  <a:pt x="22860" y="22860"/>
                </a:lnTo>
                <a:lnTo>
                  <a:pt x="30480" y="30480"/>
                </a:lnTo>
                <a:lnTo>
                  <a:pt x="38100" y="45720"/>
                </a:lnTo>
                <a:lnTo>
                  <a:pt x="45720" y="60960"/>
                </a:lnTo>
                <a:lnTo>
                  <a:pt x="45720" y="76200"/>
                </a:lnTo>
                <a:lnTo>
                  <a:pt x="53340" y="99060"/>
                </a:lnTo>
                <a:lnTo>
                  <a:pt x="60960" y="114300"/>
                </a:lnTo>
                <a:lnTo>
                  <a:pt x="68580" y="137160"/>
                </a:lnTo>
                <a:lnTo>
                  <a:pt x="76200" y="152400"/>
                </a:lnTo>
                <a:lnTo>
                  <a:pt x="76200" y="175260"/>
                </a:lnTo>
                <a:lnTo>
                  <a:pt x="76200" y="198120"/>
                </a:lnTo>
                <a:lnTo>
                  <a:pt x="76200" y="220980"/>
                </a:lnTo>
                <a:lnTo>
                  <a:pt x="76200" y="236220"/>
                </a:lnTo>
                <a:lnTo>
                  <a:pt x="68580" y="259080"/>
                </a:lnTo>
                <a:lnTo>
                  <a:pt x="60960" y="274320"/>
                </a:lnTo>
                <a:lnTo>
                  <a:pt x="53340" y="289560"/>
                </a:lnTo>
                <a:lnTo>
                  <a:pt x="38100" y="304800"/>
                </a:lnTo>
                <a:lnTo>
                  <a:pt x="30480" y="312420"/>
                </a:lnTo>
                <a:lnTo>
                  <a:pt x="7620" y="335280"/>
                </a:lnTo>
                <a:lnTo>
                  <a:pt x="7620" y="3352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Freeform 24"/>
          <p:cNvSpPr/>
          <p:nvPr/>
        </p:nvSpPr>
        <p:spPr>
          <a:xfrm>
            <a:off x="2994120" y="2332080"/>
            <a:ext cx="137880" cy="372960"/>
          </a:xfrm>
          <a:custGeom>
            <a:avLst/>
            <a:gdLst>
              <a:gd name="textAreaLeft" fmla="*/ 0 w 137880"/>
              <a:gd name="textAreaRight" fmla="*/ 138240 w 13788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137161" h="373381">
                <a:moveTo>
                  <a:pt x="99060" y="0"/>
                </a:moveTo>
                <a:lnTo>
                  <a:pt x="91440" y="0"/>
                </a:lnTo>
                <a:lnTo>
                  <a:pt x="91440" y="7620"/>
                </a:lnTo>
                <a:lnTo>
                  <a:pt x="83820" y="15240"/>
                </a:lnTo>
                <a:lnTo>
                  <a:pt x="83820" y="22860"/>
                </a:lnTo>
                <a:lnTo>
                  <a:pt x="76200" y="30480"/>
                </a:lnTo>
                <a:lnTo>
                  <a:pt x="68580" y="45720"/>
                </a:lnTo>
                <a:lnTo>
                  <a:pt x="60960" y="60960"/>
                </a:lnTo>
                <a:lnTo>
                  <a:pt x="53340" y="76200"/>
                </a:lnTo>
                <a:lnTo>
                  <a:pt x="45720" y="99060"/>
                </a:lnTo>
                <a:lnTo>
                  <a:pt x="38100" y="114300"/>
                </a:lnTo>
                <a:lnTo>
                  <a:pt x="30480" y="137160"/>
                </a:lnTo>
                <a:lnTo>
                  <a:pt x="15240" y="160020"/>
                </a:lnTo>
                <a:lnTo>
                  <a:pt x="15240" y="182880"/>
                </a:lnTo>
                <a:lnTo>
                  <a:pt x="0" y="213360"/>
                </a:lnTo>
                <a:lnTo>
                  <a:pt x="0" y="236220"/>
                </a:lnTo>
                <a:lnTo>
                  <a:pt x="0" y="259080"/>
                </a:lnTo>
                <a:lnTo>
                  <a:pt x="7620" y="274320"/>
                </a:lnTo>
                <a:lnTo>
                  <a:pt x="15240" y="297180"/>
                </a:lnTo>
                <a:lnTo>
                  <a:pt x="30480" y="320040"/>
                </a:lnTo>
                <a:lnTo>
                  <a:pt x="45720" y="327660"/>
                </a:lnTo>
                <a:lnTo>
                  <a:pt x="68580" y="342900"/>
                </a:lnTo>
                <a:lnTo>
                  <a:pt x="91440" y="350520"/>
                </a:lnTo>
                <a:lnTo>
                  <a:pt x="137160" y="373380"/>
                </a:lnTo>
                <a:lnTo>
                  <a:pt x="137160" y="3733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Freeform 25"/>
          <p:cNvSpPr/>
          <p:nvPr/>
        </p:nvSpPr>
        <p:spPr>
          <a:xfrm>
            <a:off x="4419720" y="2498760"/>
            <a:ext cx="168120" cy="168120"/>
          </a:xfrm>
          <a:custGeom>
            <a:avLst/>
            <a:gdLst>
              <a:gd name="textAreaLeft" fmla="*/ 0 w 168120"/>
              <a:gd name="textAreaRight" fmla="*/ 168480 w 16812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67641" h="16764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7620" y="0"/>
                </a:lnTo>
                <a:lnTo>
                  <a:pt x="7620" y="7620"/>
                </a:lnTo>
                <a:lnTo>
                  <a:pt x="7620" y="7620"/>
                </a:lnTo>
                <a:lnTo>
                  <a:pt x="7620" y="15240"/>
                </a:lnTo>
                <a:lnTo>
                  <a:pt x="7620" y="22860"/>
                </a:lnTo>
                <a:lnTo>
                  <a:pt x="15240" y="30480"/>
                </a:lnTo>
                <a:lnTo>
                  <a:pt x="15240" y="38100"/>
                </a:lnTo>
                <a:lnTo>
                  <a:pt x="15240" y="45720"/>
                </a:lnTo>
                <a:lnTo>
                  <a:pt x="15240" y="53340"/>
                </a:lnTo>
                <a:lnTo>
                  <a:pt x="15240" y="68580"/>
                </a:lnTo>
                <a:lnTo>
                  <a:pt x="15240" y="76200"/>
                </a:lnTo>
                <a:lnTo>
                  <a:pt x="15240" y="83820"/>
                </a:lnTo>
                <a:lnTo>
                  <a:pt x="15240" y="99060"/>
                </a:lnTo>
                <a:lnTo>
                  <a:pt x="15240" y="106680"/>
                </a:lnTo>
                <a:lnTo>
                  <a:pt x="15240" y="121920"/>
                </a:lnTo>
                <a:lnTo>
                  <a:pt x="15240" y="129540"/>
                </a:lnTo>
                <a:lnTo>
                  <a:pt x="15240" y="137160"/>
                </a:lnTo>
                <a:lnTo>
                  <a:pt x="15240" y="144780"/>
                </a:lnTo>
                <a:lnTo>
                  <a:pt x="15240" y="152400"/>
                </a:lnTo>
                <a:lnTo>
                  <a:pt x="15240" y="160020"/>
                </a:lnTo>
                <a:lnTo>
                  <a:pt x="15240" y="160020"/>
                </a:lnTo>
                <a:lnTo>
                  <a:pt x="15240" y="167640"/>
                </a:lnTo>
                <a:lnTo>
                  <a:pt x="15240" y="167640"/>
                </a:lnTo>
                <a:lnTo>
                  <a:pt x="15240" y="167640"/>
                </a:lnTo>
                <a:lnTo>
                  <a:pt x="15240" y="160020"/>
                </a:lnTo>
                <a:lnTo>
                  <a:pt x="15240" y="160020"/>
                </a:lnTo>
                <a:lnTo>
                  <a:pt x="15240" y="152400"/>
                </a:lnTo>
                <a:lnTo>
                  <a:pt x="15240" y="144780"/>
                </a:lnTo>
                <a:lnTo>
                  <a:pt x="15240" y="137160"/>
                </a:lnTo>
                <a:lnTo>
                  <a:pt x="15240" y="129540"/>
                </a:lnTo>
                <a:lnTo>
                  <a:pt x="15240" y="114300"/>
                </a:lnTo>
                <a:lnTo>
                  <a:pt x="15240" y="106680"/>
                </a:lnTo>
                <a:lnTo>
                  <a:pt x="15240" y="99060"/>
                </a:lnTo>
                <a:lnTo>
                  <a:pt x="15240" y="83820"/>
                </a:lnTo>
                <a:lnTo>
                  <a:pt x="22860" y="76200"/>
                </a:lnTo>
                <a:lnTo>
                  <a:pt x="22860" y="60960"/>
                </a:lnTo>
                <a:lnTo>
                  <a:pt x="22860" y="53340"/>
                </a:lnTo>
                <a:lnTo>
                  <a:pt x="30480" y="45720"/>
                </a:lnTo>
                <a:lnTo>
                  <a:pt x="30480" y="38100"/>
                </a:lnTo>
                <a:lnTo>
                  <a:pt x="38100" y="30480"/>
                </a:lnTo>
                <a:lnTo>
                  <a:pt x="45720" y="22860"/>
                </a:lnTo>
                <a:lnTo>
                  <a:pt x="45720" y="15240"/>
                </a:lnTo>
                <a:lnTo>
                  <a:pt x="60960" y="15240"/>
                </a:lnTo>
                <a:lnTo>
                  <a:pt x="60960" y="7620"/>
                </a:lnTo>
                <a:lnTo>
                  <a:pt x="68580" y="7620"/>
                </a:lnTo>
                <a:lnTo>
                  <a:pt x="83820" y="7620"/>
                </a:lnTo>
                <a:lnTo>
                  <a:pt x="91440" y="0"/>
                </a:lnTo>
                <a:lnTo>
                  <a:pt x="106680" y="0"/>
                </a:lnTo>
                <a:lnTo>
                  <a:pt x="114300" y="7620"/>
                </a:lnTo>
                <a:lnTo>
                  <a:pt x="121920" y="7620"/>
                </a:lnTo>
                <a:lnTo>
                  <a:pt x="129540" y="7620"/>
                </a:lnTo>
                <a:lnTo>
                  <a:pt x="137160" y="7620"/>
                </a:lnTo>
                <a:lnTo>
                  <a:pt x="152400" y="7620"/>
                </a:lnTo>
                <a:lnTo>
                  <a:pt x="160020" y="15240"/>
                </a:lnTo>
                <a:lnTo>
                  <a:pt x="167640" y="15240"/>
                </a:lnTo>
                <a:lnTo>
                  <a:pt x="167640" y="152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Freeform 26"/>
          <p:cNvSpPr/>
          <p:nvPr/>
        </p:nvSpPr>
        <p:spPr>
          <a:xfrm>
            <a:off x="4626000" y="2544840"/>
            <a:ext cx="114120" cy="7920"/>
          </a:xfrm>
          <a:custGeom>
            <a:avLst/>
            <a:gdLst>
              <a:gd name="textAreaLeft" fmla="*/ 0 w 114120"/>
              <a:gd name="textAreaRight" fmla="*/ 114480 w 1141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14301" h="7621">
                <a:moveTo>
                  <a:pt x="0" y="7620"/>
                </a:moveTo>
                <a:lnTo>
                  <a:pt x="0" y="7620"/>
                </a:lnTo>
                <a:lnTo>
                  <a:pt x="0" y="7620"/>
                </a:lnTo>
                <a:lnTo>
                  <a:pt x="7620" y="7620"/>
                </a:lnTo>
                <a:lnTo>
                  <a:pt x="7620" y="0"/>
                </a:lnTo>
                <a:lnTo>
                  <a:pt x="15240" y="0"/>
                </a:lnTo>
                <a:lnTo>
                  <a:pt x="22860" y="0"/>
                </a:lnTo>
                <a:lnTo>
                  <a:pt x="30480" y="0"/>
                </a:lnTo>
                <a:lnTo>
                  <a:pt x="45720" y="0"/>
                </a:lnTo>
                <a:lnTo>
                  <a:pt x="53340" y="0"/>
                </a:lnTo>
                <a:lnTo>
                  <a:pt x="60960" y="0"/>
                </a:lnTo>
                <a:lnTo>
                  <a:pt x="76200" y="0"/>
                </a:lnTo>
                <a:lnTo>
                  <a:pt x="83820" y="0"/>
                </a:lnTo>
                <a:lnTo>
                  <a:pt x="99060" y="0"/>
                </a:lnTo>
                <a:lnTo>
                  <a:pt x="114300" y="0"/>
                </a:lnTo>
                <a:lnTo>
                  <a:pt x="11430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Freeform 27"/>
          <p:cNvSpPr/>
          <p:nvPr/>
        </p:nvSpPr>
        <p:spPr>
          <a:xfrm>
            <a:off x="4610160" y="2606760"/>
            <a:ext cx="129960" cy="14040"/>
          </a:xfrm>
          <a:custGeom>
            <a:avLst/>
            <a:gdLst>
              <a:gd name="textAreaLeft" fmla="*/ 0 w 129960"/>
              <a:gd name="textAreaRight" fmla="*/ 130320 w 12996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129541" h="15241">
                <a:moveTo>
                  <a:pt x="7620" y="7620"/>
                </a:moveTo>
                <a:lnTo>
                  <a:pt x="0" y="7620"/>
                </a:lnTo>
                <a:lnTo>
                  <a:pt x="0" y="7620"/>
                </a:lnTo>
                <a:lnTo>
                  <a:pt x="0" y="15240"/>
                </a:lnTo>
                <a:lnTo>
                  <a:pt x="0" y="15240"/>
                </a:lnTo>
                <a:lnTo>
                  <a:pt x="0" y="15240"/>
                </a:lnTo>
                <a:lnTo>
                  <a:pt x="7620" y="15240"/>
                </a:lnTo>
                <a:lnTo>
                  <a:pt x="15240" y="15240"/>
                </a:lnTo>
                <a:lnTo>
                  <a:pt x="30480" y="15240"/>
                </a:lnTo>
                <a:lnTo>
                  <a:pt x="38100" y="15240"/>
                </a:lnTo>
                <a:lnTo>
                  <a:pt x="60960" y="7620"/>
                </a:lnTo>
                <a:lnTo>
                  <a:pt x="76200" y="7620"/>
                </a:lnTo>
                <a:lnTo>
                  <a:pt x="91440" y="0"/>
                </a:lnTo>
                <a:lnTo>
                  <a:pt x="106680" y="0"/>
                </a:lnTo>
                <a:lnTo>
                  <a:pt x="129540" y="0"/>
                </a:lnTo>
                <a:lnTo>
                  <a:pt x="12954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1320" bIns="-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Freeform 28"/>
          <p:cNvSpPr/>
          <p:nvPr/>
        </p:nvSpPr>
        <p:spPr>
          <a:xfrm>
            <a:off x="4822920" y="2484360"/>
            <a:ext cx="190440" cy="144720"/>
          </a:xfrm>
          <a:custGeom>
            <a:avLst/>
            <a:gdLst>
              <a:gd name="textAreaLeft" fmla="*/ 0 w 190440"/>
              <a:gd name="textAreaRight" fmla="*/ 190800 w 19044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190501" h="144781">
                <a:moveTo>
                  <a:pt x="45720" y="7620"/>
                </a:moveTo>
                <a:lnTo>
                  <a:pt x="45720" y="7620"/>
                </a:lnTo>
                <a:lnTo>
                  <a:pt x="45720" y="7620"/>
                </a:lnTo>
                <a:lnTo>
                  <a:pt x="45720" y="0"/>
                </a:lnTo>
                <a:lnTo>
                  <a:pt x="45720" y="0"/>
                </a:lnTo>
                <a:lnTo>
                  <a:pt x="45720" y="0"/>
                </a:lnTo>
                <a:lnTo>
                  <a:pt x="45720" y="0"/>
                </a:lnTo>
                <a:lnTo>
                  <a:pt x="45720" y="7620"/>
                </a:lnTo>
                <a:lnTo>
                  <a:pt x="45720" y="7620"/>
                </a:lnTo>
                <a:lnTo>
                  <a:pt x="45720" y="7620"/>
                </a:lnTo>
                <a:lnTo>
                  <a:pt x="45720" y="15240"/>
                </a:lnTo>
                <a:lnTo>
                  <a:pt x="45720" y="15240"/>
                </a:lnTo>
                <a:lnTo>
                  <a:pt x="45720" y="15240"/>
                </a:lnTo>
                <a:lnTo>
                  <a:pt x="38100" y="22860"/>
                </a:lnTo>
                <a:lnTo>
                  <a:pt x="38100" y="30480"/>
                </a:lnTo>
                <a:lnTo>
                  <a:pt x="30480" y="30480"/>
                </a:lnTo>
                <a:lnTo>
                  <a:pt x="22860" y="38100"/>
                </a:lnTo>
                <a:lnTo>
                  <a:pt x="22860" y="45720"/>
                </a:lnTo>
                <a:lnTo>
                  <a:pt x="15240" y="45720"/>
                </a:lnTo>
                <a:lnTo>
                  <a:pt x="7620" y="53340"/>
                </a:lnTo>
                <a:lnTo>
                  <a:pt x="7620" y="53340"/>
                </a:lnTo>
                <a:lnTo>
                  <a:pt x="7620" y="60960"/>
                </a:lnTo>
                <a:lnTo>
                  <a:pt x="0" y="60960"/>
                </a:lnTo>
                <a:lnTo>
                  <a:pt x="0" y="60960"/>
                </a:lnTo>
                <a:lnTo>
                  <a:pt x="0" y="60960"/>
                </a:lnTo>
                <a:lnTo>
                  <a:pt x="0" y="68580"/>
                </a:lnTo>
                <a:lnTo>
                  <a:pt x="0" y="68580"/>
                </a:lnTo>
                <a:lnTo>
                  <a:pt x="0" y="68580"/>
                </a:lnTo>
                <a:lnTo>
                  <a:pt x="0" y="68580"/>
                </a:lnTo>
                <a:lnTo>
                  <a:pt x="7620" y="60960"/>
                </a:lnTo>
                <a:lnTo>
                  <a:pt x="15240" y="60960"/>
                </a:lnTo>
                <a:lnTo>
                  <a:pt x="22860" y="60960"/>
                </a:lnTo>
                <a:lnTo>
                  <a:pt x="38100" y="60960"/>
                </a:lnTo>
                <a:lnTo>
                  <a:pt x="45720" y="53340"/>
                </a:lnTo>
                <a:lnTo>
                  <a:pt x="60960" y="53340"/>
                </a:lnTo>
                <a:lnTo>
                  <a:pt x="68580" y="53340"/>
                </a:lnTo>
                <a:lnTo>
                  <a:pt x="91440" y="53340"/>
                </a:lnTo>
                <a:lnTo>
                  <a:pt x="99060" y="60960"/>
                </a:lnTo>
                <a:lnTo>
                  <a:pt x="114300" y="60960"/>
                </a:lnTo>
                <a:lnTo>
                  <a:pt x="121920" y="68580"/>
                </a:lnTo>
                <a:lnTo>
                  <a:pt x="137160" y="68580"/>
                </a:lnTo>
                <a:lnTo>
                  <a:pt x="144780" y="76200"/>
                </a:lnTo>
                <a:lnTo>
                  <a:pt x="160020" y="76200"/>
                </a:lnTo>
                <a:lnTo>
                  <a:pt x="167640" y="83820"/>
                </a:lnTo>
                <a:lnTo>
                  <a:pt x="175260" y="91440"/>
                </a:lnTo>
                <a:lnTo>
                  <a:pt x="182880" y="99060"/>
                </a:lnTo>
                <a:lnTo>
                  <a:pt x="182880" y="99060"/>
                </a:lnTo>
                <a:lnTo>
                  <a:pt x="190500" y="114300"/>
                </a:lnTo>
                <a:lnTo>
                  <a:pt x="190500" y="114300"/>
                </a:lnTo>
                <a:lnTo>
                  <a:pt x="190500" y="121920"/>
                </a:lnTo>
                <a:lnTo>
                  <a:pt x="190500" y="129540"/>
                </a:lnTo>
                <a:lnTo>
                  <a:pt x="182880" y="137160"/>
                </a:lnTo>
                <a:lnTo>
                  <a:pt x="167640" y="144780"/>
                </a:lnTo>
                <a:lnTo>
                  <a:pt x="160020" y="144780"/>
                </a:lnTo>
                <a:lnTo>
                  <a:pt x="152400" y="144780"/>
                </a:lnTo>
                <a:lnTo>
                  <a:pt x="137160" y="144780"/>
                </a:lnTo>
                <a:lnTo>
                  <a:pt x="129540" y="144780"/>
                </a:lnTo>
                <a:lnTo>
                  <a:pt x="114300" y="144780"/>
                </a:lnTo>
                <a:lnTo>
                  <a:pt x="99060" y="144780"/>
                </a:lnTo>
                <a:lnTo>
                  <a:pt x="83820" y="137160"/>
                </a:lnTo>
                <a:lnTo>
                  <a:pt x="68580" y="129540"/>
                </a:lnTo>
                <a:lnTo>
                  <a:pt x="68580" y="1295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Freeform 29"/>
          <p:cNvSpPr/>
          <p:nvPr/>
        </p:nvSpPr>
        <p:spPr>
          <a:xfrm>
            <a:off x="4854600" y="2454120"/>
            <a:ext cx="158760" cy="38160"/>
          </a:xfrm>
          <a:custGeom>
            <a:avLst/>
            <a:gdLst>
              <a:gd name="textAreaLeft" fmla="*/ 0 w 158760"/>
              <a:gd name="textAreaRight" fmla="*/ 159120 w 1587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60021" h="38101">
                <a:moveTo>
                  <a:pt x="0" y="38100"/>
                </a:moveTo>
                <a:lnTo>
                  <a:pt x="0" y="30480"/>
                </a:lnTo>
                <a:lnTo>
                  <a:pt x="15240" y="22860"/>
                </a:lnTo>
                <a:lnTo>
                  <a:pt x="22860" y="15240"/>
                </a:lnTo>
                <a:lnTo>
                  <a:pt x="30480" y="15240"/>
                </a:lnTo>
                <a:lnTo>
                  <a:pt x="45720" y="7620"/>
                </a:lnTo>
                <a:lnTo>
                  <a:pt x="60960" y="7620"/>
                </a:lnTo>
                <a:lnTo>
                  <a:pt x="68580" y="0"/>
                </a:lnTo>
                <a:lnTo>
                  <a:pt x="91440" y="0"/>
                </a:lnTo>
                <a:lnTo>
                  <a:pt x="99060" y="0"/>
                </a:lnTo>
                <a:lnTo>
                  <a:pt x="114300" y="0"/>
                </a:lnTo>
                <a:lnTo>
                  <a:pt x="129540" y="0"/>
                </a:lnTo>
                <a:lnTo>
                  <a:pt x="160020" y="0"/>
                </a:lnTo>
                <a:lnTo>
                  <a:pt x="16002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.3: Graph the circle with the following Eq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52280" y="6858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x + 4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+ (y – 1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3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nter:  (-4,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us:  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3657600" y="12952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 – (-4)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(y – 1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3200" spc="-1" strike="noStrike">
                <a:solidFill>
                  <a:srgbClr val="000000"/>
                </a:solidFill>
                <a:latin typeface="Informal Roman"/>
              </a:rPr>
              <a:t>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5410080" y="266688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Line 6"/>
          <p:cNvSpPr/>
          <p:nvPr/>
        </p:nvSpPr>
        <p:spPr>
          <a:xfrm>
            <a:off x="990720" y="4724280"/>
            <a:ext cx="9067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380988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3657600" y="4952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5562720" y="42670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52578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Oval 11"/>
          <p:cNvSpPr/>
          <p:nvPr/>
        </p:nvSpPr>
        <p:spPr>
          <a:xfrm>
            <a:off x="3733920" y="4419720"/>
            <a:ext cx="15228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624852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6095880" y="48769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Oval 14"/>
          <p:cNvSpPr/>
          <p:nvPr/>
        </p:nvSpPr>
        <p:spPr>
          <a:xfrm>
            <a:off x="1981080" y="2286000"/>
            <a:ext cx="4267440" cy="4267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Oval 15"/>
          <p:cNvSpPr/>
          <p:nvPr/>
        </p:nvSpPr>
        <p:spPr>
          <a:xfrm>
            <a:off x="3809880" y="2209680"/>
            <a:ext cx="152640" cy="152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Oval 16"/>
          <p:cNvSpPr/>
          <p:nvPr/>
        </p:nvSpPr>
        <p:spPr>
          <a:xfrm>
            <a:off x="6172200" y="4648320"/>
            <a:ext cx="15228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Oval 17"/>
          <p:cNvSpPr/>
          <p:nvPr/>
        </p:nvSpPr>
        <p:spPr>
          <a:xfrm>
            <a:off x="1905120" y="4648320"/>
            <a:ext cx="152280" cy="152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Freeform 1"/>
          <p:cNvSpPr/>
          <p:nvPr/>
        </p:nvSpPr>
        <p:spPr>
          <a:xfrm>
            <a:off x="6156360" y="4435560"/>
            <a:ext cx="108000" cy="60120"/>
          </a:xfrm>
          <a:custGeom>
            <a:avLst/>
            <a:gdLst>
              <a:gd name="textAreaLeft" fmla="*/ 0 w 108000"/>
              <a:gd name="textAreaRight" fmla="*/ 108360 w 10800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06681" h="60961">
                <a:moveTo>
                  <a:pt x="91440" y="22860"/>
                </a:moveTo>
                <a:lnTo>
                  <a:pt x="91440" y="22860"/>
                </a:lnTo>
                <a:lnTo>
                  <a:pt x="91440" y="22860"/>
                </a:lnTo>
                <a:lnTo>
                  <a:pt x="91440" y="22860"/>
                </a:lnTo>
                <a:lnTo>
                  <a:pt x="91440" y="22860"/>
                </a:lnTo>
                <a:lnTo>
                  <a:pt x="91440" y="22860"/>
                </a:lnTo>
                <a:lnTo>
                  <a:pt x="91440" y="22860"/>
                </a:lnTo>
                <a:lnTo>
                  <a:pt x="91440" y="22860"/>
                </a:lnTo>
                <a:lnTo>
                  <a:pt x="91440" y="22860"/>
                </a:lnTo>
                <a:lnTo>
                  <a:pt x="83820" y="22860"/>
                </a:lnTo>
                <a:lnTo>
                  <a:pt x="83820" y="22860"/>
                </a:lnTo>
                <a:lnTo>
                  <a:pt x="83820" y="22860"/>
                </a:lnTo>
                <a:lnTo>
                  <a:pt x="83820" y="22860"/>
                </a:lnTo>
                <a:lnTo>
                  <a:pt x="83820" y="22860"/>
                </a:lnTo>
                <a:lnTo>
                  <a:pt x="76200" y="22860"/>
                </a:lnTo>
                <a:lnTo>
                  <a:pt x="76200" y="22860"/>
                </a:lnTo>
                <a:lnTo>
                  <a:pt x="76200" y="22860"/>
                </a:lnTo>
                <a:lnTo>
                  <a:pt x="68580" y="22860"/>
                </a:lnTo>
                <a:lnTo>
                  <a:pt x="68580" y="22860"/>
                </a:lnTo>
                <a:lnTo>
                  <a:pt x="68580" y="22860"/>
                </a:lnTo>
                <a:lnTo>
                  <a:pt x="60960" y="22860"/>
                </a:lnTo>
                <a:lnTo>
                  <a:pt x="60960" y="15240"/>
                </a:lnTo>
                <a:lnTo>
                  <a:pt x="60960" y="15240"/>
                </a:lnTo>
                <a:lnTo>
                  <a:pt x="60960" y="15240"/>
                </a:lnTo>
                <a:lnTo>
                  <a:pt x="53340" y="15240"/>
                </a:lnTo>
                <a:lnTo>
                  <a:pt x="53340" y="15240"/>
                </a:lnTo>
                <a:lnTo>
                  <a:pt x="53340" y="7620"/>
                </a:lnTo>
                <a:lnTo>
                  <a:pt x="53340" y="7620"/>
                </a:lnTo>
                <a:lnTo>
                  <a:pt x="53340" y="7620"/>
                </a:lnTo>
                <a:lnTo>
                  <a:pt x="53340" y="7620"/>
                </a:lnTo>
                <a:lnTo>
                  <a:pt x="60960" y="7620"/>
                </a:lnTo>
                <a:lnTo>
                  <a:pt x="60960" y="0"/>
                </a:lnTo>
                <a:lnTo>
                  <a:pt x="60960" y="0"/>
                </a:lnTo>
                <a:lnTo>
                  <a:pt x="60960" y="0"/>
                </a:lnTo>
                <a:lnTo>
                  <a:pt x="68580" y="0"/>
                </a:lnTo>
                <a:lnTo>
                  <a:pt x="68580" y="0"/>
                </a:lnTo>
                <a:lnTo>
                  <a:pt x="76200" y="0"/>
                </a:lnTo>
                <a:lnTo>
                  <a:pt x="83820" y="7620"/>
                </a:lnTo>
                <a:lnTo>
                  <a:pt x="83820" y="7620"/>
                </a:lnTo>
                <a:lnTo>
                  <a:pt x="91440" y="7620"/>
                </a:lnTo>
                <a:lnTo>
                  <a:pt x="91440" y="7620"/>
                </a:lnTo>
                <a:lnTo>
                  <a:pt x="99060" y="15240"/>
                </a:lnTo>
                <a:lnTo>
                  <a:pt x="99060" y="15240"/>
                </a:lnTo>
                <a:lnTo>
                  <a:pt x="106680" y="15240"/>
                </a:lnTo>
                <a:lnTo>
                  <a:pt x="106680" y="15240"/>
                </a:lnTo>
                <a:lnTo>
                  <a:pt x="106680" y="15240"/>
                </a:lnTo>
                <a:lnTo>
                  <a:pt x="106680" y="22860"/>
                </a:lnTo>
                <a:lnTo>
                  <a:pt x="106680" y="22860"/>
                </a:lnTo>
                <a:lnTo>
                  <a:pt x="106680" y="30480"/>
                </a:lnTo>
                <a:lnTo>
                  <a:pt x="106680" y="30480"/>
                </a:lnTo>
                <a:lnTo>
                  <a:pt x="106680" y="30480"/>
                </a:lnTo>
                <a:lnTo>
                  <a:pt x="106680" y="38100"/>
                </a:lnTo>
                <a:lnTo>
                  <a:pt x="106680" y="38100"/>
                </a:lnTo>
                <a:lnTo>
                  <a:pt x="106680" y="38100"/>
                </a:lnTo>
                <a:lnTo>
                  <a:pt x="99060" y="45720"/>
                </a:lnTo>
                <a:lnTo>
                  <a:pt x="99060" y="45720"/>
                </a:lnTo>
                <a:lnTo>
                  <a:pt x="91440" y="53340"/>
                </a:lnTo>
                <a:lnTo>
                  <a:pt x="83820" y="53340"/>
                </a:lnTo>
                <a:lnTo>
                  <a:pt x="76200" y="53340"/>
                </a:lnTo>
                <a:lnTo>
                  <a:pt x="68580" y="53340"/>
                </a:lnTo>
                <a:lnTo>
                  <a:pt x="60960" y="53340"/>
                </a:lnTo>
                <a:lnTo>
                  <a:pt x="53340" y="53340"/>
                </a:lnTo>
                <a:lnTo>
                  <a:pt x="53340" y="53340"/>
                </a:lnTo>
                <a:lnTo>
                  <a:pt x="45720" y="53340"/>
                </a:lnTo>
                <a:lnTo>
                  <a:pt x="45720" y="53340"/>
                </a:lnTo>
                <a:lnTo>
                  <a:pt x="38100" y="53340"/>
                </a:lnTo>
                <a:lnTo>
                  <a:pt x="38100" y="53340"/>
                </a:lnTo>
                <a:lnTo>
                  <a:pt x="38100" y="53340"/>
                </a:lnTo>
                <a:lnTo>
                  <a:pt x="30480" y="45720"/>
                </a:lnTo>
                <a:lnTo>
                  <a:pt x="30480" y="45720"/>
                </a:lnTo>
                <a:lnTo>
                  <a:pt x="30480" y="38100"/>
                </a:lnTo>
                <a:lnTo>
                  <a:pt x="38100" y="38100"/>
                </a:lnTo>
                <a:lnTo>
                  <a:pt x="38100" y="30480"/>
                </a:lnTo>
                <a:lnTo>
                  <a:pt x="38100" y="30480"/>
                </a:lnTo>
                <a:lnTo>
                  <a:pt x="45720" y="22860"/>
                </a:lnTo>
                <a:lnTo>
                  <a:pt x="45720" y="22860"/>
                </a:lnTo>
                <a:lnTo>
                  <a:pt x="53340" y="15240"/>
                </a:lnTo>
                <a:lnTo>
                  <a:pt x="60960" y="15240"/>
                </a:lnTo>
                <a:lnTo>
                  <a:pt x="68580" y="15240"/>
                </a:lnTo>
                <a:lnTo>
                  <a:pt x="76200" y="15240"/>
                </a:lnTo>
                <a:lnTo>
                  <a:pt x="83820" y="7620"/>
                </a:lnTo>
                <a:lnTo>
                  <a:pt x="83820" y="7620"/>
                </a:lnTo>
                <a:lnTo>
                  <a:pt x="91440" y="7620"/>
                </a:lnTo>
                <a:lnTo>
                  <a:pt x="91440" y="7620"/>
                </a:lnTo>
                <a:lnTo>
                  <a:pt x="99060" y="15240"/>
                </a:lnTo>
                <a:lnTo>
                  <a:pt x="99060" y="15240"/>
                </a:lnTo>
                <a:lnTo>
                  <a:pt x="106680" y="15240"/>
                </a:lnTo>
                <a:lnTo>
                  <a:pt x="106680" y="15240"/>
                </a:lnTo>
                <a:lnTo>
                  <a:pt x="106680" y="15240"/>
                </a:lnTo>
                <a:lnTo>
                  <a:pt x="106680" y="22860"/>
                </a:lnTo>
                <a:lnTo>
                  <a:pt x="106680" y="22860"/>
                </a:lnTo>
                <a:lnTo>
                  <a:pt x="106680" y="30480"/>
                </a:lnTo>
                <a:lnTo>
                  <a:pt x="106680" y="38100"/>
                </a:lnTo>
                <a:lnTo>
                  <a:pt x="106680" y="38100"/>
                </a:lnTo>
                <a:lnTo>
                  <a:pt x="99060" y="45720"/>
                </a:lnTo>
                <a:lnTo>
                  <a:pt x="99060" y="45720"/>
                </a:lnTo>
                <a:lnTo>
                  <a:pt x="91440" y="53340"/>
                </a:lnTo>
                <a:lnTo>
                  <a:pt x="83820" y="53340"/>
                </a:lnTo>
                <a:lnTo>
                  <a:pt x="83820" y="53340"/>
                </a:lnTo>
                <a:lnTo>
                  <a:pt x="68580" y="60960"/>
                </a:lnTo>
                <a:lnTo>
                  <a:pt x="68580" y="60960"/>
                </a:lnTo>
                <a:lnTo>
                  <a:pt x="60960" y="60960"/>
                </a:lnTo>
                <a:lnTo>
                  <a:pt x="53340" y="60960"/>
                </a:lnTo>
                <a:lnTo>
                  <a:pt x="45720" y="53340"/>
                </a:lnTo>
                <a:lnTo>
                  <a:pt x="38100" y="53340"/>
                </a:lnTo>
                <a:lnTo>
                  <a:pt x="30480" y="53340"/>
                </a:lnTo>
                <a:lnTo>
                  <a:pt x="22860" y="53340"/>
                </a:lnTo>
                <a:lnTo>
                  <a:pt x="22860" y="45720"/>
                </a:lnTo>
                <a:lnTo>
                  <a:pt x="15240" y="38100"/>
                </a:lnTo>
                <a:lnTo>
                  <a:pt x="15240" y="38100"/>
                </a:lnTo>
                <a:lnTo>
                  <a:pt x="15240" y="38100"/>
                </a:lnTo>
                <a:lnTo>
                  <a:pt x="15240" y="30480"/>
                </a:lnTo>
                <a:lnTo>
                  <a:pt x="22860" y="30480"/>
                </a:lnTo>
                <a:lnTo>
                  <a:pt x="30480" y="30480"/>
                </a:lnTo>
                <a:lnTo>
                  <a:pt x="38100" y="22860"/>
                </a:lnTo>
                <a:lnTo>
                  <a:pt x="45720" y="22860"/>
                </a:lnTo>
                <a:lnTo>
                  <a:pt x="45720" y="22860"/>
                </a:lnTo>
                <a:lnTo>
                  <a:pt x="53340" y="22860"/>
                </a:lnTo>
                <a:lnTo>
                  <a:pt x="60960" y="22860"/>
                </a:lnTo>
                <a:lnTo>
                  <a:pt x="68580" y="30480"/>
                </a:lnTo>
                <a:lnTo>
                  <a:pt x="76200" y="30480"/>
                </a:lnTo>
                <a:lnTo>
                  <a:pt x="83820" y="30480"/>
                </a:lnTo>
                <a:lnTo>
                  <a:pt x="91440" y="30480"/>
                </a:lnTo>
                <a:lnTo>
                  <a:pt x="91440" y="38100"/>
                </a:lnTo>
                <a:lnTo>
                  <a:pt x="91440" y="38100"/>
                </a:lnTo>
                <a:lnTo>
                  <a:pt x="99060" y="38100"/>
                </a:lnTo>
                <a:lnTo>
                  <a:pt x="99060" y="45720"/>
                </a:lnTo>
                <a:lnTo>
                  <a:pt x="91440" y="45720"/>
                </a:lnTo>
                <a:lnTo>
                  <a:pt x="91440" y="45720"/>
                </a:lnTo>
                <a:lnTo>
                  <a:pt x="91440" y="53340"/>
                </a:lnTo>
                <a:lnTo>
                  <a:pt x="83820" y="53340"/>
                </a:lnTo>
                <a:lnTo>
                  <a:pt x="68580" y="53340"/>
                </a:lnTo>
                <a:lnTo>
                  <a:pt x="60960" y="53340"/>
                </a:lnTo>
                <a:lnTo>
                  <a:pt x="53340" y="53340"/>
                </a:lnTo>
                <a:lnTo>
                  <a:pt x="45720" y="53340"/>
                </a:lnTo>
                <a:lnTo>
                  <a:pt x="38100" y="45720"/>
                </a:lnTo>
                <a:lnTo>
                  <a:pt x="30480" y="45720"/>
                </a:lnTo>
                <a:lnTo>
                  <a:pt x="15240" y="45720"/>
                </a:lnTo>
                <a:lnTo>
                  <a:pt x="15240" y="38100"/>
                </a:lnTo>
                <a:lnTo>
                  <a:pt x="7620" y="38100"/>
                </a:lnTo>
                <a:lnTo>
                  <a:pt x="7620" y="38100"/>
                </a:lnTo>
                <a:lnTo>
                  <a:pt x="0" y="38100"/>
                </a:lnTo>
                <a:lnTo>
                  <a:pt x="0" y="30480"/>
                </a:lnTo>
                <a:lnTo>
                  <a:pt x="0" y="30480"/>
                </a:lnTo>
                <a:lnTo>
                  <a:pt x="7620" y="30480"/>
                </a:lnTo>
                <a:lnTo>
                  <a:pt x="7620" y="22860"/>
                </a:lnTo>
                <a:lnTo>
                  <a:pt x="15240" y="22860"/>
                </a:lnTo>
                <a:lnTo>
                  <a:pt x="22860" y="15240"/>
                </a:lnTo>
                <a:lnTo>
                  <a:pt x="22860" y="15240"/>
                </a:lnTo>
                <a:lnTo>
                  <a:pt x="30480" y="15240"/>
                </a:lnTo>
                <a:lnTo>
                  <a:pt x="38100" y="15240"/>
                </a:lnTo>
                <a:lnTo>
                  <a:pt x="45720" y="15240"/>
                </a:lnTo>
                <a:lnTo>
                  <a:pt x="45720" y="15240"/>
                </a:lnTo>
                <a:lnTo>
                  <a:pt x="45720" y="15240"/>
                </a:lnTo>
                <a:lnTo>
                  <a:pt x="45720" y="15240"/>
                </a:lnTo>
                <a:lnTo>
                  <a:pt x="45720" y="15240"/>
                </a:lnTo>
                <a:lnTo>
                  <a:pt x="45720" y="15240"/>
                </a:lnTo>
                <a:lnTo>
                  <a:pt x="45720" y="15240"/>
                </a:lnTo>
                <a:lnTo>
                  <a:pt x="45720" y="15240"/>
                </a:lnTo>
                <a:lnTo>
                  <a:pt x="45720" y="15240"/>
                </a:lnTo>
                <a:lnTo>
                  <a:pt x="45720" y="22860"/>
                </a:lnTo>
                <a:lnTo>
                  <a:pt x="45720" y="228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Freeform 2"/>
          <p:cNvSpPr/>
          <p:nvPr/>
        </p:nvSpPr>
        <p:spPr>
          <a:xfrm>
            <a:off x="1927080" y="4419720"/>
            <a:ext cx="122400" cy="68040"/>
          </a:xfrm>
          <a:custGeom>
            <a:avLst/>
            <a:gdLst>
              <a:gd name="textAreaLeft" fmla="*/ 0 w 122400"/>
              <a:gd name="textAreaRight" fmla="*/ 122760 w 12240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121921" h="68581">
                <a:moveTo>
                  <a:pt x="91440" y="45720"/>
                </a:moveTo>
                <a:lnTo>
                  <a:pt x="91440" y="45720"/>
                </a:lnTo>
                <a:lnTo>
                  <a:pt x="91440" y="53340"/>
                </a:lnTo>
                <a:lnTo>
                  <a:pt x="91440" y="53340"/>
                </a:lnTo>
                <a:lnTo>
                  <a:pt x="91440" y="53340"/>
                </a:lnTo>
                <a:lnTo>
                  <a:pt x="91440" y="60960"/>
                </a:lnTo>
                <a:lnTo>
                  <a:pt x="91440" y="60960"/>
                </a:lnTo>
                <a:lnTo>
                  <a:pt x="91440" y="60960"/>
                </a:lnTo>
                <a:lnTo>
                  <a:pt x="83820" y="60960"/>
                </a:lnTo>
                <a:lnTo>
                  <a:pt x="83820" y="60960"/>
                </a:lnTo>
                <a:lnTo>
                  <a:pt x="83820" y="68580"/>
                </a:lnTo>
                <a:lnTo>
                  <a:pt x="76200" y="68580"/>
                </a:lnTo>
                <a:lnTo>
                  <a:pt x="76200" y="68580"/>
                </a:lnTo>
                <a:lnTo>
                  <a:pt x="68580" y="68580"/>
                </a:lnTo>
                <a:lnTo>
                  <a:pt x="68580" y="68580"/>
                </a:lnTo>
                <a:lnTo>
                  <a:pt x="60960" y="60960"/>
                </a:lnTo>
                <a:lnTo>
                  <a:pt x="53340" y="60960"/>
                </a:lnTo>
                <a:lnTo>
                  <a:pt x="53340" y="60960"/>
                </a:lnTo>
                <a:lnTo>
                  <a:pt x="45720" y="60960"/>
                </a:lnTo>
                <a:lnTo>
                  <a:pt x="38100" y="53340"/>
                </a:lnTo>
                <a:lnTo>
                  <a:pt x="30480" y="53340"/>
                </a:lnTo>
                <a:lnTo>
                  <a:pt x="30480" y="53340"/>
                </a:lnTo>
                <a:lnTo>
                  <a:pt x="22860" y="45720"/>
                </a:lnTo>
                <a:lnTo>
                  <a:pt x="22860" y="45720"/>
                </a:lnTo>
                <a:lnTo>
                  <a:pt x="22860" y="38100"/>
                </a:lnTo>
                <a:lnTo>
                  <a:pt x="15240" y="30480"/>
                </a:lnTo>
                <a:lnTo>
                  <a:pt x="15240" y="22860"/>
                </a:lnTo>
                <a:lnTo>
                  <a:pt x="15240" y="22860"/>
                </a:lnTo>
                <a:lnTo>
                  <a:pt x="22860" y="15240"/>
                </a:lnTo>
                <a:lnTo>
                  <a:pt x="22860" y="15240"/>
                </a:lnTo>
                <a:lnTo>
                  <a:pt x="22860" y="7620"/>
                </a:lnTo>
                <a:lnTo>
                  <a:pt x="30480" y="7620"/>
                </a:lnTo>
                <a:lnTo>
                  <a:pt x="38100" y="0"/>
                </a:lnTo>
                <a:lnTo>
                  <a:pt x="45720" y="0"/>
                </a:lnTo>
                <a:lnTo>
                  <a:pt x="53340" y="0"/>
                </a:lnTo>
                <a:lnTo>
                  <a:pt x="60960" y="0"/>
                </a:lnTo>
                <a:lnTo>
                  <a:pt x="68580" y="0"/>
                </a:lnTo>
                <a:lnTo>
                  <a:pt x="76200" y="0"/>
                </a:lnTo>
                <a:lnTo>
                  <a:pt x="83820" y="0"/>
                </a:lnTo>
                <a:lnTo>
                  <a:pt x="91440" y="0"/>
                </a:lnTo>
                <a:lnTo>
                  <a:pt x="99060" y="7620"/>
                </a:lnTo>
                <a:lnTo>
                  <a:pt x="99060" y="7620"/>
                </a:lnTo>
                <a:lnTo>
                  <a:pt x="106680" y="15240"/>
                </a:lnTo>
                <a:lnTo>
                  <a:pt x="106680" y="15240"/>
                </a:lnTo>
                <a:lnTo>
                  <a:pt x="114300" y="22860"/>
                </a:lnTo>
                <a:lnTo>
                  <a:pt x="114300" y="22860"/>
                </a:lnTo>
                <a:lnTo>
                  <a:pt x="114300" y="30480"/>
                </a:lnTo>
                <a:lnTo>
                  <a:pt x="114300" y="38100"/>
                </a:lnTo>
                <a:lnTo>
                  <a:pt x="114300" y="45720"/>
                </a:lnTo>
                <a:lnTo>
                  <a:pt x="106680" y="45720"/>
                </a:lnTo>
                <a:lnTo>
                  <a:pt x="99060" y="53340"/>
                </a:lnTo>
                <a:lnTo>
                  <a:pt x="99060" y="53340"/>
                </a:lnTo>
                <a:lnTo>
                  <a:pt x="83820" y="60960"/>
                </a:lnTo>
                <a:lnTo>
                  <a:pt x="83820" y="60960"/>
                </a:lnTo>
                <a:lnTo>
                  <a:pt x="76200" y="60960"/>
                </a:lnTo>
                <a:lnTo>
                  <a:pt x="60960" y="60960"/>
                </a:lnTo>
                <a:lnTo>
                  <a:pt x="53340" y="60960"/>
                </a:lnTo>
                <a:lnTo>
                  <a:pt x="45720" y="60960"/>
                </a:lnTo>
                <a:lnTo>
                  <a:pt x="30480" y="60960"/>
                </a:lnTo>
                <a:lnTo>
                  <a:pt x="22860" y="53340"/>
                </a:lnTo>
                <a:lnTo>
                  <a:pt x="15240" y="53340"/>
                </a:lnTo>
                <a:lnTo>
                  <a:pt x="7620" y="45720"/>
                </a:lnTo>
                <a:lnTo>
                  <a:pt x="7620" y="45720"/>
                </a:lnTo>
                <a:lnTo>
                  <a:pt x="0" y="38100"/>
                </a:lnTo>
                <a:lnTo>
                  <a:pt x="0" y="30480"/>
                </a:lnTo>
                <a:lnTo>
                  <a:pt x="0" y="22860"/>
                </a:lnTo>
                <a:lnTo>
                  <a:pt x="0" y="22860"/>
                </a:lnTo>
                <a:lnTo>
                  <a:pt x="7620" y="15240"/>
                </a:lnTo>
                <a:lnTo>
                  <a:pt x="7620" y="15240"/>
                </a:lnTo>
                <a:lnTo>
                  <a:pt x="15240" y="7620"/>
                </a:lnTo>
                <a:lnTo>
                  <a:pt x="22860" y="7620"/>
                </a:lnTo>
                <a:lnTo>
                  <a:pt x="30480" y="7620"/>
                </a:lnTo>
                <a:lnTo>
                  <a:pt x="38100" y="0"/>
                </a:lnTo>
                <a:lnTo>
                  <a:pt x="53340" y="7620"/>
                </a:lnTo>
                <a:lnTo>
                  <a:pt x="60960" y="7620"/>
                </a:lnTo>
                <a:lnTo>
                  <a:pt x="68580" y="7620"/>
                </a:lnTo>
                <a:lnTo>
                  <a:pt x="76200" y="7620"/>
                </a:lnTo>
                <a:lnTo>
                  <a:pt x="83820" y="15240"/>
                </a:lnTo>
                <a:lnTo>
                  <a:pt x="91440" y="15240"/>
                </a:lnTo>
                <a:lnTo>
                  <a:pt x="91440" y="22860"/>
                </a:lnTo>
                <a:lnTo>
                  <a:pt x="99060" y="22860"/>
                </a:lnTo>
                <a:lnTo>
                  <a:pt x="99060" y="30480"/>
                </a:lnTo>
                <a:lnTo>
                  <a:pt x="99060" y="30480"/>
                </a:lnTo>
                <a:lnTo>
                  <a:pt x="99060" y="38100"/>
                </a:lnTo>
                <a:lnTo>
                  <a:pt x="91440" y="45720"/>
                </a:lnTo>
                <a:lnTo>
                  <a:pt x="83820" y="45720"/>
                </a:lnTo>
                <a:lnTo>
                  <a:pt x="76200" y="45720"/>
                </a:lnTo>
                <a:lnTo>
                  <a:pt x="76200" y="53340"/>
                </a:lnTo>
                <a:lnTo>
                  <a:pt x="68580" y="53340"/>
                </a:lnTo>
                <a:lnTo>
                  <a:pt x="60960" y="53340"/>
                </a:lnTo>
                <a:lnTo>
                  <a:pt x="53340" y="53340"/>
                </a:lnTo>
                <a:lnTo>
                  <a:pt x="45720" y="45720"/>
                </a:lnTo>
                <a:lnTo>
                  <a:pt x="38100" y="45720"/>
                </a:lnTo>
                <a:lnTo>
                  <a:pt x="30480" y="45720"/>
                </a:lnTo>
                <a:lnTo>
                  <a:pt x="22860" y="38100"/>
                </a:lnTo>
                <a:lnTo>
                  <a:pt x="22860" y="30480"/>
                </a:lnTo>
                <a:lnTo>
                  <a:pt x="22860" y="30480"/>
                </a:lnTo>
                <a:lnTo>
                  <a:pt x="22860" y="22860"/>
                </a:lnTo>
                <a:lnTo>
                  <a:pt x="22860" y="22860"/>
                </a:lnTo>
                <a:lnTo>
                  <a:pt x="22860" y="15240"/>
                </a:lnTo>
                <a:lnTo>
                  <a:pt x="30480" y="15240"/>
                </a:lnTo>
                <a:lnTo>
                  <a:pt x="38100" y="15240"/>
                </a:lnTo>
                <a:lnTo>
                  <a:pt x="45720" y="7620"/>
                </a:lnTo>
                <a:lnTo>
                  <a:pt x="60960" y="7620"/>
                </a:lnTo>
                <a:lnTo>
                  <a:pt x="68580" y="7620"/>
                </a:lnTo>
                <a:lnTo>
                  <a:pt x="76200" y="15240"/>
                </a:lnTo>
                <a:lnTo>
                  <a:pt x="83820" y="15240"/>
                </a:lnTo>
                <a:lnTo>
                  <a:pt x="99060" y="15240"/>
                </a:lnTo>
                <a:lnTo>
                  <a:pt x="106680" y="22860"/>
                </a:lnTo>
                <a:lnTo>
                  <a:pt x="106680" y="22860"/>
                </a:lnTo>
                <a:lnTo>
                  <a:pt x="114300" y="22860"/>
                </a:lnTo>
                <a:lnTo>
                  <a:pt x="114300" y="30480"/>
                </a:lnTo>
                <a:lnTo>
                  <a:pt x="121920" y="30480"/>
                </a:lnTo>
                <a:lnTo>
                  <a:pt x="121920" y="38100"/>
                </a:lnTo>
                <a:lnTo>
                  <a:pt x="121920" y="38100"/>
                </a:lnTo>
                <a:lnTo>
                  <a:pt x="114300" y="45720"/>
                </a:lnTo>
                <a:lnTo>
                  <a:pt x="106680" y="45720"/>
                </a:lnTo>
                <a:lnTo>
                  <a:pt x="106680" y="45720"/>
                </a:lnTo>
                <a:lnTo>
                  <a:pt x="99060" y="53340"/>
                </a:lnTo>
                <a:lnTo>
                  <a:pt x="83820" y="53340"/>
                </a:lnTo>
                <a:lnTo>
                  <a:pt x="76200" y="53340"/>
                </a:lnTo>
                <a:lnTo>
                  <a:pt x="68580" y="53340"/>
                </a:lnTo>
                <a:lnTo>
                  <a:pt x="60960" y="53340"/>
                </a:lnTo>
                <a:lnTo>
                  <a:pt x="53340" y="53340"/>
                </a:lnTo>
                <a:lnTo>
                  <a:pt x="45720" y="53340"/>
                </a:lnTo>
                <a:lnTo>
                  <a:pt x="38100" y="45720"/>
                </a:lnTo>
                <a:lnTo>
                  <a:pt x="38100" y="45720"/>
                </a:lnTo>
                <a:lnTo>
                  <a:pt x="30480" y="45720"/>
                </a:lnTo>
                <a:lnTo>
                  <a:pt x="30480" y="45720"/>
                </a:lnTo>
                <a:lnTo>
                  <a:pt x="30480" y="38100"/>
                </a:lnTo>
                <a:lnTo>
                  <a:pt x="38100" y="30480"/>
                </a:lnTo>
                <a:lnTo>
                  <a:pt x="38100" y="30480"/>
                </a:lnTo>
                <a:lnTo>
                  <a:pt x="45720" y="30480"/>
                </a:lnTo>
                <a:lnTo>
                  <a:pt x="60960" y="22860"/>
                </a:lnTo>
                <a:lnTo>
                  <a:pt x="68580" y="22860"/>
                </a:lnTo>
                <a:lnTo>
                  <a:pt x="76200" y="22860"/>
                </a:lnTo>
                <a:lnTo>
                  <a:pt x="83820" y="22860"/>
                </a:lnTo>
                <a:lnTo>
                  <a:pt x="99060" y="22860"/>
                </a:lnTo>
                <a:lnTo>
                  <a:pt x="106680" y="22860"/>
                </a:lnTo>
                <a:lnTo>
                  <a:pt x="114300" y="30480"/>
                </a:lnTo>
                <a:lnTo>
                  <a:pt x="114300" y="30480"/>
                </a:lnTo>
                <a:lnTo>
                  <a:pt x="121920" y="30480"/>
                </a:lnTo>
                <a:lnTo>
                  <a:pt x="121920" y="30480"/>
                </a:lnTo>
                <a:lnTo>
                  <a:pt x="121920" y="30480"/>
                </a:lnTo>
                <a:lnTo>
                  <a:pt x="121920" y="38100"/>
                </a:lnTo>
                <a:lnTo>
                  <a:pt x="121920" y="38100"/>
                </a:lnTo>
                <a:lnTo>
                  <a:pt x="114300" y="38100"/>
                </a:lnTo>
                <a:lnTo>
                  <a:pt x="106680" y="45720"/>
                </a:lnTo>
                <a:lnTo>
                  <a:pt x="99060" y="45720"/>
                </a:lnTo>
                <a:lnTo>
                  <a:pt x="83820" y="45720"/>
                </a:lnTo>
                <a:lnTo>
                  <a:pt x="76200" y="45720"/>
                </a:lnTo>
                <a:lnTo>
                  <a:pt x="68580" y="45720"/>
                </a:lnTo>
                <a:lnTo>
                  <a:pt x="60960" y="45720"/>
                </a:lnTo>
                <a:lnTo>
                  <a:pt x="53340" y="45720"/>
                </a:lnTo>
                <a:lnTo>
                  <a:pt x="45720" y="38100"/>
                </a:lnTo>
                <a:lnTo>
                  <a:pt x="45720" y="38100"/>
                </a:lnTo>
                <a:lnTo>
                  <a:pt x="38100" y="30480"/>
                </a:lnTo>
                <a:lnTo>
                  <a:pt x="38100" y="30480"/>
                </a:lnTo>
                <a:lnTo>
                  <a:pt x="38100" y="30480"/>
                </a:lnTo>
                <a:lnTo>
                  <a:pt x="45720" y="22860"/>
                </a:lnTo>
                <a:lnTo>
                  <a:pt x="53340" y="22860"/>
                </a:lnTo>
                <a:lnTo>
                  <a:pt x="53340" y="22860"/>
                </a:lnTo>
                <a:lnTo>
                  <a:pt x="60960" y="15240"/>
                </a:lnTo>
                <a:lnTo>
                  <a:pt x="76200" y="15240"/>
                </a:lnTo>
                <a:lnTo>
                  <a:pt x="83820" y="15240"/>
                </a:lnTo>
                <a:lnTo>
                  <a:pt x="91440" y="15240"/>
                </a:lnTo>
                <a:lnTo>
                  <a:pt x="99060" y="15240"/>
                </a:lnTo>
                <a:lnTo>
                  <a:pt x="106680" y="22860"/>
                </a:lnTo>
                <a:lnTo>
                  <a:pt x="106680" y="22860"/>
                </a:lnTo>
                <a:lnTo>
                  <a:pt x="114300" y="22860"/>
                </a:lnTo>
                <a:lnTo>
                  <a:pt x="114300" y="22860"/>
                </a:lnTo>
                <a:lnTo>
                  <a:pt x="114300" y="22860"/>
                </a:lnTo>
                <a:lnTo>
                  <a:pt x="114300" y="22860"/>
                </a:lnTo>
                <a:lnTo>
                  <a:pt x="106680" y="30480"/>
                </a:lnTo>
                <a:lnTo>
                  <a:pt x="106680" y="30480"/>
                </a:lnTo>
                <a:lnTo>
                  <a:pt x="99060" y="30480"/>
                </a:lnTo>
                <a:lnTo>
                  <a:pt x="83820" y="30480"/>
                </a:lnTo>
                <a:lnTo>
                  <a:pt x="76200" y="30480"/>
                </a:lnTo>
                <a:lnTo>
                  <a:pt x="68580" y="30480"/>
                </a:lnTo>
                <a:lnTo>
                  <a:pt x="60960" y="30480"/>
                </a:lnTo>
                <a:lnTo>
                  <a:pt x="60960" y="30480"/>
                </a:lnTo>
                <a:lnTo>
                  <a:pt x="53340" y="30480"/>
                </a:lnTo>
                <a:lnTo>
                  <a:pt x="53340" y="30480"/>
                </a:lnTo>
                <a:lnTo>
                  <a:pt x="53340" y="30480"/>
                </a:lnTo>
                <a:lnTo>
                  <a:pt x="53340" y="30480"/>
                </a:lnTo>
                <a:lnTo>
                  <a:pt x="53340" y="304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Freeform 3"/>
          <p:cNvSpPr/>
          <p:nvPr/>
        </p:nvSpPr>
        <p:spPr>
          <a:xfrm>
            <a:off x="6172200" y="4397400"/>
            <a:ext cx="144360" cy="76320"/>
          </a:xfrm>
          <a:custGeom>
            <a:avLst/>
            <a:gdLst>
              <a:gd name="textAreaLeft" fmla="*/ 0 w 144360"/>
              <a:gd name="textAreaRight" fmla="*/ 144720 w 144360"/>
              <a:gd name="textAreaTop" fmla="*/ 0 h 76320"/>
              <a:gd name="textAreaBottom" fmla="*/ 76320 h 76320"/>
            </a:gdLst>
            <a:ahLst/>
            <a:rect l="textAreaLeft" t="textAreaTop" r="textAreaRight" b="textAreaBottom"/>
            <a:pathLst>
              <a:path w="144781" h="76201">
                <a:moveTo>
                  <a:pt x="60960" y="53340"/>
                </a:moveTo>
                <a:lnTo>
                  <a:pt x="60960" y="53340"/>
                </a:lnTo>
                <a:lnTo>
                  <a:pt x="60960" y="60960"/>
                </a:lnTo>
                <a:lnTo>
                  <a:pt x="60960" y="60960"/>
                </a:lnTo>
                <a:lnTo>
                  <a:pt x="60960" y="60960"/>
                </a:lnTo>
                <a:lnTo>
                  <a:pt x="60960" y="68580"/>
                </a:lnTo>
                <a:lnTo>
                  <a:pt x="60960" y="68580"/>
                </a:lnTo>
                <a:lnTo>
                  <a:pt x="60960" y="68580"/>
                </a:lnTo>
                <a:lnTo>
                  <a:pt x="60960" y="76200"/>
                </a:lnTo>
                <a:lnTo>
                  <a:pt x="53340" y="76200"/>
                </a:lnTo>
                <a:lnTo>
                  <a:pt x="53340" y="76200"/>
                </a:lnTo>
                <a:lnTo>
                  <a:pt x="45720" y="76200"/>
                </a:lnTo>
                <a:lnTo>
                  <a:pt x="45720" y="76200"/>
                </a:lnTo>
                <a:lnTo>
                  <a:pt x="38100" y="76200"/>
                </a:lnTo>
                <a:lnTo>
                  <a:pt x="38100" y="76200"/>
                </a:lnTo>
                <a:lnTo>
                  <a:pt x="30480" y="68580"/>
                </a:lnTo>
                <a:lnTo>
                  <a:pt x="22860" y="68580"/>
                </a:lnTo>
                <a:lnTo>
                  <a:pt x="22860" y="60960"/>
                </a:lnTo>
                <a:lnTo>
                  <a:pt x="15240" y="60960"/>
                </a:lnTo>
                <a:lnTo>
                  <a:pt x="7620" y="53340"/>
                </a:lnTo>
                <a:lnTo>
                  <a:pt x="7620" y="53340"/>
                </a:lnTo>
                <a:lnTo>
                  <a:pt x="7620" y="53340"/>
                </a:lnTo>
                <a:lnTo>
                  <a:pt x="0" y="45720"/>
                </a:lnTo>
                <a:lnTo>
                  <a:pt x="0" y="38100"/>
                </a:lnTo>
                <a:lnTo>
                  <a:pt x="7620" y="38100"/>
                </a:lnTo>
                <a:lnTo>
                  <a:pt x="7620" y="30480"/>
                </a:lnTo>
                <a:lnTo>
                  <a:pt x="15240" y="30480"/>
                </a:lnTo>
                <a:lnTo>
                  <a:pt x="22860" y="22860"/>
                </a:lnTo>
                <a:lnTo>
                  <a:pt x="30480" y="22860"/>
                </a:lnTo>
                <a:lnTo>
                  <a:pt x="38100" y="15240"/>
                </a:lnTo>
                <a:lnTo>
                  <a:pt x="45720" y="15240"/>
                </a:lnTo>
                <a:lnTo>
                  <a:pt x="53340" y="15240"/>
                </a:lnTo>
                <a:lnTo>
                  <a:pt x="68580" y="15240"/>
                </a:lnTo>
                <a:lnTo>
                  <a:pt x="76200" y="15240"/>
                </a:lnTo>
                <a:lnTo>
                  <a:pt x="83820" y="15240"/>
                </a:lnTo>
                <a:lnTo>
                  <a:pt x="91440" y="15240"/>
                </a:lnTo>
                <a:lnTo>
                  <a:pt x="99060" y="15240"/>
                </a:lnTo>
                <a:lnTo>
                  <a:pt x="106680" y="15240"/>
                </a:lnTo>
                <a:lnTo>
                  <a:pt x="114300" y="22860"/>
                </a:lnTo>
                <a:lnTo>
                  <a:pt x="114300" y="22860"/>
                </a:lnTo>
                <a:lnTo>
                  <a:pt x="121920" y="22860"/>
                </a:lnTo>
                <a:lnTo>
                  <a:pt x="129540" y="30480"/>
                </a:lnTo>
                <a:lnTo>
                  <a:pt x="129540" y="30480"/>
                </a:lnTo>
                <a:lnTo>
                  <a:pt x="129540" y="38100"/>
                </a:lnTo>
                <a:lnTo>
                  <a:pt x="129540" y="38100"/>
                </a:lnTo>
                <a:lnTo>
                  <a:pt x="129540" y="45720"/>
                </a:lnTo>
                <a:lnTo>
                  <a:pt x="129540" y="45720"/>
                </a:lnTo>
                <a:lnTo>
                  <a:pt x="129540" y="53340"/>
                </a:lnTo>
                <a:lnTo>
                  <a:pt x="121920" y="53340"/>
                </a:lnTo>
                <a:lnTo>
                  <a:pt x="114300" y="60960"/>
                </a:lnTo>
                <a:lnTo>
                  <a:pt x="106680" y="60960"/>
                </a:lnTo>
                <a:lnTo>
                  <a:pt x="99060" y="68580"/>
                </a:lnTo>
                <a:lnTo>
                  <a:pt x="91440" y="68580"/>
                </a:lnTo>
                <a:lnTo>
                  <a:pt x="83820" y="68580"/>
                </a:lnTo>
                <a:lnTo>
                  <a:pt x="76200" y="68580"/>
                </a:lnTo>
                <a:lnTo>
                  <a:pt x="68580" y="68580"/>
                </a:lnTo>
                <a:lnTo>
                  <a:pt x="53340" y="60960"/>
                </a:lnTo>
                <a:lnTo>
                  <a:pt x="45720" y="60960"/>
                </a:lnTo>
                <a:lnTo>
                  <a:pt x="38100" y="53340"/>
                </a:lnTo>
                <a:lnTo>
                  <a:pt x="30480" y="53340"/>
                </a:lnTo>
                <a:lnTo>
                  <a:pt x="22860" y="45720"/>
                </a:lnTo>
                <a:lnTo>
                  <a:pt x="15240" y="45720"/>
                </a:lnTo>
                <a:lnTo>
                  <a:pt x="15240" y="38100"/>
                </a:lnTo>
                <a:lnTo>
                  <a:pt x="7620" y="38100"/>
                </a:lnTo>
                <a:lnTo>
                  <a:pt x="7620" y="30480"/>
                </a:lnTo>
                <a:lnTo>
                  <a:pt x="7620" y="22860"/>
                </a:lnTo>
                <a:lnTo>
                  <a:pt x="7620" y="22860"/>
                </a:lnTo>
                <a:lnTo>
                  <a:pt x="7620" y="15240"/>
                </a:lnTo>
                <a:lnTo>
                  <a:pt x="15240" y="7620"/>
                </a:lnTo>
                <a:lnTo>
                  <a:pt x="22860" y="7620"/>
                </a:lnTo>
                <a:lnTo>
                  <a:pt x="30480" y="0"/>
                </a:lnTo>
                <a:lnTo>
                  <a:pt x="38100" y="0"/>
                </a:lnTo>
                <a:lnTo>
                  <a:pt x="53340" y="0"/>
                </a:lnTo>
                <a:lnTo>
                  <a:pt x="60960" y="0"/>
                </a:lnTo>
                <a:lnTo>
                  <a:pt x="76200" y="0"/>
                </a:lnTo>
                <a:lnTo>
                  <a:pt x="83820" y="0"/>
                </a:lnTo>
                <a:lnTo>
                  <a:pt x="91440" y="0"/>
                </a:lnTo>
                <a:lnTo>
                  <a:pt x="106680" y="7620"/>
                </a:lnTo>
                <a:lnTo>
                  <a:pt x="114300" y="7620"/>
                </a:lnTo>
                <a:lnTo>
                  <a:pt x="121920" y="15240"/>
                </a:lnTo>
                <a:lnTo>
                  <a:pt x="129540" y="15240"/>
                </a:lnTo>
                <a:lnTo>
                  <a:pt x="137160" y="22860"/>
                </a:lnTo>
                <a:lnTo>
                  <a:pt x="137160" y="22860"/>
                </a:lnTo>
                <a:lnTo>
                  <a:pt x="144780" y="30480"/>
                </a:lnTo>
                <a:lnTo>
                  <a:pt x="144780" y="38100"/>
                </a:lnTo>
                <a:lnTo>
                  <a:pt x="144780" y="45720"/>
                </a:lnTo>
                <a:lnTo>
                  <a:pt x="137160" y="45720"/>
                </a:lnTo>
                <a:lnTo>
                  <a:pt x="137160" y="53340"/>
                </a:lnTo>
                <a:lnTo>
                  <a:pt x="129540" y="60960"/>
                </a:lnTo>
                <a:lnTo>
                  <a:pt x="121920" y="60960"/>
                </a:lnTo>
                <a:lnTo>
                  <a:pt x="106680" y="68580"/>
                </a:lnTo>
                <a:lnTo>
                  <a:pt x="99060" y="68580"/>
                </a:lnTo>
                <a:lnTo>
                  <a:pt x="83820" y="68580"/>
                </a:lnTo>
                <a:lnTo>
                  <a:pt x="76200" y="76200"/>
                </a:lnTo>
                <a:lnTo>
                  <a:pt x="60960" y="76200"/>
                </a:lnTo>
                <a:lnTo>
                  <a:pt x="53340" y="76200"/>
                </a:lnTo>
                <a:lnTo>
                  <a:pt x="38100" y="68580"/>
                </a:lnTo>
                <a:lnTo>
                  <a:pt x="30480" y="68580"/>
                </a:lnTo>
                <a:lnTo>
                  <a:pt x="22860" y="68580"/>
                </a:lnTo>
                <a:lnTo>
                  <a:pt x="22860" y="68580"/>
                </a:lnTo>
                <a:lnTo>
                  <a:pt x="15240" y="68580"/>
                </a:lnTo>
                <a:lnTo>
                  <a:pt x="15240" y="60960"/>
                </a:lnTo>
                <a:lnTo>
                  <a:pt x="15240" y="60960"/>
                </a:lnTo>
                <a:lnTo>
                  <a:pt x="15240" y="60960"/>
                </a:lnTo>
                <a:lnTo>
                  <a:pt x="15240" y="53340"/>
                </a:lnTo>
                <a:lnTo>
                  <a:pt x="22860" y="53340"/>
                </a:lnTo>
                <a:lnTo>
                  <a:pt x="30480" y="53340"/>
                </a:lnTo>
                <a:lnTo>
                  <a:pt x="38100" y="45720"/>
                </a:lnTo>
                <a:lnTo>
                  <a:pt x="45720" y="45720"/>
                </a:lnTo>
                <a:lnTo>
                  <a:pt x="53340" y="45720"/>
                </a:lnTo>
                <a:lnTo>
                  <a:pt x="68580" y="45720"/>
                </a:lnTo>
                <a:lnTo>
                  <a:pt x="76200" y="45720"/>
                </a:lnTo>
                <a:lnTo>
                  <a:pt x="83820" y="53340"/>
                </a:lnTo>
                <a:lnTo>
                  <a:pt x="83820" y="53340"/>
                </a:lnTo>
                <a:lnTo>
                  <a:pt x="91440" y="53340"/>
                </a:lnTo>
                <a:lnTo>
                  <a:pt x="91440" y="53340"/>
                </a:lnTo>
                <a:lnTo>
                  <a:pt x="99060" y="60960"/>
                </a:lnTo>
                <a:lnTo>
                  <a:pt x="99060" y="60960"/>
                </a:lnTo>
                <a:lnTo>
                  <a:pt x="91440" y="60960"/>
                </a:lnTo>
                <a:lnTo>
                  <a:pt x="91440" y="68580"/>
                </a:lnTo>
                <a:lnTo>
                  <a:pt x="83820" y="68580"/>
                </a:lnTo>
                <a:lnTo>
                  <a:pt x="83820" y="76200"/>
                </a:lnTo>
                <a:lnTo>
                  <a:pt x="76200" y="76200"/>
                </a:lnTo>
                <a:lnTo>
                  <a:pt x="68580" y="76200"/>
                </a:lnTo>
                <a:lnTo>
                  <a:pt x="60960" y="76200"/>
                </a:lnTo>
                <a:lnTo>
                  <a:pt x="53340" y="76200"/>
                </a:lnTo>
                <a:lnTo>
                  <a:pt x="45720" y="76200"/>
                </a:lnTo>
                <a:lnTo>
                  <a:pt x="38100" y="76200"/>
                </a:lnTo>
                <a:lnTo>
                  <a:pt x="38100" y="76200"/>
                </a:lnTo>
                <a:lnTo>
                  <a:pt x="30480" y="76200"/>
                </a:lnTo>
                <a:lnTo>
                  <a:pt x="30480" y="76200"/>
                </a:lnTo>
                <a:lnTo>
                  <a:pt x="22860" y="68580"/>
                </a:lnTo>
                <a:lnTo>
                  <a:pt x="22860" y="68580"/>
                </a:lnTo>
                <a:lnTo>
                  <a:pt x="22860" y="60960"/>
                </a:lnTo>
                <a:lnTo>
                  <a:pt x="22860" y="53340"/>
                </a:lnTo>
                <a:lnTo>
                  <a:pt x="22860" y="53340"/>
                </a:lnTo>
                <a:lnTo>
                  <a:pt x="22860" y="533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0600" bIns="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Freeform 4"/>
          <p:cNvSpPr/>
          <p:nvPr/>
        </p:nvSpPr>
        <p:spPr>
          <a:xfrm>
            <a:off x="2057400" y="1782720"/>
            <a:ext cx="1279440" cy="595440"/>
          </a:xfrm>
          <a:custGeom>
            <a:avLst/>
            <a:gdLst>
              <a:gd name="textAreaLeft" fmla="*/ 0 w 1279440"/>
              <a:gd name="textAreaRight" fmla="*/ 1279800 w 1279440"/>
              <a:gd name="textAreaTop" fmla="*/ 0 h 595440"/>
              <a:gd name="textAreaBottom" fmla="*/ 595800 h 595440"/>
            </a:gdLst>
            <a:ahLst/>
            <a:rect l="textAreaLeft" t="textAreaTop" r="textAreaRight" b="textAreaBottom"/>
            <a:pathLst>
              <a:path w="1280161" h="594361">
                <a:moveTo>
                  <a:pt x="99060" y="579120"/>
                </a:moveTo>
                <a:lnTo>
                  <a:pt x="99060" y="579120"/>
                </a:lnTo>
                <a:lnTo>
                  <a:pt x="106680" y="579120"/>
                </a:lnTo>
                <a:lnTo>
                  <a:pt x="106680" y="579120"/>
                </a:lnTo>
                <a:lnTo>
                  <a:pt x="114300" y="579120"/>
                </a:lnTo>
                <a:lnTo>
                  <a:pt x="114300" y="579120"/>
                </a:lnTo>
                <a:lnTo>
                  <a:pt x="114300" y="579120"/>
                </a:lnTo>
                <a:lnTo>
                  <a:pt x="121920" y="586740"/>
                </a:lnTo>
                <a:lnTo>
                  <a:pt x="121920" y="586740"/>
                </a:lnTo>
                <a:lnTo>
                  <a:pt x="129540" y="586740"/>
                </a:lnTo>
                <a:lnTo>
                  <a:pt x="129540" y="586740"/>
                </a:lnTo>
                <a:lnTo>
                  <a:pt x="137160" y="586740"/>
                </a:lnTo>
                <a:lnTo>
                  <a:pt x="137160" y="586740"/>
                </a:lnTo>
                <a:lnTo>
                  <a:pt x="144780" y="586740"/>
                </a:lnTo>
                <a:lnTo>
                  <a:pt x="152400" y="586740"/>
                </a:lnTo>
                <a:lnTo>
                  <a:pt x="167640" y="586740"/>
                </a:lnTo>
                <a:lnTo>
                  <a:pt x="175260" y="586740"/>
                </a:lnTo>
                <a:lnTo>
                  <a:pt x="182880" y="586740"/>
                </a:lnTo>
                <a:lnTo>
                  <a:pt x="198120" y="586740"/>
                </a:lnTo>
                <a:lnTo>
                  <a:pt x="213360" y="586740"/>
                </a:lnTo>
                <a:lnTo>
                  <a:pt x="228600" y="586740"/>
                </a:lnTo>
                <a:lnTo>
                  <a:pt x="243840" y="586740"/>
                </a:lnTo>
                <a:lnTo>
                  <a:pt x="251460" y="586740"/>
                </a:lnTo>
                <a:lnTo>
                  <a:pt x="274320" y="586740"/>
                </a:lnTo>
                <a:lnTo>
                  <a:pt x="289560" y="586740"/>
                </a:lnTo>
                <a:lnTo>
                  <a:pt x="304800" y="586740"/>
                </a:lnTo>
                <a:lnTo>
                  <a:pt x="320040" y="586740"/>
                </a:lnTo>
                <a:lnTo>
                  <a:pt x="335280" y="586740"/>
                </a:lnTo>
                <a:lnTo>
                  <a:pt x="358140" y="586740"/>
                </a:lnTo>
                <a:lnTo>
                  <a:pt x="381000" y="586740"/>
                </a:lnTo>
                <a:lnTo>
                  <a:pt x="396240" y="586740"/>
                </a:lnTo>
                <a:lnTo>
                  <a:pt x="419100" y="586740"/>
                </a:lnTo>
                <a:lnTo>
                  <a:pt x="441960" y="586740"/>
                </a:lnTo>
                <a:lnTo>
                  <a:pt x="464820" y="579120"/>
                </a:lnTo>
                <a:lnTo>
                  <a:pt x="487680" y="579120"/>
                </a:lnTo>
                <a:lnTo>
                  <a:pt x="510540" y="579120"/>
                </a:lnTo>
                <a:lnTo>
                  <a:pt x="533400" y="579120"/>
                </a:lnTo>
                <a:lnTo>
                  <a:pt x="556260" y="571500"/>
                </a:lnTo>
                <a:lnTo>
                  <a:pt x="579120" y="571500"/>
                </a:lnTo>
                <a:lnTo>
                  <a:pt x="609600" y="563880"/>
                </a:lnTo>
                <a:lnTo>
                  <a:pt x="632460" y="563880"/>
                </a:lnTo>
                <a:lnTo>
                  <a:pt x="655320" y="556260"/>
                </a:lnTo>
                <a:lnTo>
                  <a:pt x="678180" y="556260"/>
                </a:lnTo>
                <a:lnTo>
                  <a:pt x="708660" y="548640"/>
                </a:lnTo>
                <a:lnTo>
                  <a:pt x="731520" y="541020"/>
                </a:lnTo>
                <a:lnTo>
                  <a:pt x="754380" y="541020"/>
                </a:lnTo>
                <a:lnTo>
                  <a:pt x="777240" y="533400"/>
                </a:lnTo>
                <a:lnTo>
                  <a:pt x="807720" y="525780"/>
                </a:lnTo>
                <a:lnTo>
                  <a:pt x="830580" y="518160"/>
                </a:lnTo>
                <a:lnTo>
                  <a:pt x="861060" y="510540"/>
                </a:lnTo>
                <a:lnTo>
                  <a:pt x="883920" y="510540"/>
                </a:lnTo>
                <a:lnTo>
                  <a:pt x="914400" y="502920"/>
                </a:lnTo>
                <a:lnTo>
                  <a:pt x="937260" y="495300"/>
                </a:lnTo>
                <a:lnTo>
                  <a:pt x="960120" y="487680"/>
                </a:lnTo>
                <a:lnTo>
                  <a:pt x="990600" y="480060"/>
                </a:lnTo>
                <a:lnTo>
                  <a:pt x="1013460" y="464820"/>
                </a:lnTo>
                <a:lnTo>
                  <a:pt x="1036320" y="457200"/>
                </a:lnTo>
                <a:lnTo>
                  <a:pt x="1059180" y="449580"/>
                </a:lnTo>
                <a:lnTo>
                  <a:pt x="1082040" y="441960"/>
                </a:lnTo>
                <a:lnTo>
                  <a:pt x="1104900" y="426720"/>
                </a:lnTo>
                <a:lnTo>
                  <a:pt x="1127760" y="419100"/>
                </a:lnTo>
                <a:lnTo>
                  <a:pt x="1143000" y="403860"/>
                </a:lnTo>
                <a:lnTo>
                  <a:pt x="1165860" y="396240"/>
                </a:lnTo>
                <a:lnTo>
                  <a:pt x="1181100" y="381000"/>
                </a:lnTo>
                <a:lnTo>
                  <a:pt x="1196340" y="373380"/>
                </a:lnTo>
                <a:lnTo>
                  <a:pt x="1211580" y="358140"/>
                </a:lnTo>
                <a:lnTo>
                  <a:pt x="1226820" y="342900"/>
                </a:lnTo>
                <a:lnTo>
                  <a:pt x="1242060" y="335280"/>
                </a:lnTo>
                <a:lnTo>
                  <a:pt x="1249680" y="320040"/>
                </a:lnTo>
                <a:lnTo>
                  <a:pt x="1257300" y="304800"/>
                </a:lnTo>
                <a:lnTo>
                  <a:pt x="1264920" y="289560"/>
                </a:lnTo>
                <a:lnTo>
                  <a:pt x="1272540" y="281940"/>
                </a:lnTo>
                <a:lnTo>
                  <a:pt x="1272540" y="266700"/>
                </a:lnTo>
                <a:lnTo>
                  <a:pt x="1280160" y="251460"/>
                </a:lnTo>
                <a:lnTo>
                  <a:pt x="1280160" y="236220"/>
                </a:lnTo>
                <a:lnTo>
                  <a:pt x="1280160" y="220980"/>
                </a:lnTo>
                <a:lnTo>
                  <a:pt x="1272540" y="213360"/>
                </a:lnTo>
                <a:lnTo>
                  <a:pt x="1272540" y="198120"/>
                </a:lnTo>
                <a:lnTo>
                  <a:pt x="1264920" y="182880"/>
                </a:lnTo>
                <a:lnTo>
                  <a:pt x="1264920" y="167640"/>
                </a:lnTo>
                <a:lnTo>
                  <a:pt x="1257300" y="152400"/>
                </a:lnTo>
                <a:lnTo>
                  <a:pt x="1242060" y="144780"/>
                </a:lnTo>
                <a:lnTo>
                  <a:pt x="1234440" y="129540"/>
                </a:lnTo>
                <a:lnTo>
                  <a:pt x="1219200" y="114300"/>
                </a:lnTo>
                <a:lnTo>
                  <a:pt x="1203960" y="106680"/>
                </a:lnTo>
                <a:lnTo>
                  <a:pt x="1188720" y="91440"/>
                </a:lnTo>
                <a:lnTo>
                  <a:pt x="1173480" y="76200"/>
                </a:lnTo>
                <a:lnTo>
                  <a:pt x="1150620" y="68580"/>
                </a:lnTo>
                <a:lnTo>
                  <a:pt x="1135380" y="53340"/>
                </a:lnTo>
                <a:lnTo>
                  <a:pt x="1112520" y="45720"/>
                </a:lnTo>
                <a:lnTo>
                  <a:pt x="1089660" y="38100"/>
                </a:lnTo>
                <a:lnTo>
                  <a:pt x="1066800" y="30480"/>
                </a:lnTo>
                <a:lnTo>
                  <a:pt x="1036320" y="22860"/>
                </a:lnTo>
                <a:lnTo>
                  <a:pt x="1013460" y="22860"/>
                </a:lnTo>
                <a:lnTo>
                  <a:pt x="982980" y="15240"/>
                </a:lnTo>
                <a:lnTo>
                  <a:pt x="960120" y="7620"/>
                </a:lnTo>
                <a:lnTo>
                  <a:pt x="929640" y="7620"/>
                </a:lnTo>
                <a:lnTo>
                  <a:pt x="899160" y="0"/>
                </a:lnTo>
                <a:lnTo>
                  <a:pt x="861060" y="0"/>
                </a:lnTo>
                <a:lnTo>
                  <a:pt x="830580" y="0"/>
                </a:lnTo>
                <a:lnTo>
                  <a:pt x="800100" y="0"/>
                </a:lnTo>
                <a:lnTo>
                  <a:pt x="762000" y="0"/>
                </a:lnTo>
                <a:lnTo>
                  <a:pt x="731520" y="0"/>
                </a:lnTo>
                <a:lnTo>
                  <a:pt x="693420" y="7620"/>
                </a:lnTo>
                <a:lnTo>
                  <a:pt x="662940" y="7620"/>
                </a:lnTo>
                <a:lnTo>
                  <a:pt x="632460" y="7620"/>
                </a:lnTo>
                <a:lnTo>
                  <a:pt x="594360" y="15240"/>
                </a:lnTo>
                <a:lnTo>
                  <a:pt x="563880" y="22860"/>
                </a:lnTo>
                <a:lnTo>
                  <a:pt x="533400" y="22860"/>
                </a:lnTo>
                <a:lnTo>
                  <a:pt x="495300" y="30480"/>
                </a:lnTo>
                <a:lnTo>
                  <a:pt x="464820" y="38100"/>
                </a:lnTo>
                <a:lnTo>
                  <a:pt x="434340" y="45720"/>
                </a:lnTo>
                <a:lnTo>
                  <a:pt x="403860" y="60960"/>
                </a:lnTo>
                <a:lnTo>
                  <a:pt x="373380" y="68580"/>
                </a:lnTo>
                <a:lnTo>
                  <a:pt x="342900" y="83820"/>
                </a:lnTo>
                <a:lnTo>
                  <a:pt x="320040" y="91440"/>
                </a:lnTo>
                <a:lnTo>
                  <a:pt x="289560" y="106680"/>
                </a:lnTo>
                <a:lnTo>
                  <a:pt x="266700" y="114300"/>
                </a:lnTo>
                <a:lnTo>
                  <a:pt x="236220" y="129540"/>
                </a:lnTo>
                <a:lnTo>
                  <a:pt x="213360" y="144780"/>
                </a:lnTo>
                <a:lnTo>
                  <a:pt x="190500" y="160020"/>
                </a:lnTo>
                <a:lnTo>
                  <a:pt x="167640" y="175260"/>
                </a:lnTo>
                <a:lnTo>
                  <a:pt x="144780" y="190500"/>
                </a:lnTo>
                <a:lnTo>
                  <a:pt x="121920" y="205740"/>
                </a:lnTo>
                <a:lnTo>
                  <a:pt x="106680" y="220980"/>
                </a:lnTo>
                <a:lnTo>
                  <a:pt x="83820" y="228600"/>
                </a:lnTo>
                <a:lnTo>
                  <a:pt x="68580" y="251460"/>
                </a:lnTo>
                <a:lnTo>
                  <a:pt x="53340" y="266700"/>
                </a:lnTo>
                <a:lnTo>
                  <a:pt x="45720" y="274320"/>
                </a:lnTo>
                <a:lnTo>
                  <a:pt x="38100" y="289560"/>
                </a:lnTo>
                <a:lnTo>
                  <a:pt x="22860" y="304800"/>
                </a:lnTo>
                <a:lnTo>
                  <a:pt x="15240" y="320040"/>
                </a:lnTo>
                <a:lnTo>
                  <a:pt x="7620" y="335280"/>
                </a:lnTo>
                <a:lnTo>
                  <a:pt x="0" y="350520"/>
                </a:lnTo>
                <a:lnTo>
                  <a:pt x="0" y="365760"/>
                </a:lnTo>
                <a:lnTo>
                  <a:pt x="0" y="381000"/>
                </a:lnTo>
                <a:lnTo>
                  <a:pt x="0" y="396240"/>
                </a:lnTo>
                <a:lnTo>
                  <a:pt x="0" y="411480"/>
                </a:lnTo>
                <a:lnTo>
                  <a:pt x="0" y="426720"/>
                </a:lnTo>
                <a:lnTo>
                  <a:pt x="7620" y="434340"/>
                </a:lnTo>
                <a:lnTo>
                  <a:pt x="15240" y="449580"/>
                </a:lnTo>
                <a:lnTo>
                  <a:pt x="22860" y="457200"/>
                </a:lnTo>
                <a:lnTo>
                  <a:pt x="30480" y="472440"/>
                </a:lnTo>
                <a:lnTo>
                  <a:pt x="38100" y="480060"/>
                </a:lnTo>
                <a:lnTo>
                  <a:pt x="53340" y="495300"/>
                </a:lnTo>
                <a:lnTo>
                  <a:pt x="60960" y="502920"/>
                </a:lnTo>
                <a:lnTo>
                  <a:pt x="76200" y="510540"/>
                </a:lnTo>
                <a:lnTo>
                  <a:pt x="91440" y="525780"/>
                </a:lnTo>
                <a:lnTo>
                  <a:pt x="106680" y="533400"/>
                </a:lnTo>
                <a:lnTo>
                  <a:pt x="121920" y="541020"/>
                </a:lnTo>
                <a:lnTo>
                  <a:pt x="137160" y="548640"/>
                </a:lnTo>
                <a:lnTo>
                  <a:pt x="160020" y="548640"/>
                </a:lnTo>
                <a:lnTo>
                  <a:pt x="175260" y="556260"/>
                </a:lnTo>
                <a:lnTo>
                  <a:pt x="198120" y="563880"/>
                </a:lnTo>
                <a:lnTo>
                  <a:pt x="220980" y="563880"/>
                </a:lnTo>
                <a:lnTo>
                  <a:pt x="243840" y="571500"/>
                </a:lnTo>
                <a:lnTo>
                  <a:pt x="266700" y="571500"/>
                </a:lnTo>
                <a:lnTo>
                  <a:pt x="289560" y="571500"/>
                </a:lnTo>
                <a:lnTo>
                  <a:pt x="312420" y="579120"/>
                </a:lnTo>
                <a:lnTo>
                  <a:pt x="335280" y="579120"/>
                </a:lnTo>
                <a:lnTo>
                  <a:pt x="365760" y="586740"/>
                </a:lnTo>
                <a:lnTo>
                  <a:pt x="388620" y="586740"/>
                </a:lnTo>
                <a:lnTo>
                  <a:pt x="419100" y="586740"/>
                </a:lnTo>
                <a:lnTo>
                  <a:pt x="441960" y="586740"/>
                </a:lnTo>
                <a:lnTo>
                  <a:pt x="472440" y="586740"/>
                </a:lnTo>
                <a:lnTo>
                  <a:pt x="495300" y="586740"/>
                </a:lnTo>
                <a:lnTo>
                  <a:pt x="525780" y="594360"/>
                </a:lnTo>
                <a:lnTo>
                  <a:pt x="571500" y="594360"/>
                </a:lnTo>
                <a:lnTo>
                  <a:pt x="571500" y="5943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Freeform 5"/>
          <p:cNvSpPr/>
          <p:nvPr/>
        </p:nvSpPr>
        <p:spPr>
          <a:xfrm>
            <a:off x="533520" y="1317600"/>
            <a:ext cx="144360" cy="222120"/>
          </a:xfrm>
          <a:custGeom>
            <a:avLst/>
            <a:gdLst>
              <a:gd name="textAreaLeft" fmla="*/ 0 w 144360"/>
              <a:gd name="textAreaRight" fmla="*/ 144720 w 14436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144781" h="220981">
                <a:moveTo>
                  <a:pt x="129540" y="7620"/>
                </a:moveTo>
                <a:lnTo>
                  <a:pt x="129540" y="7620"/>
                </a:lnTo>
                <a:lnTo>
                  <a:pt x="137160" y="0"/>
                </a:lnTo>
                <a:lnTo>
                  <a:pt x="137160" y="0"/>
                </a:lnTo>
                <a:lnTo>
                  <a:pt x="137160" y="0"/>
                </a:lnTo>
                <a:lnTo>
                  <a:pt x="137160" y="0"/>
                </a:lnTo>
                <a:lnTo>
                  <a:pt x="137160" y="0"/>
                </a:lnTo>
                <a:lnTo>
                  <a:pt x="137160" y="0"/>
                </a:lnTo>
                <a:lnTo>
                  <a:pt x="144780" y="0"/>
                </a:lnTo>
                <a:lnTo>
                  <a:pt x="144780" y="7620"/>
                </a:lnTo>
                <a:lnTo>
                  <a:pt x="144780" y="7620"/>
                </a:lnTo>
                <a:lnTo>
                  <a:pt x="144780" y="7620"/>
                </a:lnTo>
                <a:lnTo>
                  <a:pt x="144780" y="15240"/>
                </a:lnTo>
                <a:lnTo>
                  <a:pt x="144780" y="22860"/>
                </a:lnTo>
                <a:lnTo>
                  <a:pt x="144780" y="30480"/>
                </a:lnTo>
                <a:lnTo>
                  <a:pt x="144780" y="38100"/>
                </a:lnTo>
                <a:lnTo>
                  <a:pt x="144780" y="45720"/>
                </a:lnTo>
                <a:lnTo>
                  <a:pt x="144780" y="53340"/>
                </a:lnTo>
                <a:lnTo>
                  <a:pt x="137160" y="60960"/>
                </a:lnTo>
                <a:lnTo>
                  <a:pt x="137160" y="76200"/>
                </a:lnTo>
                <a:lnTo>
                  <a:pt x="129540" y="83820"/>
                </a:lnTo>
                <a:lnTo>
                  <a:pt x="129540" y="99060"/>
                </a:lnTo>
                <a:lnTo>
                  <a:pt x="121920" y="106680"/>
                </a:lnTo>
                <a:lnTo>
                  <a:pt x="114300" y="121920"/>
                </a:lnTo>
                <a:lnTo>
                  <a:pt x="106680" y="129540"/>
                </a:lnTo>
                <a:lnTo>
                  <a:pt x="99060" y="144780"/>
                </a:lnTo>
                <a:lnTo>
                  <a:pt x="91440" y="160020"/>
                </a:lnTo>
                <a:lnTo>
                  <a:pt x="83820" y="167640"/>
                </a:lnTo>
                <a:lnTo>
                  <a:pt x="76200" y="175260"/>
                </a:lnTo>
                <a:lnTo>
                  <a:pt x="68580" y="182880"/>
                </a:lnTo>
                <a:lnTo>
                  <a:pt x="60960" y="198120"/>
                </a:lnTo>
                <a:lnTo>
                  <a:pt x="53340" y="205740"/>
                </a:lnTo>
                <a:lnTo>
                  <a:pt x="45720" y="213360"/>
                </a:lnTo>
                <a:lnTo>
                  <a:pt x="30480" y="213360"/>
                </a:lnTo>
                <a:lnTo>
                  <a:pt x="22860" y="213360"/>
                </a:lnTo>
                <a:lnTo>
                  <a:pt x="15240" y="220980"/>
                </a:lnTo>
                <a:lnTo>
                  <a:pt x="0" y="220980"/>
                </a:lnTo>
                <a:lnTo>
                  <a:pt x="0" y="2209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Freeform 6"/>
          <p:cNvSpPr/>
          <p:nvPr/>
        </p:nvSpPr>
        <p:spPr>
          <a:xfrm>
            <a:off x="517680" y="1379520"/>
            <a:ext cx="252360" cy="114480"/>
          </a:xfrm>
          <a:custGeom>
            <a:avLst/>
            <a:gdLst>
              <a:gd name="textAreaLeft" fmla="*/ 0 w 252360"/>
              <a:gd name="textAreaRight" fmla="*/ 252720 w 25236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251461" h="114301">
                <a:moveTo>
                  <a:pt x="0" y="7620"/>
                </a:moveTo>
                <a:lnTo>
                  <a:pt x="7620" y="7620"/>
                </a:lnTo>
                <a:lnTo>
                  <a:pt x="15240" y="0"/>
                </a:lnTo>
                <a:lnTo>
                  <a:pt x="22860" y="0"/>
                </a:lnTo>
                <a:lnTo>
                  <a:pt x="22860" y="0"/>
                </a:lnTo>
                <a:lnTo>
                  <a:pt x="38100" y="0"/>
                </a:lnTo>
                <a:lnTo>
                  <a:pt x="45720" y="0"/>
                </a:lnTo>
                <a:lnTo>
                  <a:pt x="53340" y="7620"/>
                </a:lnTo>
                <a:lnTo>
                  <a:pt x="60960" y="7620"/>
                </a:lnTo>
                <a:lnTo>
                  <a:pt x="68580" y="15240"/>
                </a:lnTo>
                <a:lnTo>
                  <a:pt x="76200" y="22860"/>
                </a:lnTo>
                <a:lnTo>
                  <a:pt x="91440" y="30480"/>
                </a:lnTo>
                <a:lnTo>
                  <a:pt x="106680" y="38100"/>
                </a:lnTo>
                <a:lnTo>
                  <a:pt x="114300" y="45720"/>
                </a:lnTo>
                <a:lnTo>
                  <a:pt x="129540" y="53340"/>
                </a:lnTo>
                <a:lnTo>
                  <a:pt x="144780" y="60960"/>
                </a:lnTo>
                <a:lnTo>
                  <a:pt x="160020" y="68580"/>
                </a:lnTo>
                <a:lnTo>
                  <a:pt x="167640" y="76200"/>
                </a:lnTo>
                <a:lnTo>
                  <a:pt x="190500" y="83820"/>
                </a:lnTo>
                <a:lnTo>
                  <a:pt x="198120" y="91440"/>
                </a:lnTo>
                <a:lnTo>
                  <a:pt x="213360" y="99060"/>
                </a:lnTo>
                <a:lnTo>
                  <a:pt x="228600" y="106680"/>
                </a:lnTo>
                <a:lnTo>
                  <a:pt x="251460" y="114300"/>
                </a:lnTo>
                <a:lnTo>
                  <a:pt x="251460" y="1143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Freeform 7"/>
          <p:cNvSpPr/>
          <p:nvPr/>
        </p:nvSpPr>
        <p:spPr>
          <a:xfrm>
            <a:off x="884160" y="1387440"/>
            <a:ext cx="160560" cy="6480"/>
          </a:xfrm>
          <a:custGeom>
            <a:avLst/>
            <a:gdLst>
              <a:gd name="textAreaLeft" fmla="*/ 0 w 160560"/>
              <a:gd name="textAreaRight" fmla="*/ 160920 w 1605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160021" h="762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620" y="0"/>
                </a:lnTo>
                <a:lnTo>
                  <a:pt x="15240" y="0"/>
                </a:lnTo>
                <a:lnTo>
                  <a:pt x="15240" y="0"/>
                </a:lnTo>
                <a:lnTo>
                  <a:pt x="22860" y="0"/>
                </a:lnTo>
                <a:lnTo>
                  <a:pt x="30480" y="0"/>
                </a:lnTo>
                <a:lnTo>
                  <a:pt x="38100" y="0"/>
                </a:lnTo>
                <a:lnTo>
                  <a:pt x="53340" y="7620"/>
                </a:lnTo>
                <a:lnTo>
                  <a:pt x="60960" y="7620"/>
                </a:lnTo>
                <a:lnTo>
                  <a:pt x="76200" y="7620"/>
                </a:lnTo>
                <a:lnTo>
                  <a:pt x="83820" y="7620"/>
                </a:lnTo>
                <a:lnTo>
                  <a:pt x="99060" y="7620"/>
                </a:lnTo>
                <a:lnTo>
                  <a:pt x="114300" y="7620"/>
                </a:lnTo>
                <a:lnTo>
                  <a:pt x="129540" y="7620"/>
                </a:lnTo>
                <a:lnTo>
                  <a:pt x="137160" y="7620"/>
                </a:lnTo>
                <a:lnTo>
                  <a:pt x="160020" y="7620"/>
                </a:lnTo>
                <a:lnTo>
                  <a:pt x="160020" y="7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Freeform 8"/>
          <p:cNvSpPr/>
          <p:nvPr/>
        </p:nvSpPr>
        <p:spPr>
          <a:xfrm>
            <a:off x="1219320" y="1257480"/>
            <a:ext cx="174600" cy="168120"/>
          </a:xfrm>
          <a:custGeom>
            <a:avLst/>
            <a:gdLst>
              <a:gd name="textAreaLeft" fmla="*/ 0 w 174600"/>
              <a:gd name="textAreaRight" fmla="*/ 174960 w 17460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75261" h="16764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7620" y="15240"/>
                </a:lnTo>
                <a:lnTo>
                  <a:pt x="7620" y="22860"/>
                </a:lnTo>
                <a:lnTo>
                  <a:pt x="7620" y="30480"/>
                </a:lnTo>
                <a:lnTo>
                  <a:pt x="7620" y="45720"/>
                </a:lnTo>
                <a:lnTo>
                  <a:pt x="7620" y="53340"/>
                </a:lnTo>
                <a:lnTo>
                  <a:pt x="7620" y="60960"/>
                </a:lnTo>
                <a:lnTo>
                  <a:pt x="7620" y="76200"/>
                </a:lnTo>
                <a:lnTo>
                  <a:pt x="7620" y="83820"/>
                </a:lnTo>
                <a:lnTo>
                  <a:pt x="7620" y="99060"/>
                </a:lnTo>
                <a:lnTo>
                  <a:pt x="7620" y="106680"/>
                </a:lnTo>
                <a:lnTo>
                  <a:pt x="7620" y="121920"/>
                </a:lnTo>
                <a:lnTo>
                  <a:pt x="7620" y="129540"/>
                </a:lnTo>
                <a:lnTo>
                  <a:pt x="7620" y="144780"/>
                </a:lnTo>
                <a:lnTo>
                  <a:pt x="0" y="152400"/>
                </a:lnTo>
                <a:lnTo>
                  <a:pt x="0" y="160020"/>
                </a:lnTo>
                <a:lnTo>
                  <a:pt x="0" y="160020"/>
                </a:lnTo>
                <a:lnTo>
                  <a:pt x="0" y="167640"/>
                </a:lnTo>
                <a:lnTo>
                  <a:pt x="0" y="167640"/>
                </a:lnTo>
                <a:lnTo>
                  <a:pt x="0" y="167640"/>
                </a:lnTo>
                <a:lnTo>
                  <a:pt x="0" y="167640"/>
                </a:lnTo>
                <a:lnTo>
                  <a:pt x="0" y="167640"/>
                </a:lnTo>
                <a:lnTo>
                  <a:pt x="0" y="160020"/>
                </a:lnTo>
                <a:lnTo>
                  <a:pt x="0" y="152400"/>
                </a:lnTo>
                <a:lnTo>
                  <a:pt x="7620" y="144780"/>
                </a:lnTo>
                <a:lnTo>
                  <a:pt x="7620" y="137160"/>
                </a:lnTo>
                <a:lnTo>
                  <a:pt x="15240" y="129540"/>
                </a:lnTo>
                <a:lnTo>
                  <a:pt x="22860" y="121920"/>
                </a:lnTo>
                <a:lnTo>
                  <a:pt x="30480" y="106680"/>
                </a:lnTo>
                <a:lnTo>
                  <a:pt x="30480" y="99060"/>
                </a:lnTo>
                <a:lnTo>
                  <a:pt x="38100" y="91440"/>
                </a:lnTo>
                <a:lnTo>
                  <a:pt x="45720" y="83820"/>
                </a:lnTo>
                <a:lnTo>
                  <a:pt x="53340" y="76200"/>
                </a:lnTo>
                <a:lnTo>
                  <a:pt x="60960" y="68580"/>
                </a:lnTo>
                <a:lnTo>
                  <a:pt x="76200" y="68580"/>
                </a:lnTo>
                <a:lnTo>
                  <a:pt x="83820" y="68580"/>
                </a:lnTo>
                <a:lnTo>
                  <a:pt x="91440" y="68580"/>
                </a:lnTo>
                <a:lnTo>
                  <a:pt x="91440" y="60960"/>
                </a:lnTo>
                <a:lnTo>
                  <a:pt x="99060" y="68580"/>
                </a:lnTo>
                <a:lnTo>
                  <a:pt x="106680" y="68580"/>
                </a:lnTo>
                <a:lnTo>
                  <a:pt x="114300" y="68580"/>
                </a:lnTo>
                <a:lnTo>
                  <a:pt x="121920" y="76200"/>
                </a:lnTo>
                <a:lnTo>
                  <a:pt x="129540" y="83820"/>
                </a:lnTo>
                <a:lnTo>
                  <a:pt x="137160" y="91440"/>
                </a:lnTo>
                <a:lnTo>
                  <a:pt x="137160" y="99060"/>
                </a:lnTo>
                <a:lnTo>
                  <a:pt x="144780" y="106680"/>
                </a:lnTo>
                <a:lnTo>
                  <a:pt x="152400" y="114300"/>
                </a:lnTo>
                <a:lnTo>
                  <a:pt x="152400" y="129540"/>
                </a:lnTo>
                <a:lnTo>
                  <a:pt x="160020" y="137160"/>
                </a:lnTo>
                <a:lnTo>
                  <a:pt x="160020" y="144780"/>
                </a:lnTo>
                <a:lnTo>
                  <a:pt x="167640" y="152400"/>
                </a:lnTo>
                <a:lnTo>
                  <a:pt x="167640" y="160020"/>
                </a:lnTo>
                <a:lnTo>
                  <a:pt x="175260" y="160020"/>
                </a:lnTo>
                <a:lnTo>
                  <a:pt x="175260" y="160020"/>
                </a:lnTo>
                <a:lnTo>
                  <a:pt x="175260" y="167640"/>
                </a:lnTo>
                <a:lnTo>
                  <a:pt x="175260" y="1676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Freeform 9"/>
          <p:cNvSpPr/>
          <p:nvPr/>
        </p:nvSpPr>
        <p:spPr>
          <a:xfrm>
            <a:off x="1425600" y="1197000"/>
            <a:ext cx="174600" cy="280800"/>
          </a:xfrm>
          <a:custGeom>
            <a:avLst/>
            <a:gdLst>
              <a:gd name="textAreaLeft" fmla="*/ 0 w 174600"/>
              <a:gd name="textAreaRight" fmla="*/ 174960 w 17460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175261" h="281941">
                <a:moveTo>
                  <a:pt x="0" y="0"/>
                </a:moveTo>
                <a:lnTo>
                  <a:pt x="0" y="7620"/>
                </a:lnTo>
                <a:lnTo>
                  <a:pt x="15240" y="7620"/>
                </a:lnTo>
                <a:lnTo>
                  <a:pt x="30480" y="15240"/>
                </a:lnTo>
                <a:lnTo>
                  <a:pt x="45720" y="22860"/>
                </a:lnTo>
                <a:lnTo>
                  <a:pt x="60960" y="38100"/>
                </a:lnTo>
                <a:lnTo>
                  <a:pt x="76200" y="45720"/>
                </a:lnTo>
                <a:lnTo>
                  <a:pt x="91440" y="60960"/>
                </a:lnTo>
                <a:lnTo>
                  <a:pt x="99060" y="68580"/>
                </a:lnTo>
                <a:lnTo>
                  <a:pt x="114300" y="83820"/>
                </a:lnTo>
                <a:lnTo>
                  <a:pt x="129540" y="99060"/>
                </a:lnTo>
                <a:lnTo>
                  <a:pt x="144780" y="121920"/>
                </a:lnTo>
                <a:lnTo>
                  <a:pt x="152400" y="137160"/>
                </a:lnTo>
                <a:lnTo>
                  <a:pt x="160020" y="152400"/>
                </a:lnTo>
                <a:lnTo>
                  <a:pt x="167640" y="167640"/>
                </a:lnTo>
                <a:lnTo>
                  <a:pt x="175260" y="182880"/>
                </a:lnTo>
                <a:lnTo>
                  <a:pt x="175260" y="205740"/>
                </a:lnTo>
                <a:lnTo>
                  <a:pt x="175260" y="220980"/>
                </a:lnTo>
                <a:lnTo>
                  <a:pt x="167640" y="236220"/>
                </a:lnTo>
                <a:lnTo>
                  <a:pt x="160020" y="251460"/>
                </a:lnTo>
                <a:lnTo>
                  <a:pt x="152400" y="266700"/>
                </a:lnTo>
                <a:lnTo>
                  <a:pt x="137160" y="281940"/>
                </a:lnTo>
                <a:lnTo>
                  <a:pt x="137160" y="2819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Freeform 10"/>
          <p:cNvSpPr/>
          <p:nvPr/>
        </p:nvSpPr>
        <p:spPr>
          <a:xfrm>
            <a:off x="517680" y="1257480"/>
            <a:ext cx="168120" cy="350640"/>
          </a:xfrm>
          <a:custGeom>
            <a:avLst/>
            <a:gdLst>
              <a:gd name="textAreaLeft" fmla="*/ 0 w 168120"/>
              <a:gd name="textAreaRight" fmla="*/ 168480 w 168120"/>
              <a:gd name="textAreaTop" fmla="*/ 0 h 350640"/>
              <a:gd name="textAreaBottom" fmla="*/ 351000 h 350640"/>
            </a:gdLst>
            <a:ahLst/>
            <a:rect l="textAreaLeft" t="textAreaTop" r="textAreaRight" b="textAreaBottom"/>
            <a:pathLst>
              <a:path w="167641" h="350521">
                <a:moveTo>
                  <a:pt x="45720" y="0"/>
                </a:moveTo>
                <a:lnTo>
                  <a:pt x="38100" y="0"/>
                </a:lnTo>
                <a:lnTo>
                  <a:pt x="30480" y="7620"/>
                </a:lnTo>
                <a:lnTo>
                  <a:pt x="22860" y="7620"/>
                </a:lnTo>
                <a:lnTo>
                  <a:pt x="15240" y="15240"/>
                </a:lnTo>
                <a:lnTo>
                  <a:pt x="15240" y="22860"/>
                </a:lnTo>
                <a:lnTo>
                  <a:pt x="7620" y="38100"/>
                </a:lnTo>
                <a:lnTo>
                  <a:pt x="7620" y="53340"/>
                </a:lnTo>
                <a:lnTo>
                  <a:pt x="7620" y="60960"/>
                </a:lnTo>
                <a:lnTo>
                  <a:pt x="7620" y="76200"/>
                </a:lnTo>
                <a:lnTo>
                  <a:pt x="0" y="99060"/>
                </a:lnTo>
                <a:lnTo>
                  <a:pt x="0" y="114300"/>
                </a:lnTo>
                <a:lnTo>
                  <a:pt x="0" y="129540"/>
                </a:lnTo>
                <a:lnTo>
                  <a:pt x="0" y="152400"/>
                </a:lnTo>
                <a:lnTo>
                  <a:pt x="0" y="175260"/>
                </a:lnTo>
                <a:lnTo>
                  <a:pt x="0" y="190500"/>
                </a:lnTo>
                <a:lnTo>
                  <a:pt x="0" y="213360"/>
                </a:lnTo>
                <a:lnTo>
                  <a:pt x="7620" y="236220"/>
                </a:lnTo>
                <a:lnTo>
                  <a:pt x="15240" y="251460"/>
                </a:lnTo>
                <a:lnTo>
                  <a:pt x="22860" y="274320"/>
                </a:lnTo>
                <a:lnTo>
                  <a:pt x="30480" y="289560"/>
                </a:lnTo>
                <a:lnTo>
                  <a:pt x="45720" y="304800"/>
                </a:lnTo>
                <a:lnTo>
                  <a:pt x="60960" y="312420"/>
                </a:lnTo>
                <a:lnTo>
                  <a:pt x="76200" y="327660"/>
                </a:lnTo>
                <a:lnTo>
                  <a:pt x="99060" y="335280"/>
                </a:lnTo>
                <a:lnTo>
                  <a:pt x="129540" y="342900"/>
                </a:lnTo>
                <a:lnTo>
                  <a:pt x="167640" y="350520"/>
                </a:lnTo>
                <a:lnTo>
                  <a:pt x="167640" y="3505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Freeform 11"/>
          <p:cNvSpPr/>
          <p:nvPr/>
        </p:nvSpPr>
        <p:spPr>
          <a:xfrm>
            <a:off x="1608120" y="1135080"/>
            <a:ext cx="122400" cy="130320"/>
          </a:xfrm>
          <a:custGeom>
            <a:avLst/>
            <a:gdLst>
              <a:gd name="textAreaLeft" fmla="*/ 0 w 122400"/>
              <a:gd name="textAreaRight" fmla="*/ 122760 w 12240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121921" h="129541">
                <a:moveTo>
                  <a:pt x="0" y="38100"/>
                </a:moveTo>
                <a:lnTo>
                  <a:pt x="0" y="30480"/>
                </a:lnTo>
                <a:lnTo>
                  <a:pt x="7620" y="22860"/>
                </a:lnTo>
                <a:lnTo>
                  <a:pt x="7620" y="22860"/>
                </a:lnTo>
                <a:lnTo>
                  <a:pt x="7620" y="22860"/>
                </a:lnTo>
                <a:lnTo>
                  <a:pt x="15240" y="15240"/>
                </a:lnTo>
                <a:lnTo>
                  <a:pt x="22860" y="15240"/>
                </a:lnTo>
                <a:lnTo>
                  <a:pt x="30480" y="7620"/>
                </a:lnTo>
                <a:lnTo>
                  <a:pt x="38100" y="7620"/>
                </a:lnTo>
                <a:lnTo>
                  <a:pt x="45720" y="7620"/>
                </a:lnTo>
                <a:lnTo>
                  <a:pt x="53340" y="0"/>
                </a:lnTo>
                <a:lnTo>
                  <a:pt x="60960" y="0"/>
                </a:lnTo>
                <a:lnTo>
                  <a:pt x="68580" y="0"/>
                </a:lnTo>
                <a:lnTo>
                  <a:pt x="76200" y="0"/>
                </a:lnTo>
                <a:lnTo>
                  <a:pt x="83820" y="0"/>
                </a:lnTo>
                <a:lnTo>
                  <a:pt x="91440" y="0"/>
                </a:lnTo>
                <a:lnTo>
                  <a:pt x="91440" y="0"/>
                </a:lnTo>
                <a:lnTo>
                  <a:pt x="99060" y="0"/>
                </a:lnTo>
                <a:lnTo>
                  <a:pt x="99060" y="0"/>
                </a:lnTo>
                <a:lnTo>
                  <a:pt x="99060" y="7620"/>
                </a:lnTo>
                <a:lnTo>
                  <a:pt x="99060" y="7620"/>
                </a:lnTo>
                <a:lnTo>
                  <a:pt x="99060" y="15240"/>
                </a:lnTo>
                <a:lnTo>
                  <a:pt x="99060" y="15240"/>
                </a:lnTo>
                <a:lnTo>
                  <a:pt x="91440" y="22860"/>
                </a:lnTo>
                <a:lnTo>
                  <a:pt x="83820" y="30480"/>
                </a:lnTo>
                <a:lnTo>
                  <a:pt x="76200" y="38100"/>
                </a:lnTo>
                <a:lnTo>
                  <a:pt x="68580" y="45720"/>
                </a:lnTo>
                <a:lnTo>
                  <a:pt x="60960" y="53340"/>
                </a:lnTo>
                <a:lnTo>
                  <a:pt x="53340" y="60960"/>
                </a:lnTo>
                <a:lnTo>
                  <a:pt x="38100" y="68580"/>
                </a:lnTo>
                <a:lnTo>
                  <a:pt x="30480" y="76200"/>
                </a:lnTo>
                <a:lnTo>
                  <a:pt x="30480" y="83820"/>
                </a:lnTo>
                <a:lnTo>
                  <a:pt x="22860" y="91440"/>
                </a:lnTo>
                <a:lnTo>
                  <a:pt x="22860" y="99060"/>
                </a:lnTo>
                <a:lnTo>
                  <a:pt x="30480" y="106680"/>
                </a:lnTo>
                <a:lnTo>
                  <a:pt x="30480" y="106680"/>
                </a:lnTo>
                <a:lnTo>
                  <a:pt x="38100" y="114300"/>
                </a:lnTo>
                <a:lnTo>
                  <a:pt x="45720" y="121920"/>
                </a:lnTo>
                <a:lnTo>
                  <a:pt x="53340" y="121920"/>
                </a:lnTo>
                <a:lnTo>
                  <a:pt x="68580" y="121920"/>
                </a:lnTo>
                <a:lnTo>
                  <a:pt x="76200" y="129540"/>
                </a:lnTo>
                <a:lnTo>
                  <a:pt x="83820" y="129540"/>
                </a:lnTo>
                <a:lnTo>
                  <a:pt x="99060" y="129540"/>
                </a:lnTo>
                <a:lnTo>
                  <a:pt x="106680" y="129540"/>
                </a:lnTo>
                <a:lnTo>
                  <a:pt x="121920" y="129540"/>
                </a:lnTo>
                <a:lnTo>
                  <a:pt x="121920" y="1295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Freeform 12"/>
          <p:cNvSpPr/>
          <p:nvPr/>
        </p:nvSpPr>
        <p:spPr>
          <a:xfrm>
            <a:off x="1806480" y="1211400"/>
            <a:ext cx="76320" cy="214200"/>
          </a:xfrm>
          <a:custGeom>
            <a:avLst/>
            <a:gdLst>
              <a:gd name="textAreaLeft" fmla="*/ 0 w 76320"/>
              <a:gd name="textAreaRight" fmla="*/ 76320 w 7632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76201" h="213361">
                <a:moveTo>
                  <a:pt x="76200" y="0"/>
                </a:moveTo>
                <a:lnTo>
                  <a:pt x="76200" y="0"/>
                </a:lnTo>
                <a:lnTo>
                  <a:pt x="76200" y="0"/>
                </a:lnTo>
                <a:lnTo>
                  <a:pt x="76200" y="0"/>
                </a:lnTo>
                <a:lnTo>
                  <a:pt x="76200" y="0"/>
                </a:lnTo>
                <a:lnTo>
                  <a:pt x="76200" y="0"/>
                </a:lnTo>
                <a:lnTo>
                  <a:pt x="76200" y="7620"/>
                </a:lnTo>
                <a:lnTo>
                  <a:pt x="76200" y="7620"/>
                </a:lnTo>
                <a:lnTo>
                  <a:pt x="76200" y="15240"/>
                </a:lnTo>
                <a:lnTo>
                  <a:pt x="68580" y="30480"/>
                </a:lnTo>
                <a:lnTo>
                  <a:pt x="68580" y="38100"/>
                </a:lnTo>
                <a:lnTo>
                  <a:pt x="60960" y="53340"/>
                </a:lnTo>
                <a:lnTo>
                  <a:pt x="60960" y="60960"/>
                </a:lnTo>
                <a:lnTo>
                  <a:pt x="53340" y="76200"/>
                </a:lnTo>
                <a:lnTo>
                  <a:pt x="45720" y="91440"/>
                </a:lnTo>
                <a:lnTo>
                  <a:pt x="45720" y="106680"/>
                </a:lnTo>
                <a:lnTo>
                  <a:pt x="38100" y="121920"/>
                </a:lnTo>
                <a:lnTo>
                  <a:pt x="30480" y="137160"/>
                </a:lnTo>
                <a:lnTo>
                  <a:pt x="30480" y="152400"/>
                </a:lnTo>
                <a:lnTo>
                  <a:pt x="22860" y="160020"/>
                </a:lnTo>
                <a:lnTo>
                  <a:pt x="22860" y="175260"/>
                </a:lnTo>
                <a:lnTo>
                  <a:pt x="15240" y="182880"/>
                </a:lnTo>
                <a:lnTo>
                  <a:pt x="7620" y="190500"/>
                </a:lnTo>
                <a:lnTo>
                  <a:pt x="7620" y="198120"/>
                </a:lnTo>
                <a:lnTo>
                  <a:pt x="7620" y="205740"/>
                </a:lnTo>
                <a:lnTo>
                  <a:pt x="0" y="213360"/>
                </a:lnTo>
                <a:lnTo>
                  <a:pt x="0" y="213360"/>
                </a:lnTo>
                <a:lnTo>
                  <a:pt x="0" y="213360"/>
                </a:lnTo>
                <a:lnTo>
                  <a:pt x="0" y="213360"/>
                </a:lnTo>
                <a:lnTo>
                  <a:pt x="0" y="2133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Freeform 13"/>
          <p:cNvSpPr/>
          <p:nvPr/>
        </p:nvSpPr>
        <p:spPr>
          <a:xfrm>
            <a:off x="1798560" y="1341360"/>
            <a:ext cx="236520" cy="22320"/>
          </a:xfrm>
          <a:custGeom>
            <a:avLst/>
            <a:gdLst>
              <a:gd name="textAreaLeft" fmla="*/ 0 w 236520"/>
              <a:gd name="textAreaRight" fmla="*/ 236880 w 2365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36221" h="22861">
                <a:moveTo>
                  <a:pt x="0" y="7620"/>
                </a:moveTo>
                <a:lnTo>
                  <a:pt x="0" y="7620"/>
                </a:lnTo>
                <a:lnTo>
                  <a:pt x="0" y="0"/>
                </a:lnTo>
                <a:lnTo>
                  <a:pt x="7620" y="0"/>
                </a:lnTo>
                <a:lnTo>
                  <a:pt x="7620" y="0"/>
                </a:lnTo>
                <a:lnTo>
                  <a:pt x="15240" y="0"/>
                </a:lnTo>
                <a:lnTo>
                  <a:pt x="22860" y="0"/>
                </a:lnTo>
                <a:lnTo>
                  <a:pt x="30480" y="0"/>
                </a:lnTo>
                <a:lnTo>
                  <a:pt x="38100" y="0"/>
                </a:lnTo>
                <a:lnTo>
                  <a:pt x="45720" y="7620"/>
                </a:lnTo>
                <a:lnTo>
                  <a:pt x="60960" y="7620"/>
                </a:lnTo>
                <a:lnTo>
                  <a:pt x="76200" y="7620"/>
                </a:lnTo>
                <a:lnTo>
                  <a:pt x="91440" y="15240"/>
                </a:lnTo>
                <a:lnTo>
                  <a:pt x="106680" y="15240"/>
                </a:lnTo>
                <a:lnTo>
                  <a:pt x="129540" y="15240"/>
                </a:lnTo>
                <a:lnTo>
                  <a:pt x="144780" y="22860"/>
                </a:lnTo>
                <a:lnTo>
                  <a:pt x="167640" y="22860"/>
                </a:lnTo>
                <a:lnTo>
                  <a:pt x="182880" y="22860"/>
                </a:lnTo>
                <a:lnTo>
                  <a:pt x="205740" y="22860"/>
                </a:lnTo>
                <a:lnTo>
                  <a:pt x="236220" y="22860"/>
                </a:lnTo>
                <a:lnTo>
                  <a:pt x="236220" y="228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Freeform 14"/>
          <p:cNvSpPr/>
          <p:nvPr/>
        </p:nvSpPr>
        <p:spPr>
          <a:xfrm>
            <a:off x="1760400" y="1311120"/>
            <a:ext cx="312840" cy="14400"/>
          </a:xfrm>
          <a:custGeom>
            <a:avLst/>
            <a:gdLst>
              <a:gd name="textAreaLeft" fmla="*/ 0 w 312840"/>
              <a:gd name="textAreaRight" fmla="*/ 313200 w 3128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312421" h="15241">
                <a:moveTo>
                  <a:pt x="0" y="7620"/>
                </a:move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7620" y="7620"/>
                </a:lnTo>
                <a:lnTo>
                  <a:pt x="7620" y="15240"/>
                </a:lnTo>
                <a:lnTo>
                  <a:pt x="15240" y="15240"/>
                </a:lnTo>
                <a:lnTo>
                  <a:pt x="22860" y="15240"/>
                </a:lnTo>
                <a:lnTo>
                  <a:pt x="30480" y="15240"/>
                </a:lnTo>
                <a:lnTo>
                  <a:pt x="38100" y="15240"/>
                </a:lnTo>
                <a:lnTo>
                  <a:pt x="45720" y="15240"/>
                </a:lnTo>
                <a:lnTo>
                  <a:pt x="60960" y="15240"/>
                </a:lnTo>
                <a:lnTo>
                  <a:pt x="76200" y="15240"/>
                </a:lnTo>
                <a:lnTo>
                  <a:pt x="91440" y="15240"/>
                </a:lnTo>
                <a:lnTo>
                  <a:pt x="106680" y="15240"/>
                </a:lnTo>
                <a:lnTo>
                  <a:pt x="121920" y="7620"/>
                </a:lnTo>
                <a:lnTo>
                  <a:pt x="144780" y="7620"/>
                </a:lnTo>
                <a:lnTo>
                  <a:pt x="160020" y="7620"/>
                </a:lnTo>
                <a:lnTo>
                  <a:pt x="182880" y="7620"/>
                </a:lnTo>
                <a:lnTo>
                  <a:pt x="198120" y="0"/>
                </a:lnTo>
                <a:lnTo>
                  <a:pt x="213360" y="0"/>
                </a:lnTo>
                <a:lnTo>
                  <a:pt x="228600" y="0"/>
                </a:lnTo>
                <a:lnTo>
                  <a:pt x="243840" y="0"/>
                </a:lnTo>
                <a:lnTo>
                  <a:pt x="259080" y="0"/>
                </a:lnTo>
                <a:lnTo>
                  <a:pt x="274320" y="0"/>
                </a:lnTo>
                <a:lnTo>
                  <a:pt x="281940" y="0"/>
                </a:lnTo>
                <a:lnTo>
                  <a:pt x="289560" y="0"/>
                </a:lnTo>
                <a:lnTo>
                  <a:pt x="297180" y="0"/>
                </a:lnTo>
                <a:lnTo>
                  <a:pt x="304800" y="0"/>
                </a:lnTo>
                <a:lnTo>
                  <a:pt x="304800" y="0"/>
                </a:lnTo>
                <a:lnTo>
                  <a:pt x="304800" y="0"/>
                </a:lnTo>
                <a:lnTo>
                  <a:pt x="312420" y="7620"/>
                </a:lnTo>
                <a:lnTo>
                  <a:pt x="312420" y="7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Freeform 15"/>
          <p:cNvSpPr/>
          <p:nvPr/>
        </p:nvSpPr>
        <p:spPr>
          <a:xfrm>
            <a:off x="1844640" y="1203480"/>
            <a:ext cx="14400" cy="228600"/>
          </a:xfrm>
          <a:custGeom>
            <a:avLst/>
            <a:gdLst>
              <a:gd name="textAreaLeft" fmla="*/ 0 w 14400"/>
              <a:gd name="textAreaRight" fmla="*/ 14760 w 144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5241" h="228601">
                <a:moveTo>
                  <a:pt x="15240" y="0"/>
                </a:moveTo>
                <a:lnTo>
                  <a:pt x="15240" y="7620"/>
                </a:lnTo>
                <a:lnTo>
                  <a:pt x="15240" y="7620"/>
                </a:lnTo>
                <a:lnTo>
                  <a:pt x="15240" y="15240"/>
                </a:lnTo>
                <a:lnTo>
                  <a:pt x="15240" y="22860"/>
                </a:lnTo>
                <a:lnTo>
                  <a:pt x="15240" y="30480"/>
                </a:lnTo>
                <a:lnTo>
                  <a:pt x="7620" y="38100"/>
                </a:lnTo>
                <a:lnTo>
                  <a:pt x="7620" y="53340"/>
                </a:lnTo>
                <a:lnTo>
                  <a:pt x="7620" y="60960"/>
                </a:lnTo>
                <a:lnTo>
                  <a:pt x="7620" y="76200"/>
                </a:lnTo>
                <a:lnTo>
                  <a:pt x="7620" y="83820"/>
                </a:lnTo>
                <a:lnTo>
                  <a:pt x="7620" y="99060"/>
                </a:lnTo>
                <a:lnTo>
                  <a:pt x="0" y="114300"/>
                </a:lnTo>
                <a:lnTo>
                  <a:pt x="0" y="121920"/>
                </a:lnTo>
                <a:lnTo>
                  <a:pt x="0" y="137160"/>
                </a:lnTo>
                <a:lnTo>
                  <a:pt x="0" y="152400"/>
                </a:lnTo>
                <a:lnTo>
                  <a:pt x="0" y="160020"/>
                </a:lnTo>
                <a:lnTo>
                  <a:pt x="0" y="175260"/>
                </a:lnTo>
                <a:lnTo>
                  <a:pt x="0" y="182880"/>
                </a:lnTo>
                <a:lnTo>
                  <a:pt x="0" y="190500"/>
                </a:lnTo>
                <a:lnTo>
                  <a:pt x="0" y="198120"/>
                </a:lnTo>
                <a:lnTo>
                  <a:pt x="0" y="205740"/>
                </a:lnTo>
                <a:lnTo>
                  <a:pt x="0" y="213360"/>
                </a:lnTo>
                <a:lnTo>
                  <a:pt x="0" y="220980"/>
                </a:lnTo>
                <a:lnTo>
                  <a:pt x="7620" y="220980"/>
                </a:lnTo>
                <a:lnTo>
                  <a:pt x="7620" y="228600"/>
                </a:lnTo>
                <a:lnTo>
                  <a:pt x="7620" y="2286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Freeform 16"/>
          <p:cNvSpPr/>
          <p:nvPr/>
        </p:nvSpPr>
        <p:spPr>
          <a:xfrm>
            <a:off x="2133720" y="1197000"/>
            <a:ext cx="198360" cy="289080"/>
          </a:xfrm>
          <a:custGeom>
            <a:avLst/>
            <a:gdLst>
              <a:gd name="textAreaLeft" fmla="*/ 0 w 198360"/>
              <a:gd name="textAreaRight" fmla="*/ 198720 w 1983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98121" h="289561">
                <a:moveTo>
                  <a:pt x="83820" y="0"/>
                </a:moveTo>
                <a:lnTo>
                  <a:pt x="83820" y="0"/>
                </a:lnTo>
                <a:lnTo>
                  <a:pt x="83820" y="0"/>
                </a:lnTo>
                <a:lnTo>
                  <a:pt x="83820" y="0"/>
                </a:lnTo>
                <a:lnTo>
                  <a:pt x="76200" y="7620"/>
                </a:lnTo>
                <a:lnTo>
                  <a:pt x="76200" y="15240"/>
                </a:lnTo>
                <a:lnTo>
                  <a:pt x="76200" y="22860"/>
                </a:lnTo>
                <a:lnTo>
                  <a:pt x="68580" y="30480"/>
                </a:lnTo>
                <a:lnTo>
                  <a:pt x="60960" y="38100"/>
                </a:lnTo>
                <a:lnTo>
                  <a:pt x="53340" y="53340"/>
                </a:lnTo>
                <a:lnTo>
                  <a:pt x="45720" y="68580"/>
                </a:lnTo>
                <a:lnTo>
                  <a:pt x="38100" y="83820"/>
                </a:lnTo>
                <a:lnTo>
                  <a:pt x="30480" y="106680"/>
                </a:lnTo>
                <a:lnTo>
                  <a:pt x="22860" y="121920"/>
                </a:lnTo>
                <a:lnTo>
                  <a:pt x="15240" y="137160"/>
                </a:lnTo>
                <a:lnTo>
                  <a:pt x="7620" y="160020"/>
                </a:lnTo>
                <a:lnTo>
                  <a:pt x="7620" y="175260"/>
                </a:lnTo>
                <a:lnTo>
                  <a:pt x="0" y="190500"/>
                </a:lnTo>
                <a:lnTo>
                  <a:pt x="7620" y="205740"/>
                </a:lnTo>
                <a:lnTo>
                  <a:pt x="7620" y="220980"/>
                </a:lnTo>
                <a:lnTo>
                  <a:pt x="15240" y="236220"/>
                </a:lnTo>
                <a:lnTo>
                  <a:pt x="22860" y="251460"/>
                </a:lnTo>
                <a:lnTo>
                  <a:pt x="38100" y="259080"/>
                </a:lnTo>
                <a:lnTo>
                  <a:pt x="53340" y="266700"/>
                </a:lnTo>
                <a:lnTo>
                  <a:pt x="68580" y="274320"/>
                </a:lnTo>
                <a:lnTo>
                  <a:pt x="91440" y="281940"/>
                </a:lnTo>
                <a:lnTo>
                  <a:pt x="114300" y="281940"/>
                </a:lnTo>
                <a:lnTo>
                  <a:pt x="137160" y="281940"/>
                </a:lnTo>
                <a:lnTo>
                  <a:pt x="160020" y="281940"/>
                </a:lnTo>
                <a:lnTo>
                  <a:pt x="198120" y="289560"/>
                </a:lnTo>
                <a:lnTo>
                  <a:pt x="198120" y="2895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Freeform 17"/>
          <p:cNvSpPr/>
          <p:nvPr/>
        </p:nvSpPr>
        <p:spPr>
          <a:xfrm>
            <a:off x="2324160" y="1295280"/>
            <a:ext cx="236520" cy="289080"/>
          </a:xfrm>
          <a:custGeom>
            <a:avLst/>
            <a:gdLst>
              <a:gd name="textAreaLeft" fmla="*/ 0 w 236520"/>
              <a:gd name="textAreaRight" fmla="*/ 236880 w 236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236221" h="28956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7620"/>
                </a:lnTo>
                <a:lnTo>
                  <a:pt x="0" y="7620"/>
                </a:lnTo>
                <a:lnTo>
                  <a:pt x="0" y="15240"/>
                </a:lnTo>
                <a:lnTo>
                  <a:pt x="0" y="22860"/>
                </a:lnTo>
                <a:lnTo>
                  <a:pt x="0" y="30480"/>
                </a:lnTo>
                <a:lnTo>
                  <a:pt x="0" y="38100"/>
                </a:lnTo>
                <a:lnTo>
                  <a:pt x="0" y="45720"/>
                </a:lnTo>
                <a:lnTo>
                  <a:pt x="0" y="53340"/>
                </a:lnTo>
                <a:lnTo>
                  <a:pt x="7620" y="68580"/>
                </a:lnTo>
                <a:lnTo>
                  <a:pt x="7620" y="68580"/>
                </a:lnTo>
                <a:lnTo>
                  <a:pt x="15240" y="76200"/>
                </a:lnTo>
                <a:lnTo>
                  <a:pt x="22860" y="83820"/>
                </a:lnTo>
                <a:lnTo>
                  <a:pt x="30480" y="91440"/>
                </a:lnTo>
                <a:lnTo>
                  <a:pt x="45720" y="91440"/>
                </a:lnTo>
                <a:lnTo>
                  <a:pt x="53340" y="99060"/>
                </a:lnTo>
                <a:lnTo>
                  <a:pt x="68580" y="99060"/>
                </a:lnTo>
                <a:lnTo>
                  <a:pt x="76200" y="99060"/>
                </a:lnTo>
                <a:lnTo>
                  <a:pt x="91440" y="91440"/>
                </a:lnTo>
                <a:lnTo>
                  <a:pt x="106680" y="91440"/>
                </a:lnTo>
                <a:lnTo>
                  <a:pt x="114300" y="83820"/>
                </a:lnTo>
                <a:lnTo>
                  <a:pt x="129540" y="83820"/>
                </a:lnTo>
                <a:lnTo>
                  <a:pt x="137160" y="76200"/>
                </a:lnTo>
                <a:lnTo>
                  <a:pt x="144780" y="68580"/>
                </a:lnTo>
                <a:lnTo>
                  <a:pt x="152400" y="60960"/>
                </a:lnTo>
                <a:lnTo>
                  <a:pt x="152400" y="45720"/>
                </a:lnTo>
                <a:lnTo>
                  <a:pt x="152400" y="45720"/>
                </a:lnTo>
                <a:lnTo>
                  <a:pt x="160020" y="38100"/>
                </a:lnTo>
                <a:lnTo>
                  <a:pt x="160020" y="30480"/>
                </a:lnTo>
                <a:lnTo>
                  <a:pt x="160020" y="30480"/>
                </a:lnTo>
                <a:lnTo>
                  <a:pt x="160020" y="30480"/>
                </a:lnTo>
                <a:lnTo>
                  <a:pt x="160020" y="22860"/>
                </a:lnTo>
                <a:lnTo>
                  <a:pt x="160020" y="22860"/>
                </a:lnTo>
                <a:lnTo>
                  <a:pt x="160020" y="22860"/>
                </a:lnTo>
                <a:lnTo>
                  <a:pt x="160020" y="30480"/>
                </a:lnTo>
                <a:lnTo>
                  <a:pt x="160020" y="30480"/>
                </a:lnTo>
                <a:lnTo>
                  <a:pt x="167640" y="38100"/>
                </a:lnTo>
                <a:lnTo>
                  <a:pt x="167640" y="45720"/>
                </a:lnTo>
                <a:lnTo>
                  <a:pt x="175260" y="53340"/>
                </a:lnTo>
                <a:lnTo>
                  <a:pt x="175260" y="60960"/>
                </a:lnTo>
                <a:lnTo>
                  <a:pt x="190500" y="76200"/>
                </a:lnTo>
                <a:lnTo>
                  <a:pt x="190500" y="83820"/>
                </a:lnTo>
                <a:lnTo>
                  <a:pt x="198120" y="99060"/>
                </a:lnTo>
                <a:lnTo>
                  <a:pt x="205740" y="114300"/>
                </a:lnTo>
                <a:lnTo>
                  <a:pt x="213360" y="129540"/>
                </a:lnTo>
                <a:lnTo>
                  <a:pt x="220980" y="144780"/>
                </a:lnTo>
                <a:lnTo>
                  <a:pt x="228600" y="160020"/>
                </a:lnTo>
                <a:lnTo>
                  <a:pt x="236220" y="175260"/>
                </a:lnTo>
                <a:lnTo>
                  <a:pt x="236220" y="190500"/>
                </a:lnTo>
                <a:lnTo>
                  <a:pt x="236220" y="205740"/>
                </a:lnTo>
                <a:lnTo>
                  <a:pt x="236220" y="220980"/>
                </a:lnTo>
                <a:lnTo>
                  <a:pt x="228600" y="228600"/>
                </a:lnTo>
                <a:lnTo>
                  <a:pt x="220980" y="243840"/>
                </a:lnTo>
                <a:lnTo>
                  <a:pt x="213360" y="251460"/>
                </a:lnTo>
                <a:lnTo>
                  <a:pt x="205740" y="266700"/>
                </a:lnTo>
                <a:lnTo>
                  <a:pt x="198120" y="266700"/>
                </a:lnTo>
                <a:lnTo>
                  <a:pt x="175260" y="274320"/>
                </a:lnTo>
                <a:lnTo>
                  <a:pt x="160020" y="281940"/>
                </a:lnTo>
                <a:lnTo>
                  <a:pt x="144780" y="289560"/>
                </a:lnTo>
                <a:lnTo>
                  <a:pt x="129540" y="289560"/>
                </a:lnTo>
                <a:lnTo>
                  <a:pt x="114300" y="289560"/>
                </a:lnTo>
                <a:lnTo>
                  <a:pt x="99060" y="289560"/>
                </a:lnTo>
                <a:lnTo>
                  <a:pt x="83820" y="289560"/>
                </a:lnTo>
                <a:lnTo>
                  <a:pt x="76200" y="289560"/>
                </a:lnTo>
                <a:lnTo>
                  <a:pt x="68580" y="289560"/>
                </a:lnTo>
                <a:lnTo>
                  <a:pt x="60960" y="281940"/>
                </a:lnTo>
                <a:lnTo>
                  <a:pt x="60960" y="274320"/>
                </a:lnTo>
                <a:lnTo>
                  <a:pt x="60960" y="2743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Freeform 18"/>
          <p:cNvSpPr/>
          <p:nvPr/>
        </p:nvSpPr>
        <p:spPr>
          <a:xfrm>
            <a:off x="2583000" y="1317600"/>
            <a:ext cx="182520" cy="360"/>
          </a:xfrm>
          <a:custGeom>
            <a:avLst/>
            <a:gdLst>
              <a:gd name="textAreaLeft" fmla="*/ 0 w 182520"/>
              <a:gd name="textAreaRight" fmla="*/ 182880 w 18252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82881" h="1">
                <a:moveTo>
                  <a:pt x="762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620" y="0"/>
                </a:lnTo>
                <a:lnTo>
                  <a:pt x="7620" y="0"/>
                </a:lnTo>
                <a:lnTo>
                  <a:pt x="15240" y="0"/>
                </a:lnTo>
                <a:lnTo>
                  <a:pt x="15240" y="0"/>
                </a:lnTo>
                <a:lnTo>
                  <a:pt x="30480" y="0"/>
                </a:lnTo>
                <a:lnTo>
                  <a:pt x="38100" y="0"/>
                </a:lnTo>
                <a:lnTo>
                  <a:pt x="45720" y="0"/>
                </a:lnTo>
                <a:lnTo>
                  <a:pt x="60960" y="0"/>
                </a:lnTo>
                <a:lnTo>
                  <a:pt x="68580" y="0"/>
                </a:lnTo>
                <a:lnTo>
                  <a:pt x="83820" y="0"/>
                </a:lnTo>
                <a:lnTo>
                  <a:pt x="99060" y="0"/>
                </a:lnTo>
                <a:lnTo>
                  <a:pt x="114300" y="0"/>
                </a:lnTo>
                <a:lnTo>
                  <a:pt x="129540" y="0"/>
                </a:lnTo>
                <a:lnTo>
                  <a:pt x="144780" y="0"/>
                </a:lnTo>
                <a:lnTo>
                  <a:pt x="152400" y="0"/>
                </a:lnTo>
                <a:lnTo>
                  <a:pt x="167640" y="0"/>
                </a:lnTo>
                <a:lnTo>
                  <a:pt x="182880" y="0"/>
                </a:lnTo>
                <a:lnTo>
                  <a:pt x="18288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Freeform 19"/>
          <p:cNvSpPr/>
          <p:nvPr/>
        </p:nvSpPr>
        <p:spPr>
          <a:xfrm>
            <a:off x="2803680" y="1211400"/>
            <a:ext cx="23760" cy="182520"/>
          </a:xfrm>
          <a:custGeom>
            <a:avLst/>
            <a:gdLst>
              <a:gd name="textAreaLeft" fmla="*/ 0 w 23760"/>
              <a:gd name="textAreaRight" fmla="*/ 24120 w 237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2861" h="18288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620"/>
                </a:lnTo>
                <a:lnTo>
                  <a:pt x="0" y="7620"/>
                </a:lnTo>
                <a:lnTo>
                  <a:pt x="0" y="15240"/>
                </a:lnTo>
                <a:lnTo>
                  <a:pt x="0" y="22860"/>
                </a:lnTo>
                <a:lnTo>
                  <a:pt x="0" y="38100"/>
                </a:lnTo>
                <a:lnTo>
                  <a:pt x="7620" y="45720"/>
                </a:lnTo>
                <a:lnTo>
                  <a:pt x="7620" y="60960"/>
                </a:lnTo>
                <a:lnTo>
                  <a:pt x="7620" y="68580"/>
                </a:lnTo>
                <a:lnTo>
                  <a:pt x="7620" y="83820"/>
                </a:lnTo>
                <a:lnTo>
                  <a:pt x="7620" y="99060"/>
                </a:lnTo>
                <a:lnTo>
                  <a:pt x="7620" y="106680"/>
                </a:lnTo>
                <a:lnTo>
                  <a:pt x="7620" y="121920"/>
                </a:lnTo>
                <a:lnTo>
                  <a:pt x="7620" y="137160"/>
                </a:lnTo>
                <a:lnTo>
                  <a:pt x="15240" y="144780"/>
                </a:lnTo>
                <a:lnTo>
                  <a:pt x="15240" y="152400"/>
                </a:lnTo>
                <a:lnTo>
                  <a:pt x="15240" y="167640"/>
                </a:lnTo>
                <a:lnTo>
                  <a:pt x="15240" y="167640"/>
                </a:lnTo>
                <a:lnTo>
                  <a:pt x="15240" y="175260"/>
                </a:lnTo>
                <a:lnTo>
                  <a:pt x="22860" y="182880"/>
                </a:lnTo>
                <a:lnTo>
                  <a:pt x="22860" y="1828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Freeform 20"/>
          <p:cNvSpPr/>
          <p:nvPr/>
        </p:nvSpPr>
        <p:spPr>
          <a:xfrm>
            <a:off x="2819520" y="1257480"/>
            <a:ext cx="206280" cy="129960"/>
          </a:xfrm>
          <a:custGeom>
            <a:avLst/>
            <a:gdLst>
              <a:gd name="textAreaLeft" fmla="*/ 0 w 206280"/>
              <a:gd name="textAreaRight" fmla="*/ 206640 w 20628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205741" h="129541">
                <a:moveTo>
                  <a:pt x="106680" y="7620"/>
                </a:moveTo>
                <a:lnTo>
                  <a:pt x="106680" y="7620"/>
                </a:lnTo>
                <a:lnTo>
                  <a:pt x="114300" y="7620"/>
                </a:lnTo>
                <a:lnTo>
                  <a:pt x="114300" y="0"/>
                </a:lnTo>
                <a:lnTo>
                  <a:pt x="114300" y="0"/>
                </a:lnTo>
                <a:lnTo>
                  <a:pt x="114300" y="0"/>
                </a:lnTo>
                <a:lnTo>
                  <a:pt x="114300" y="0"/>
                </a:lnTo>
                <a:lnTo>
                  <a:pt x="114300" y="7620"/>
                </a:lnTo>
                <a:lnTo>
                  <a:pt x="106680" y="7620"/>
                </a:lnTo>
                <a:lnTo>
                  <a:pt x="106680" y="7620"/>
                </a:lnTo>
                <a:lnTo>
                  <a:pt x="106680" y="15240"/>
                </a:lnTo>
                <a:lnTo>
                  <a:pt x="99060" y="22860"/>
                </a:lnTo>
                <a:lnTo>
                  <a:pt x="91440" y="30480"/>
                </a:lnTo>
                <a:lnTo>
                  <a:pt x="83820" y="38100"/>
                </a:lnTo>
                <a:lnTo>
                  <a:pt x="76200" y="45720"/>
                </a:lnTo>
                <a:lnTo>
                  <a:pt x="60960" y="53340"/>
                </a:lnTo>
                <a:lnTo>
                  <a:pt x="53340" y="60960"/>
                </a:lnTo>
                <a:lnTo>
                  <a:pt x="45720" y="60960"/>
                </a:lnTo>
                <a:lnTo>
                  <a:pt x="38100" y="68580"/>
                </a:lnTo>
                <a:lnTo>
                  <a:pt x="22860" y="76200"/>
                </a:lnTo>
                <a:lnTo>
                  <a:pt x="15240" y="76200"/>
                </a:lnTo>
                <a:lnTo>
                  <a:pt x="7620" y="83820"/>
                </a:lnTo>
                <a:lnTo>
                  <a:pt x="7620" y="83820"/>
                </a:lnTo>
                <a:lnTo>
                  <a:pt x="0" y="83820"/>
                </a:lnTo>
                <a:lnTo>
                  <a:pt x="0" y="83820"/>
                </a:lnTo>
                <a:lnTo>
                  <a:pt x="0" y="83820"/>
                </a:lnTo>
                <a:lnTo>
                  <a:pt x="0" y="83820"/>
                </a:lnTo>
                <a:lnTo>
                  <a:pt x="0" y="83820"/>
                </a:lnTo>
                <a:lnTo>
                  <a:pt x="0" y="83820"/>
                </a:lnTo>
                <a:lnTo>
                  <a:pt x="0" y="76200"/>
                </a:lnTo>
                <a:lnTo>
                  <a:pt x="7620" y="76200"/>
                </a:lnTo>
                <a:lnTo>
                  <a:pt x="15240" y="68580"/>
                </a:lnTo>
                <a:lnTo>
                  <a:pt x="22860" y="68580"/>
                </a:lnTo>
                <a:lnTo>
                  <a:pt x="38100" y="68580"/>
                </a:lnTo>
                <a:lnTo>
                  <a:pt x="53340" y="68580"/>
                </a:lnTo>
                <a:lnTo>
                  <a:pt x="60960" y="68580"/>
                </a:lnTo>
                <a:lnTo>
                  <a:pt x="76200" y="68580"/>
                </a:lnTo>
                <a:lnTo>
                  <a:pt x="91440" y="68580"/>
                </a:lnTo>
                <a:lnTo>
                  <a:pt x="106680" y="68580"/>
                </a:lnTo>
                <a:lnTo>
                  <a:pt x="114300" y="76200"/>
                </a:lnTo>
                <a:lnTo>
                  <a:pt x="121920" y="83820"/>
                </a:lnTo>
                <a:lnTo>
                  <a:pt x="137160" y="83820"/>
                </a:lnTo>
                <a:lnTo>
                  <a:pt x="144780" y="91440"/>
                </a:lnTo>
                <a:lnTo>
                  <a:pt x="152400" y="91440"/>
                </a:lnTo>
                <a:lnTo>
                  <a:pt x="167640" y="99060"/>
                </a:lnTo>
                <a:lnTo>
                  <a:pt x="167640" y="106680"/>
                </a:lnTo>
                <a:lnTo>
                  <a:pt x="175260" y="106680"/>
                </a:lnTo>
                <a:lnTo>
                  <a:pt x="182880" y="114300"/>
                </a:lnTo>
                <a:lnTo>
                  <a:pt x="190500" y="121920"/>
                </a:lnTo>
                <a:lnTo>
                  <a:pt x="190500" y="121920"/>
                </a:lnTo>
                <a:lnTo>
                  <a:pt x="190500" y="121920"/>
                </a:lnTo>
                <a:lnTo>
                  <a:pt x="198120" y="121920"/>
                </a:lnTo>
                <a:lnTo>
                  <a:pt x="198120" y="121920"/>
                </a:lnTo>
                <a:lnTo>
                  <a:pt x="205740" y="129540"/>
                </a:lnTo>
                <a:lnTo>
                  <a:pt x="205740" y="1295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Freeform 21"/>
          <p:cNvSpPr/>
          <p:nvPr/>
        </p:nvSpPr>
        <p:spPr>
          <a:xfrm>
            <a:off x="2963880" y="1197000"/>
            <a:ext cx="152280" cy="250920"/>
          </a:xfrm>
          <a:custGeom>
            <a:avLst/>
            <a:gdLst>
              <a:gd name="textAreaLeft" fmla="*/ 0 w 152280"/>
              <a:gd name="textAreaRight" fmla="*/ 152640 w 15228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52401" h="251461">
                <a:moveTo>
                  <a:pt x="0" y="0"/>
                </a:moveTo>
                <a:lnTo>
                  <a:pt x="0" y="0"/>
                </a:lnTo>
                <a:lnTo>
                  <a:pt x="7620" y="0"/>
                </a:lnTo>
                <a:lnTo>
                  <a:pt x="15240" y="7620"/>
                </a:lnTo>
                <a:lnTo>
                  <a:pt x="22860" y="7620"/>
                </a:lnTo>
                <a:lnTo>
                  <a:pt x="38100" y="15240"/>
                </a:lnTo>
                <a:lnTo>
                  <a:pt x="45720" y="22860"/>
                </a:lnTo>
                <a:lnTo>
                  <a:pt x="60960" y="30480"/>
                </a:lnTo>
                <a:lnTo>
                  <a:pt x="76200" y="45720"/>
                </a:lnTo>
                <a:lnTo>
                  <a:pt x="91440" y="60960"/>
                </a:lnTo>
                <a:lnTo>
                  <a:pt x="99060" y="68580"/>
                </a:lnTo>
                <a:lnTo>
                  <a:pt x="114300" y="83820"/>
                </a:lnTo>
                <a:lnTo>
                  <a:pt x="121920" y="91440"/>
                </a:lnTo>
                <a:lnTo>
                  <a:pt x="129540" y="106680"/>
                </a:lnTo>
                <a:lnTo>
                  <a:pt x="144780" y="121920"/>
                </a:lnTo>
                <a:lnTo>
                  <a:pt x="144780" y="137160"/>
                </a:lnTo>
                <a:lnTo>
                  <a:pt x="152400" y="152400"/>
                </a:lnTo>
                <a:lnTo>
                  <a:pt x="152400" y="167640"/>
                </a:lnTo>
                <a:lnTo>
                  <a:pt x="152400" y="182880"/>
                </a:lnTo>
                <a:lnTo>
                  <a:pt x="144780" y="190500"/>
                </a:lnTo>
                <a:lnTo>
                  <a:pt x="144780" y="198120"/>
                </a:lnTo>
                <a:lnTo>
                  <a:pt x="129540" y="213360"/>
                </a:lnTo>
                <a:lnTo>
                  <a:pt x="121920" y="220980"/>
                </a:lnTo>
                <a:lnTo>
                  <a:pt x="114300" y="228600"/>
                </a:lnTo>
                <a:lnTo>
                  <a:pt x="99060" y="236220"/>
                </a:lnTo>
                <a:lnTo>
                  <a:pt x="91440" y="243840"/>
                </a:lnTo>
                <a:lnTo>
                  <a:pt x="76200" y="251460"/>
                </a:lnTo>
                <a:lnTo>
                  <a:pt x="76200" y="2514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Freeform 22"/>
          <p:cNvSpPr/>
          <p:nvPr/>
        </p:nvSpPr>
        <p:spPr>
          <a:xfrm>
            <a:off x="3178080" y="1135080"/>
            <a:ext cx="136800" cy="130320"/>
          </a:xfrm>
          <a:custGeom>
            <a:avLst/>
            <a:gdLst>
              <a:gd name="textAreaLeft" fmla="*/ 0 w 136800"/>
              <a:gd name="textAreaRight" fmla="*/ 137160 w 13680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137161" h="129541">
                <a:moveTo>
                  <a:pt x="0" y="38100"/>
                </a:moveTo>
                <a:lnTo>
                  <a:pt x="0" y="38100"/>
                </a:lnTo>
                <a:lnTo>
                  <a:pt x="0" y="30480"/>
                </a:lnTo>
                <a:lnTo>
                  <a:pt x="0" y="30480"/>
                </a:lnTo>
                <a:lnTo>
                  <a:pt x="0" y="22860"/>
                </a:lnTo>
                <a:lnTo>
                  <a:pt x="0" y="22860"/>
                </a:lnTo>
                <a:lnTo>
                  <a:pt x="0" y="22860"/>
                </a:lnTo>
                <a:lnTo>
                  <a:pt x="0" y="15240"/>
                </a:lnTo>
                <a:lnTo>
                  <a:pt x="0" y="15240"/>
                </a:lnTo>
                <a:lnTo>
                  <a:pt x="0" y="7620"/>
                </a:lnTo>
                <a:lnTo>
                  <a:pt x="0" y="7620"/>
                </a:lnTo>
                <a:lnTo>
                  <a:pt x="7620" y="7620"/>
                </a:lnTo>
                <a:lnTo>
                  <a:pt x="7620" y="0"/>
                </a:lnTo>
                <a:lnTo>
                  <a:pt x="15240" y="0"/>
                </a:lnTo>
                <a:lnTo>
                  <a:pt x="22860" y="0"/>
                </a:lnTo>
                <a:lnTo>
                  <a:pt x="30480" y="0"/>
                </a:lnTo>
                <a:lnTo>
                  <a:pt x="45720" y="0"/>
                </a:lnTo>
                <a:lnTo>
                  <a:pt x="53340" y="0"/>
                </a:lnTo>
                <a:lnTo>
                  <a:pt x="68580" y="0"/>
                </a:lnTo>
                <a:lnTo>
                  <a:pt x="76200" y="0"/>
                </a:lnTo>
                <a:lnTo>
                  <a:pt x="91440" y="7620"/>
                </a:lnTo>
                <a:lnTo>
                  <a:pt x="99060" y="7620"/>
                </a:lnTo>
                <a:lnTo>
                  <a:pt x="114300" y="7620"/>
                </a:lnTo>
                <a:lnTo>
                  <a:pt x="121920" y="15240"/>
                </a:lnTo>
                <a:lnTo>
                  <a:pt x="129540" y="22860"/>
                </a:lnTo>
                <a:lnTo>
                  <a:pt x="137160" y="22860"/>
                </a:lnTo>
                <a:lnTo>
                  <a:pt x="137160" y="30480"/>
                </a:lnTo>
                <a:lnTo>
                  <a:pt x="137160" y="38100"/>
                </a:lnTo>
                <a:lnTo>
                  <a:pt x="137160" y="45720"/>
                </a:lnTo>
                <a:lnTo>
                  <a:pt x="129540" y="60960"/>
                </a:lnTo>
                <a:lnTo>
                  <a:pt x="121920" y="60960"/>
                </a:lnTo>
                <a:lnTo>
                  <a:pt x="114300" y="76200"/>
                </a:lnTo>
                <a:lnTo>
                  <a:pt x="99060" y="83820"/>
                </a:lnTo>
                <a:lnTo>
                  <a:pt x="91440" y="91440"/>
                </a:lnTo>
                <a:lnTo>
                  <a:pt x="76200" y="99060"/>
                </a:lnTo>
                <a:lnTo>
                  <a:pt x="53340" y="106680"/>
                </a:lnTo>
                <a:lnTo>
                  <a:pt x="45720" y="106680"/>
                </a:lnTo>
                <a:lnTo>
                  <a:pt x="30480" y="114300"/>
                </a:lnTo>
                <a:lnTo>
                  <a:pt x="22860" y="121920"/>
                </a:lnTo>
                <a:lnTo>
                  <a:pt x="7620" y="121920"/>
                </a:lnTo>
                <a:lnTo>
                  <a:pt x="7620" y="121920"/>
                </a:lnTo>
                <a:lnTo>
                  <a:pt x="7620" y="129540"/>
                </a:lnTo>
                <a:lnTo>
                  <a:pt x="7620" y="129540"/>
                </a:lnTo>
                <a:lnTo>
                  <a:pt x="7620" y="129540"/>
                </a:lnTo>
                <a:lnTo>
                  <a:pt x="15240" y="129540"/>
                </a:lnTo>
                <a:lnTo>
                  <a:pt x="22860" y="129540"/>
                </a:lnTo>
                <a:lnTo>
                  <a:pt x="38100" y="129540"/>
                </a:lnTo>
                <a:lnTo>
                  <a:pt x="53340" y="129540"/>
                </a:lnTo>
                <a:lnTo>
                  <a:pt x="76200" y="129540"/>
                </a:lnTo>
                <a:lnTo>
                  <a:pt x="91440" y="129540"/>
                </a:lnTo>
                <a:lnTo>
                  <a:pt x="121920" y="129540"/>
                </a:lnTo>
                <a:lnTo>
                  <a:pt x="121920" y="1295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Freeform 23"/>
          <p:cNvSpPr/>
          <p:nvPr/>
        </p:nvSpPr>
        <p:spPr>
          <a:xfrm>
            <a:off x="3330720" y="1311120"/>
            <a:ext cx="144360" cy="14400"/>
          </a:xfrm>
          <a:custGeom>
            <a:avLst/>
            <a:gdLst>
              <a:gd name="textAreaLeft" fmla="*/ 0 w 144360"/>
              <a:gd name="textAreaRight" fmla="*/ 144720 w 1443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44781" h="15241">
                <a:moveTo>
                  <a:pt x="0" y="15240"/>
                </a:moveTo>
                <a:lnTo>
                  <a:pt x="0" y="15240"/>
                </a:lnTo>
                <a:lnTo>
                  <a:pt x="0" y="15240"/>
                </a:lnTo>
                <a:lnTo>
                  <a:pt x="0" y="15240"/>
                </a:lnTo>
                <a:lnTo>
                  <a:pt x="0" y="7620"/>
                </a:lnTo>
                <a:lnTo>
                  <a:pt x="7620" y="7620"/>
                </a:lnTo>
                <a:lnTo>
                  <a:pt x="7620" y="7620"/>
                </a:lnTo>
                <a:lnTo>
                  <a:pt x="22860" y="7620"/>
                </a:lnTo>
                <a:lnTo>
                  <a:pt x="22860" y="7620"/>
                </a:lnTo>
                <a:lnTo>
                  <a:pt x="38100" y="0"/>
                </a:lnTo>
                <a:lnTo>
                  <a:pt x="45720" y="0"/>
                </a:lnTo>
                <a:lnTo>
                  <a:pt x="53340" y="0"/>
                </a:lnTo>
                <a:lnTo>
                  <a:pt x="68580" y="0"/>
                </a:lnTo>
                <a:lnTo>
                  <a:pt x="76200" y="0"/>
                </a:lnTo>
                <a:lnTo>
                  <a:pt x="91440" y="0"/>
                </a:lnTo>
                <a:lnTo>
                  <a:pt x="99060" y="0"/>
                </a:lnTo>
                <a:lnTo>
                  <a:pt x="114300" y="0"/>
                </a:lnTo>
                <a:lnTo>
                  <a:pt x="121920" y="0"/>
                </a:lnTo>
                <a:lnTo>
                  <a:pt x="144780" y="0"/>
                </a:lnTo>
                <a:lnTo>
                  <a:pt x="14478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Freeform 24"/>
          <p:cNvSpPr/>
          <p:nvPr/>
        </p:nvSpPr>
        <p:spPr>
          <a:xfrm>
            <a:off x="3322800" y="1363680"/>
            <a:ext cx="152280" cy="15840"/>
          </a:xfrm>
          <a:custGeom>
            <a:avLst/>
            <a:gdLst>
              <a:gd name="textAreaLeft" fmla="*/ 0 w 152280"/>
              <a:gd name="textAreaRight" fmla="*/ 152640 w 1522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52401" h="15241">
                <a:moveTo>
                  <a:pt x="22860" y="15240"/>
                </a:moveTo>
                <a:lnTo>
                  <a:pt x="15240" y="15240"/>
                </a:lnTo>
                <a:lnTo>
                  <a:pt x="7620" y="15240"/>
                </a:lnTo>
                <a:lnTo>
                  <a:pt x="7620" y="15240"/>
                </a:lnTo>
                <a:lnTo>
                  <a:pt x="0" y="15240"/>
                </a:lnTo>
                <a:lnTo>
                  <a:pt x="0" y="15240"/>
                </a:lnTo>
                <a:lnTo>
                  <a:pt x="7620" y="15240"/>
                </a:lnTo>
                <a:lnTo>
                  <a:pt x="15240" y="15240"/>
                </a:lnTo>
                <a:lnTo>
                  <a:pt x="22860" y="15240"/>
                </a:lnTo>
                <a:lnTo>
                  <a:pt x="30480" y="15240"/>
                </a:lnTo>
                <a:lnTo>
                  <a:pt x="45720" y="15240"/>
                </a:lnTo>
                <a:lnTo>
                  <a:pt x="53340" y="15240"/>
                </a:lnTo>
                <a:lnTo>
                  <a:pt x="68580" y="15240"/>
                </a:lnTo>
                <a:lnTo>
                  <a:pt x="83820" y="15240"/>
                </a:lnTo>
                <a:lnTo>
                  <a:pt x="99060" y="15240"/>
                </a:lnTo>
                <a:lnTo>
                  <a:pt x="106680" y="7620"/>
                </a:lnTo>
                <a:lnTo>
                  <a:pt x="121920" y="7620"/>
                </a:lnTo>
                <a:lnTo>
                  <a:pt x="137160" y="7620"/>
                </a:lnTo>
                <a:lnTo>
                  <a:pt x="152400" y="0"/>
                </a:lnTo>
                <a:lnTo>
                  <a:pt x="15240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Freeform 25"/>
          <p:cNvSpPr/>
          <p:nvPr/>
        </p:nvSpPr>
        <p:spPr>
          <a:xfrm>
            <a:off x="3635280" y="1265400"/>
            <a:ext cx="158760" cy="122040"/>
          </a:xfrm>
          <a:custGeom>
            <a:avLst/>
            <a:gdLst>
              <a:gd name="textAreaLeft" fmla="*/ 0 w 158760"/>
              <a:gd name="textAreaRight" fmla="*/ 159120 w 158760"/>
              <a:gd name="textAreaTop" fmla="*/ 0 h 122040"/>
              <a:gd name="textAreaBottom" fmla="*/ 122400 h 122040"/>
            </a:gdLst>
            <a:ahLst/>
            <a:rect l="textAreaLeft" t="textAreaTop" r="textAreaRight" b="textAreaBottom"/>
            <a:pathLst>
              <a:path w="160021" h="121921">
                <a:moveTo>
                  <a:pt x="0" y="30480"/>
                </a:moveTo>
                <a:lnTo>
                  <a:pt x="7620" y="30480"/>
                </a:lnTo>
                <a:lnTo>
                  <a:pt x="15240" y="30480"/>
                </a:lnTo>
                <a:lnTo>
                  <a:pt x="15240" y="30480"/>
                </a:lnTo>
                <a:lnTo>
                  <a:pt x="22860" y="30480"/>
                </a:lnTo>
                <a:lnTo>
                  <a:pt x="22860" y="38100"/>
                </a:lnTo>
                <a:lnTo>
                  <a:pt x="30480" y="38100"/>
                </a:lnTo>
                <a:lnTo>
                  <a:pt x="30480" y="45720"/>
                </a:lnTo>
                <a:lnTo>
                  <a:pt x="38100" y="45720"/>
                </a:lnTo>
                <a:lnTo>
                  <a:pt x="38100" y="53340"/>
                </a:lnTo>
                <a:lnTo>
                  <a:pt x="38100" y="60960"/>
                </a:lnTo>
                <a:lnTo>
                  <a:pt x="38100" y="68580"/>
                </a:lnTo>
                <a:lnTo>
                  <a:pt x="38100" y="76200"/>
                </a:lnTo>
                <a:lnTo>
                  <a:pt x="45720" y="83820"/>
                </a:lnTo>
                <a:lnTo>
                  <a:pt x="45720" y="91440"/>
                </a:lnTo>
                <a:lnTo>
                  <a:pt x="45720" y="99060"/>
                </a:lnTo>
                <a:lnTo>
                  <a:pt x="45720" y="99060"/>
                </a:lnTo>
                <a:lnTo>
                  <a:pt x="45720" y="106680"/>
                </a:lnTo>
                <a:lnTo>
                  <a:pt x="45720" y="114300"/>
                </a:lnTo>
                <a:lnTo>
                  <a:pt x="45720" y="114300"/>
                </a:lnTo>
                <a:lnTo>
                  <a:pt x="45720" y="114300"/>
                </a:lnTo>
                <a:lnTo>
                  <a:pt x="38100" y="121920"/>
                </a:lnTo>
                <a:lnTo>
                  <a:pt x="38100" y="121920"/>
                </a:lnTo>
                <a:lnTo>
                  <a:pt x="38100" y="121920"/>
                </a:lnTo>
                <a:lnTo>
                  <a:pt x="38100" y="121920"/>
                </a:lnTo>
                <a:lnTo>
                  <a:pt x="38100" y="121920"/>
                </a:lnTo>
                <a:lnTo>
                  <a:pt x="38100" y="121920"/>
                </a:lnTo>
                <a:lnTo>
                  <a:pt x="30480" y="114300"/>
                </a:lnTo>
                <a:lnTo>
                  <a:pt x="30480" y="114300"/>
                </a:lnTo>
                <a:lnTo>
                  <a:pt x="30480" y="106680"/>
                </a:lnTo>
                <a:lnTo>
                  <a:pt x="30480" y="99060"/>
                </a:lnTo>
                <a:lnTo>
                  <a:pt x="30480" y="99060"/>
                </a:lnTo>
                <a:lnTo>
                  <a:pt x="30480" y="91440"/>
                </a:lnTo>
                <a:lnTo>
                  <a:pt x="30480" y="83820"/>
                </a:lnTo>
                <a:lnTo>
                  <a:pt x="38100" y="76200"/>
                </a:lnTo>
                <a:lnTo>
                  <a:pt x="38100" y="68580"/>
                </a:lnTo>
                <a:lnTo>
                  <a:pt x="45720" y="60960"/>
                </a:lnTo>
                <a:lnTo>
                  <a:pt x="53340" y="53340"/>
                </a:lnTo>
                <a:lnTo>
                  <a:pt x="60960" y="45720"/>
                </a:lnTo>
                <a:lnTo>
                  <a:pt x="68580" y="45720"/>
                </a:lnTo>
                <a:lnTo>
                  <a:pt x="68580" y="38100"/>
                </a:lnTo>
                <a:lnTo>
                  <a:pt x="76200" y="30480"/>
                </a:lnTo>
                <a:lnTo>
                  <a:pt x="83820" y="30480"/>
                </a:lnTo>
                <a:lnTo>
                  <a:pt x="91440" y="22860"/>
                </a:lnTo>
                <a:lnTo>
                  <a:pt x="99060" y="22860"/>
                </a:lnTo>
                <a:lnTo>
                  <a:pt x="106680" y="15240"/>
                </a:lnTo>
                <a:lnTo>
                  <a:pt x="114300" y="15240"/>
                </a:lnTo>
                <a:lnTo>
                  <a:pt x="121920" y="15240"/>
                </a:lnTo>
                <a:lnTo>
                  <a:pt x="129540" y="15240"/>
                </a:lnTo>
                <a:lnTo>
                  <a:pt x="137160" y="7620"/>
                </a:lnTo>
                <a:lnTo>
                  <a:pt x="144780" y="7620"/>
                </a:lnTo>
                <a:lnTo>
                  <a:pt x="144780" y="7620"/>
                </a:lnTo>
                <a:lnTo>
                  <a:pt x="160020" y="0"/>
                </a:lnTo>
                <a:lnTo>
                  <a:pt x="16002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Freeform 26"/>
          <p:cNvSpPr/>
          <p:nvPr/>
        </p:nvSpPr>
        <p:spPr>
          <a:xfrm>
            <a:off x="3832200" y="1165320"/>
            <a:ext cx="176400" cy="92160"/>
          </a:xfrm>
          <a:custGeom>
            <a:avLst/>
            <a:gdLst>
              <a:gd name="textAreaLeft" fmla="*/ 0 w 176400"/>
              <a:gd name="textAreaRight" fmla="*/ 176760 w 17640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75261" h="91441">
                <a:moveTo>
                  <a:pt x="0" y="38100"/>
                </a:moveTo>
                <a:lnTo>
                  <a:pt x="0" y="30480"/>
                </a:lnTo>
                <a:lnTo>
                  <a:pt x="0" y="22860"/>
                </a:lnTo>
                <a:lnTo>
                  <a:pt x="0" y="22860"/>
                </a:lnTo>
                <a:lnTo>
                  <a:pt x="0" y="15240"/>
                </a:lnTo>
                <a:lnTo>
                  <a:pt x="7620" y="15240"/>
                </a:lnTo>
                <a:lnTo>
                  <a:pt x="7620" y="7620"/>
                </a:lnTo>
                <a:lnTo>
                  <a:pt x="7620" y="7620"/>
                </a:lnTo>
                <a:lnTo>
                  <a:pt x="15240" y="7620"/>
                </a:lnTo>
                <a:lnTo>
                  <a:pt x="22860" y="0"/>
                </a:lnTo>
                <a:lnTo>
                  <a:pt x="30480" y="0"/>
                </a:lnTo>
                <a:lnTo>
                  <a:pt x="38100" y="0"/>
                </a:lnTo>
                <a:lnTo>
                  <a:pt x="45720" y="0"/>
                </a:lnTo>
                <a:lnTo>
                  <a:pt x="60960" y="0"/>
                </a:lnTo>
                <a:lnTo>
                  <a:pt x="68580" y="0"/>
                </a:lnTo>
                <a:lnTo>
                  <a:pt x="76200" y="0"/>
                </a:lnTo>
                <a:lnTo>
                  <a:pt x="83820" y="7620"/>
                </a:lnTo>
                <a:lnTo>
                  <a:pt x="99060" y="7620"/>
                </a:lnTo>
                <a:lnTo>
                  <a:pt x="106680" y="7620"/>
                </a:lnTo>
                <a:lnTo>
                  <a:pt x="114300" y="15240"/>
                </a:lnTo>
                <a:lnTo>
                  <a:pt x="121920" y="15240"/>
                </a:lnTo>
                <a:lnTo>
                  <a:pt x="129540" y="22860"/>
                </a:lnTo>
                <a:lnTo>
                  <a:pt x="129540" y="22860"/>
                </a:lnTo>
                <a:lnTo>
                  <a:pt x="137160" y="30480"/>
                </a:lnTo>
                <a:lnTo>
                  <a:pt x="137160" y="30480"/>
                </a:lnTo>
                <a:lnTo>
                  <a:pt x="137160" y="38100"/>
                </a:lnTo>
                <a:lnTo>
                  <a:pt x="129540" y="45720"/>
                </a:lnTo>
                <a:lnTo>
                  <a:pt x="129540" y="45720"/>
                </a:lnTo>
                <a:lnTo>
                  <a:pt x="121920" y="53340"/>
                </a:lnTo>
                <a:lnTo>
                  <a:pt x="114300" y="60960"/>
                </a:lnTo>
                <a:lnTo>
                  <a:pt x="106680" y="60960"/>
                </a:lnTo>
                <a:lnTo>
                  <a:pt x="91440" y="68580"/>
                </a:lnTo>
                <a:lnTo>
                  <a:pt x="91440" y="76200"/>
                </a:lnTo>
                <a:lnTo>
                  <a:pt x="83820" y="76200"/>
                </a:lnTo>
                <a:lnTo>
                  <a:pt x="76200" y="76200"/>
                </a:lnTo>
                <a:lnTo>
                  <a:pt x="76200" y="83820"/>
                </a:lnTo>
                <a:lnTo>
                  <a:pt x="76200" y="83820"/>
                </a:lnTo>
                <a:lnTo>
                  <a:pt x="76200" y="83820"/>
                </a:lnTo>
                <a:lnTo>
                  <a:pt x="83820" y="91440"/>
                </a:lnTo>
                <a:lnTo>
                  <a:pt x="91440" y="91440"/>
                </a:lnTo>
                <a:lnTo>
                  <a:pt x="99060" y="91440"/>
                </a:lnTo>
                <a:lnTo>
                  <a:pt x="114300" y="91440"/>
                </a:lnTo>
                <a:lnTo>
                  <a:pt x="121920" y="91440"/>
                </a:lnTo>
                <a:lnTo>
                  <a:pt x="137160" y="91440"/>
                </a:lnTo>
                <a:lnTo>
                  <a:pt x="152400" y="91440"/>
                </a:lnTo>
                <a:lnTo>
                  <a:pt x="175260" y="91440"/>
                </a:lnTo>
                <a:lnTo>
                  <a:pt x="175260" y="914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Freeform 27"/>
          <p:cNvSpPr/>
          <p:nvPr/>
        </p:nvSpPr>
        <p:spPr>
          <a:xfrm>
            <a:off x="898560" y="1744560"/>
            <a:ext cx="206280" cy="244440"/>
          </a:xfrm>
          <a:custGeom>
            <a:avLst/>
            <a:gdLst>
              <a:gd name="textAreaLeft" fmla="*/ 0 w 206280"/>
              <a:gd name="textAreaRight" fmla="*/ 206640 w 2062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05741" h="24384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620"/>
                </a:lnTo>
                <a:lnTo>
                  <a:pt x="0" y="7620"/>
                </a:lnTo>
                <a:lnTo>
                  <a:pt x="0" y="15240"/>
                </a:lnTo>
                <a:lnTo>
                  <a:pt x="0" y="22860"/>
                </a:lnTo>
                <a:lnTo>
                  <a:pt x="0" y="30480"/>
                </a:lnTo>
                <a:lnTo>
                  <a:pt x="0" y="38100"/>
                </a:lnTo>
                <a:lnTo>
                  <a:pt x="0" y="45720"/>
                </a:lnTo>
                <a:lnTo>
                  <a:pt x="0" y="60960"/>
                </a:lnTo>
                <a:lnTo>
                  <a:pt x="0" y="68580"/>
                </a:lnTo>
                <a:lnTo>
                  <a:pt x="0" y="83820"/>
                </a:lnTo>
                <a:lnTo>
                  <a:pt x="0" y="91440"/>
                </a:lnTo>
                <a:lnTo>
                  <a:pt x="0" y="106680"/>
                </a:lnTo>
                <a:lnTo>
                  <a:pt x="7620" y="121920"/>
                </a:lnTo>
                <a:lnTo>
                  <a:pt x="7620" y="129540"/>
                </a:lnTo>
                <a:lnTo>
                  <a:pt x="7620" y="144780"/>
                </a:lnTo>
                <a:lnTo>
                  <a:pt x="7620" y="160020"/>
                </a:lnTo>
                <a:lnTo>
                  <a:pt x="7620" y="175260"/>
                </a:lnTo>
                <a:lnTo>
                  <a:pt x="7620" y="182880"/>
                </a:lnTo>
                <a:lnTo>
                  <a:pt x="7620" y="190500"/>
                </a:lnTo>
                <a:lnTo>
                  <a:pt x="7620" y="205740"/>
                </a:lnTo>
                <a:lnTo>
                  <a:pt x="7620" y="213360"/>
                </a:lnTo>
                <a:lnTo>
                  <a:pt x="7620" y="220980"/>
                </a:lnTo>
                <a:lnTo>
                  <a:pt x="7620" y="228600"/>
                </a:lnTo>
                <a:lnTo>
                  <a:pt x="7620" y="236220"/>
                </a:lnTo>
                <a:lnTo>
                  <a:pt x="7620" y="243840"/>
                </a:lnTo>
                <a:lnTo>
                  <a:pt x="7620" y="243840"/>
                </a:lnTo>
                <a:lnTo>
                  <a:pt x="7620" y="243840"/>
                </a:lnTo>
                <a:lnTo>
                  <a:pt x="7620" y="243840"/>
                </a:lnTo>
                <a:lnTo>
                  <a:pt x="7620" y="243840"/>
                </a:lnTo>
                <a:lnTo>
                  <a:pt x="7620" y="243840"/>
                </a:lnTo>
                <a:lnTo>
                  <a:pt x="7620" y="243840"/>
                </a:lnTo>
                <a:lnTo>
                  <a:pt x="7620" y="236220"/>
                </a:lnTo>
                <a:lnTo>
                  <a:pt x="7620" y="228600"/>
                </a:lnTo>
                <a:lnTo>
                  <a:pt x="15240" y="220980"/>
                </a:lnTo>
                <a:lnTo>
                  <a:pt x="15240" y="213360"/>
                </a:lnTo>
                <a:lnTo>
                  <a:pt x="22860" y="205740"/>
                </a:lnTo>
                <a:lnTo>
                  <a:pt x="30480" y="198120"/>
                </a:lnTo>
                <a:lnTo>
                  <a:pt x="30480" y="190500"/>
                </a:lnTo>
                <a:lnTo>
                  <a:pt x="38100" y="182880"/>
                </a:lnTo>
                <a:lnTo>
                  <a:pt x="45720" y="175260"/>
                </a:lnTo>
                <a:lnTo>
                  <a:pt x="53340" y="160020"/>
                </a:lnTo>
                <a:lnTo>
                  <a:pt x="60960" y="160020"/>
                </a:lnTo>
                <a:lnTo>
                  <a:pt x="60960" y="152400"/>
                </a:lnTo>
                <a:lnTo>
                  <a:pt x="68580" y="144780"/>
                </a:lnTo>
                <a:lnTo>
                  <a:pt x="76200" y="137160"/>
                </a:lnTo>
                <a:lnTo>
                  <a:pt x="83820" y="137160"/>
                </a:lnTo>
                <a:lnTo>
                  <a:pt x="99060" y="137160"/>
                </a:lnTo>
                <a:lnTo>
                  <a:pt x="106680" y="129540"/>
                </a:lnTo>
                <a:lnTo>
                  <a:pt x="114300" y="129540"/>
                </a:lnTo>
                <a:lnTo>
                  <a:pt x="121920" y="137160"/>
                </a:lnTo>
                <a:lnTo>
                  <a:pt x="129540" y="137160"/>
                </a:lnTo>
                <a:lnTo>
                  <a:pt x="137160" y="144780"/>
                </a:lnTo>
                <a:lnTo>
                  <a:pt x="152400" y="144780"/>
                </a:lnTo>
                <a:lnTo>
                  <a:pt x="160020" y="152400"/>
                </a:lnTo>
                <a:lnTo>
                  <a:pt x="167640" y="160020"/>
                </a:lnTo>
                <a:lnTo>
                  <a:pt x="167640" y="167640"/>
                </a:lnTo>
                <a:lnTo>
                  <a:pt x="175260" y="175260"/>
                </a:lnTo>
                <a:lnTo>
                  <a:pt x="182880" y="182880"/>
                </a:lnTo>
                <a:lnTo>
                  <a:pt x="182880" y="190500"/>
                </a:lnTo>
                <a:lnTo>
                  <a:pt x="190500" y="190500"/>
                </a:lnTo>
                <a:lnTo>
                  <a:pt x="198120" y="198120"/>
                </a:lnTo>
                <a:lnTo>
                  <a:pt x="198120" y="205740"/>
                </a:lnTo>
                <a:lnTo>
                  <a:pt x="198120" y="213360"/>
                </a:lnTo>
                <a:lnTo>
                  <a:pt x="198120" y="213360"/>
                </a:lnTo>
                <a:lnTo>
                  <a:pt x="205740" y="220980"/>
                </a:lnTo>
                <a:lnTo>
                  <a:pt x="205740" y="2209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Freeform 28"/>
          <p:cNvSpPr/>
          <p:nvPr/>
        </p:nvSpPr>
        <p:spPr>
          <a:xfrm>
            <a:off x="1150920" y="1905120"/>
            <a:ext cx="38160" cy="114120"/>
          </a:xfrm>
          <a:custGeom>
            <a:avLst/>
            <a:gdLst>
              <a:gd name="textAreaLeft" fmla="*/ 0 w 38160"/>
              <a:gd name="textAreaRight" fmla="*/ 38520 w 3816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38101" h="11430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7620" y="7620"/>
                </a:lnTo>
                <a:lnTo>
                  <a:pt x="15240" y="15240"/>
                </a:lnTo>
                <a:lnTo>
                  <a:pt x="15240" y="15240"/>
                </a:lnTo>
                <a:lnTo>
                  <a:pt x="22860" y="22860"/>
                </a:lnTo>
                <a:lnTo>
                  <a:pt x="22860" y="30480"/>
                </a:lnTo>
                <a:lnTo>
                  <a:pt x="30480" y="38100"/>
                </a:lnTo>
                <a:lnTo>
                  <a:pt x="30480" y="45720"/>
                </a:lnTo>
                <a:lnTo>
                  <a:pt x="30480" y="53340"/>
                </a:lnTo>
                <a:lnTo>
                  <a:pt x="38100" y="60960"/>
                </a:lnTo>
                <a:lnTo>
                  <a:pt x="38100" y="68580"/>
                </a:lnTo>
                <a:lnTo>
                  <a:pt x="38100" y="76200"/>
                </a:lnTo>
                <a:lnTo>
                  <a:pt x="38100" y="83820"/>
                </a:lnTo>
                <a:lnTo>
                  <a:pt x="30480" y="83820"/>
                </a:lnTo>
                <a:lnTo>
                  <a:pt x="30480" y="91440"/>
                </a:lnTo>
                <a:lnTo>
                  <a:pt x="30480" y="99060"/>
                </a:lnTo>
                <a:lnTo>
                  <a:pt x="22860" y="99060"/>
                </a:lnTo>
                <a:lnTo>
                  <a:pt x="22860" y="106680"/>
                </a:lnTo>
                <a:lnTo>
                  <a:pt x="15240" y="106680"/>
                </a:lnTo>
                <a:lnTo>
                  <a:pt x="7620" y="106680"/>
                </a:lnTo>
                <a:lnTo>
                  <a:pt x="7620" y="114300"/>
                </a:lnTo>
                <a:lnTo>
                  <a:pt x="0" y="114300"/>
                </a:lnTo>
                <a:lnTo>
                  <a:pt x="0" y="1143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Freeform 29"/>
          <p:cNvSpPr/>
          <p:nvPr/>
        </p:nvSpPr>
        <p:spPr>
          <a:xfrm>
            <a:off x="1265400" y="1736640"/>
            <a:ext cx="14040" cy="214560"/>
          </a:xfrm>
          <a:custGeom>
            <a:avLst/>
            <a:gdLst>
              <a:gd name="textAreaLeft" fmla="*/ 0 w 14040"/>
              <a:gd name="textAreaRight" fmla="*/ 14400 w 1404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15241" h="21336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7620" y="0"/>
                </a:lnTo>
                <a:lnTo>
                  <a:pt x="7620" y="0"/>
                </a:lnTo>
                <a:lnTo>
                  <a:pt x="7620" y="15240"/>
                </a:lnTo>
                <a:lnTo>
                  <a:pt x="15240" y="15240"/>
                </a:lnTo>
                <a:lnTo>
                  <a:pt x="15240" y="30480"/>
                </a:lnTo>
                <a:lnTo>
                  <a:pt x="15240" y="38100"/>
                </a:lnTo>
                <a:lnTo>
                  <a:pt x="15240" y="45720"/>
                </a:lnTo>
                <a:lnTo>
                  <a:pt x="15240" y="60960"/>
                </a:lnTo>
                <a:lnTo>
                  <a:pt x="15240" y="76200"/>
                </a:lnTo>
                <a:lnTo>
                  <a:pt x="15240" y="83820"/>
                </a:lnTo>
                <a:lnTo>
                  <a:pt x="15240" y="99060"/>
                </a:lnTo>
                <a:lnTo>
                  <a:pt x="15240" y="114300"/>
                </a:lnTo>
                <a:lnTo>
                  <a:pt x="7620" y="129540"/>
                </a:lnTo>
                <a:lnTo>
                  <a:pt x="7620" y="144780"/>
                </a:lnTo>
                <a:lnTo>
                  <a:pt x="7620" y="152400"/>
                </a:lnTo>
                <a:lnTo>
                  <a:pt x="7620" y="167640"/>
                </a:lnTo>
                <a:lnTo>
                  <a:pt x="7620" y="182880"/>
                </a:lnTo>
                <a:lnTo>
                  <a:pt x="7620" y="190500"/>
                </a:lnTo>
                <a:lnTo>
                  <a:pt x="7620" y="198120"/>
                </a:lnTo>
                <a:lnTo>
                  <a:pt x="7620" y="213360"/>
                </a:lnTo>
                <a:lnTo>
                  <a:pt x="7620" y="2133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Freeform 30"/>
          <p:cNvSpPr/>
          <p:nvPr/>
        </p:nvSpPr>
        <p:spPr>
          <a:xfrm>
            <a:off x="1295280" y="1782720"/>
            <a:ext cx="198720" cy="160560"/>
          </a:xfrm>
          <a:custGeom>
            <a:avLst/>
            <a:gdLst>
              <a:gd name="textAreaLeft" fmla="*/ 0 w 198720"/>
              <a:gd name="textAreaRight" fmla="*/ 199080 w 19872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198121" h="160021">
                <a:moveTo>
                  <a:pt x="99060" y="7620"/>
                </a:moveTo>
                <a:lnTo>
                  <a:pt x="99060" y="0"/>
                </a:lnTo>
                <a:lnTo>
                  <a:pt x="99060" y="0"/>
                </a:lnTo>
                <a:lnTo>
                  <a:pt x="99060" y="0"/>
                </a:lnTo>
                <a:lnTo>
                  <a:pt x="91440" y="7620"/>
                </a:lnTo>
                <a:lnTo>
                  <a:pt x="91440" y="7620"/>
                </a:lnTo>
                <a:lnTo>
                  <a:pt x="91440" y="15240"/>
                </a:lnTo>
                <a:lnTo>
                  <a:pt x="83820" y="22860"/>
                </a:lnTo>
                <a:lnTo>
                  <a:pt x="83820" y="30480"/>
                </a:lnTo>
                <a:lnTo>
                  <a:pt x="76200" y="38100"/>
                </a:lnTo>
                <a:lnTo>
                  <a:pt x="68580" y="45720"/>
                </a:lnTo>
                <a:lnTo>
                  <a:pt x="60960" y="53340"/>
                </a:lnTo>
                <a:lnTo>
                  <a:pt x="53340" y="60960"/>
                </a:lnTo>
                <a:lnTo>
                  <a:pt x="45720" y="76200"/>
                </a:lnTo>
                <a:lnTo>
                  <a:pt x="38100" y="83820"/>
                </a:lnTo>
                <a:lnTo>
                  <a:pt x="30480" y="91440"/>
                </a:lnTo>
                <a:lnTo>
                  <a:pt x="22860" y="91440"/>
                </a:lnTo>
                <a:lnTo>
                  <a:pt x="15240" y="99060"/>
                </a:lnTo>
                <a:lnTo>
                  <a:pt x="15240" y="106680"/>
                </a:lnTo>
                <a:lnTo>
                  <a:pt x="7620" y="106680"/>
                </a:lnTo>
                <a:lnTo>
                  <a:pt x="7620" y="106680"/>
                </a:lnTo>
                <a:lnTo>
                  <a:pt x="7620" y="114300"/>
                </a:lnTo>
                <a:lnTo>
                  <a:pt x="0" y="114300"/>
                </a:lnTo>
                <a:lnTo>
                  <a:pt x="0" y="114300"/>
                </a:lnTo>
                <a:lnTo>
                  <a:pt x="0" y="114300"/>
                </a:lnTo>
                <a:lnTo>
                  <a:pt x="0" y="114300"/>
                </a:lnTo>
                <a:lnTo>
                  <a:pt x="7620" y="106680"/>
                </a:lnTo>
                <a:lnTo>
                  <a:pt x="15240" y="106680"/>
                </a:lnTo>
                <a:lnTo>
                  <a:pt x="22860" y="106680"/>
                </a:lnTo>
                <a:lnTo>
                  <a:pt x="38100" y="99060"/>
                </a:lnTo>
                <a:lnTo>
                  <a:pt x="53340" y="99060"/>
                </a:lnTo>
                <a:lnTo>
                  <a:pt x="60960" y="99060"/>
                </a:lnTo>
                <a:lnTo>
                  <a:pt x="76200" y="91440"/>
                </a:lnTo>
                <a:lnTo>
                  <a:pt x="91440" y="91440"/>
                </a:lnTo>
                <a:lnTo>
                  <a:pt x="106680" y="91440"/>
                </a:lnTo>
                <a:lnTo>
                  <a:pt x="121920" y="91440"/>
                </a:lnTo>
                <a:lnTo>
                  <a:pt x="129540" y="91440"/>
                </a:lnTo>
                <a:lnTo>
                  <a:pt x="144780" y="99060"/>
                </a:lnTo>
                <a:lnTo>
                  <a:pt x="152400" y="99060"/>
                </a:lnTo>
                <a:lnTo>
                  <a:pt x="167640" y="106680"/>
                </a:lnTo>
                <a:lnTo>
                  <a:pt x="167640" y="106680"/>
                </a:lnTo>
                <a:lnTo>
                  <a:pt x="175260" y="114300"/>
                </a:lnTo>
                <a:lnTo>
                  <a:pt x="182880" y="121920"/>
                </a:lnTo>
                <a:lnTo>
                  <a:pt x="190500" y="121920"/>
                </a:lnTo>
                <a:lnTo>
                  <a:pt x="190500" y="129540"/>
                </a:lnTo>
                <a:lnTo>
                  <a:pt x="190500" y="137160"/>
                </a:lnTo>
                <a:lnTo>
                  <a:pt x="190500" y="144780"/>
                </a:lnTo>
                <a:lnTo>
                  <a:pt x="198120" y="144780"/>
                </a:lnTo>
                <a:lnTo>
                  <a:pt x="198120" y="152400"/>
                </a:lnTo>
                <a:lnTo>
                  <a:pt x="198120" y="152400"/>
                </a:lnTo>
                <a:lnTo>
                  <a:pt x="198120" y="160020"/>
                </a:lnTo>
                <a:lnTo>
                  <a:pt x="198120" y="160020"/>
                </a:lnTo>
                <a:lnTo>
                  <a:pt x="198120" y="160020"/>
                </a:lnTo>
                <a:lnTo>
                  <a:pt x="198120" y="1600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Freeform 6143"/>
          <p:cNvSpPr/>
          <p:nvPr/>
        </p:nvSpPr>
        <p:spPr>
          <a:xfrm>
            <a:off x="1469880" y="1676520"/>
            <a:ext cx="152640" cy="342720"/>
          </a:xfrm>
          <a:custGeom>
            <a:avLst/>
            <a:gdLst>
              <a:gd name="textAreaLeft" fmla="*/ 0 w 152640"/>
              <a:gd name="textAreaRight" fmla="*/ 153000 w 15264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152401" h="342901">
                <a:moveTo>
                  <a:pt x="0" y="0"/>
                </a:moveTo>
                <a:lnTo>
                  <a:pt x="15240" y="7620"/>
                </a:lnTo>
                <a:lnTo>
                  <a:pt x="30480" y="22860"/>
                </a:lnTo>
                <a:lnTo>
                  <a:pt x="45720" y="30480"/>
                </a:lnTo>
                <a:lnTo>
                  <a:pt x="60960" y="45720"/>
                </a:lnTo>
                <a:lnTo>
                  <a:pt x="76200" y="60960"/>
                </a:lnTo>
                <a:lnTo>
                  <a:pt x="91440" y="76200"/>
                </a:lnTo>
                <a:lnTo>
                  <a:pt x="99060" y="91440"/>
                </a:lnTo>
                <a:lnTo>
                  <a:pt x="114300" y="114300"/>
                </a:lnTo>
                <a:lnTo>
                  <a:pt x="129540" y="129540"/>
                </a:lnTo>
                <a:lnTo>
                  <a:pt x="137160" y="152400"/>
                </a:lnTo>
                <a:lnTo>
                  <a:pt x="144780" y="167640"/>
                </a:lnTo>
                <a:lnTo>
                  <a:pt x="152400" y="190500"/>
                </a:lnTo>
                <a:lnTo>
                  <a:pt x="152400" y="213360"/>
                </a:lnTo>
                <a:lnTo>
                  <a:pt x="152400" y="228600"/>
                </a:lnTo>
                <a:lnTo>
                  <a:pt x="152400" y="251460"/>
                </a:lnTo>
                <a:lnTo>
                  <a:pt x="152400" y="266700"/>
                </a:lnTo>
                <a:lnTo>
                  <a:pt x="144780" y="281940"/>
                </a:lnTo>
                <a:lnTo>
                  <a:pt x="137160" y="297180"/>
                </a:lnTo>
                <a:lnTo>
                  <a:pt x="129540" y="312420"/>
                </a:lnTo>
                <a:lnTo>
                  <a:pt x="114300" y="327660"/>
                </a:lnTo>
                <a:lnTo>
                  <a:pt x="99060" y="342900"/>
                </a:lnTo>
                <a:lnTo>
                  <a:pt x="99060" y="3429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Freeform 6144"/>
          <p:cNvSpPr/>
          <p:nvPr/>
        </p:nvSpPr>
        <p:spPr>
          <a:xfrm>
            <a:off x="731880" y="1722600"/>
            <a:ext cx="182520" cy="372960"/>
          </a:xfrm>
          <a:custGeom>
            <a:avLst/>
            <a:gdLst>
              <a:gd name="textAreaLeft" fmla="*/ 0 w 182520"/>
              <a:gd name="textAreaRight" fmla="*/ 182880 w 18252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182881" h="373381">
                <a:moveTo>
                  <a:pt x="53340" y="15240"/>
                </a:moveTo>
                <a:lnTo>
                  <a:pt x="53340" y="7620"/>
                </a:lnTo>
                <a:lnTo>
                  <a:pt x="45720" y="7620"/>
                </a:lnTo>
                <a:lnTo>
                  <a:pt x="45720" y="0"/>
                </a:lnTo>
                <a:lnTo>
                  <a:pt x="45720" y="7620"/>
                </a:lnTo>
                <a:lnTo>
                  <a:pt x="45720" y="7620"/>
                </a:lnTo>
                <a:lnTo>
                  <a:pt x="38100" y="15240"/>
                </a:lnTo>
                <a:lnTo>
                  <a:pt x="30480" y="22860"/>
                </a:lnTo>
                <a:lnTo>
                  <a:pt x="30480" y="38100"/>
                </a:lnTo>
                <a:lnTo>
                  <a:pt x="22860" y="53340"/>
                </a:lnTo>
                <a:lnTo>
                  <a:pt x="15240" y="68580"/>
                </a:lnTo>
                <a:lnTo>
                  <a:pt x="7620" y="83820"/>
                </a:lnTo>
                <a:lnTo>
                  <a:pt x="7620" y="106680"/>
                </a:lnTo>
                <a:lnTo>
                  <a:pt x="7620" y="129540"/>
                </a:lnTo>
                <a:lnTo>
                  <a:pt x="0" y="152400"/>
                </a:lnTo>
                <a:lnTo>
                  <a:pt x="0" y="167640"/>
                </a:lnTo>
                <a:lnTo>
                  <a:pt x="7620" y="198120"/>
                </a:lnTo>
                <a:lnTo>
                  <a:pt x="7620" y="220980"/>
                </a:lnTo>
                <a:lnTo>
                  <a:pt x="22860" y="243840"/>
                </a:lnTo>
                <a:lnTo>
                  <a:pt x="30480" y="266700"/>
                </a:lnTo>
                <a:lnTo>
                  <a:pt x="45720" y="281940"/>
                </a:lnTo>
                <a:lnTo>
                  <a:pt x="60960" y="304800"/>
                </a:lnTo>
                <a:lnTo>
                  <a:pt x="83820" y="320040"/>
                </a:lnTo>
                <a:lnTo>
                  <a:pt x="106680" y="335280"/>
                </a:lnTo>
                <a:lnTo>
                  <a:pt x="137160" y="350520"/>
                </a:lnTo>
                <a:lnTo>
                  <a:pt x="182880" y="373380"/>
                </a:lnTo>
                <a:lnTo>
                  <a:pt x="182880" y="3733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Freeform 6146"/>
          <p:cNvSpPr/>
          <p:nvPr/>
        </p:nvSpPr>
        <p:spPr>
          <a:xfrm>
            <a:off x="2293920" y="1889280"/>
            <a:ext cx="388800" cy="396720"/>
          </a:xfrm>
          <a:custGeom>
            <a:avLst/>
            <a:gdLst>
              <a:gd name="textAreaLeft" fmla="*/ 0 w 388800"/>
              <a:gd name="textAreaRight" fmla="*/ 389160 w 38880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388621" h="396241">
                <a:moveTo>
                  <a:pt x="60960" y="365760"/>
                </a:moveTo>
                <a:lnTo>
                  <a:pt x="60960" y="365760"/>
                </a:lnTo>
                <a:lnTo>
                  <a:pt x="60960" y="365760"/>
                </a:lnTo>
                <a:lnTo>
                  <a:pt x="60960" y="365760"/>
                </a:lnTo>
                <a:lnTo>
                  <a:pt x="60960" y="365760"/>
                </a:lnTo>
                <a:lnTo>
                  <a:pt x="60960" y="365760"/>
                </a:lnTo>
                <a:lnTo>
                  <a:pt x="68580" y="373380"/>
                </a:lnTo>
                <a:lnTo>
                  <a:pt x="76200" y="373380"/>
                </a:lnTo>
                <a:lnTo>
                  <a:pt x="83820" y="373380"/>
                </a:lnTo>
                <a:lnTo>
                  <a:pt x="91440" y="381000"/>
                </a:lnTo>
                <a:lnTo>
                  <a:pt x="99060" y="381000"/>
                </a:lnTo>
                <a:lnTo>
                  <a:pt x="106680" y="381000"/>
                </a:lnTo>
                <a:lnTo>
                  <a:pt x="121920" y="388620"/>
                </a:lnTo>
                <a:lnTo>
                  <a:pt x="129540" y="388620"/>
                </a:lnTo>
                <a:lnTo>
                  <a:pt x="144780" y="388620"/>
                </a:lnTo>
                <a:lnTo>
                  <a:pt x="152400" y="388620"/>
                </a:lnTo>
                <a:lnTo>
                  <a:pt x="167640" y="388620"/>
                </a:lnTo>
                <a:lnTo>
                  <a:pt x="182880" y="388620"/>
                </a:lnTo>
                <a:lnTo>
                  <a:pt x="198120" y="381000"/>
                </a:lnTo>
                <a:lnTo>
                  <a:pt x="220980" y="381000"/>
                </a:lnTo>
                <a:lnTo>
                  <a:pt x="236220" y="373380"/>
                </a:lnTo>
                <a:lnTo>
                  <a:pt x="251460" y="365760"/>
                </a:lnTo>
                <a:lnTo>
                  <a:pt x="274320" y="358140"/>
                </a:lnTo>
                <a:lnTo>
                  <a:pt x="289560" y="350520"/>
                </a:lnTo>
                <a:lnTo>
                  <a:pt x="304800" y="335280"/>
                </a:lnTo>
                <a:lnTo>
                  <a:pt x="320040" y="327660"/>
                </a:lnTo>
                <a:lnTo>
                  <a:pt x="335280" y="312420"/>
                </a:lnTo>
                <a:lnTo>
                  <a:pt x="350520" y="297180"/>
                </a:lnTo>
                <a:lnTo>
                  <a:pt x="358140" y="281940"/>
                </a:lnTo>
                <a:lnTo>
                  <a:pt x="373380" y="266700"/>
                </a:lnTo>
                <a:lnTo>
                  <a:pt x="381000" y="251460"/>
                </a:lnTo>
                <a:lnTo>
                  <a:pt x="388620" y="228600"/>
                </a:lnTo>
                <a:lnTo>
                  <a:pt x="388620" y="205740"/>
                </a:lnTo>
                <a:lnTo>
                  <a:pt x="388620" y="190500"/>
                </a:lnTo>
                <a:lnTo>
                  <a:pt x="388620" y="167640"/>
                </a:lnTo>
                <a:lnTo>
                  <a:pt x="381000" y="144780"/>
                </a:lnTo>
                <a:lnTo>
                  <a:pt x="381000" y="121920"/>
                </a:lnTo>
                <a:lnTo>
                  <a:pt x="365760" y="106680"/>
                </a:lnTo>
                <a:lnTo>
                  <a:pt x="350520" y="83820"/>
                </a:lnTo>
                <a:lnTo>
                  <a:pt x="342900" y="60960"/>
                </a:lnTo>
                <a:lnTo>
                  <a:pt x="327660" y="45720"/>
                </a:lnTo>
                <a:lnTo>
                  <a:pt x="304800" y="30480"/>
                </a:lnTo>
                <a:lnTo>
                  <a:pt x="289560" y="22860"/>
                </a:lnTo>
                <a:lnTo>
                  <a:pt x="274320" y="15240"/>
                </a:lnTo>
                <a:lnTo>
                  <a:pt x="251460" y="7620"/>
                </a:lnTo>
                <a:lnTo>
                  <a:pt x="228600" y="0"/>
                </a:lnTo>
                <a:lnTo>
                  <a:pt x="213360" y="0"/>
                </a:lnTo>
                <a:lnTo>
                  <a:pt x="190500" y="0"/>
                </a:lnTo>
                <a:lnTo>
                  <a:pt x="175260" y="7620"/>
                </a:lnTo>
                <a:lnTo>
                  <a:pt x="152400" y="15240"/>
                </a:lnTo>
                <a:lnTo>
                  <a:pt x="137160" y="30480"/>
                </a:lnTo>
                <a:lnTo>
                  <a:pt x="114300" y="38100"/>
                </a:lnTo>
                <a:lnTo>
                  <a:pt x="99060" y="53340"/>
                </a:lnTo>
                <a:lnTo>
                  <a:pt x="83820" y="68580"/>
                </a:lnTo>
                <a:lnTo>
                  <a:pt x="68580" y="91440"/>
                </a:lnTo>
                <a:lnTo>
                  <a:pt x="53340" y="114300"/>
                </a:lnTo>
                <a:lnTo>
                  <a:pt x="38100" y="137160"/>
                </a:lnTo>
                <a:lnTo>
                  <a:pt x="30480" y="160020"/>
                </a:lnTo>
                <a:lnTo>
                  <a:pt x="15240" y="182880"/>
                </a:lnTo>
                <a:lnTo>
                  <a:pt x="7620" y="205740"/>
                </a:lnTo>
                <a:lnTo>
                  <a:pt x="0" y="228600"/>
                </a:lnTo>
                <a:lnTo>
                  <a:pt x="0" y="251460"/>
                </a:lnTo>
                <a:lnTo>
                  <a:pt x="0" y="274320"/>
                </a:lnTo>
                <a:lnTo>
                  <a:pt x="0" y="289560"/>
                </a:lnTo>
                <a:lnTo>
                  <a:pt x="0" y="312420"/>
                </a:lnTo>
                <a:lnTo>
                  <a:pt x="7620" y="327660"/>
                </a:lnTo>
                <a:lnTo>
                  <a:pt x="15240" y="342900"/>
                </a:lnTo>
                <a:lnTo>
                  <a:pt x="30480" y="358140"/>
                </a:lnTo>
                <a:lnTo>
                  <a:pt x="38100" y="373380"/>
                </a:lnTo>
                <a:lnTo>
                  <a:pt x="53340" y="381000"/>
                </a:lnTo>
                <a:lnTo>
                  <a:pt x="68580" y="388620"/>
                </a:lnTo>
                <a:lnTo>
                  <a:pt x="91440" y="388620"/>
                </a:lnTo>
                <a:lnTo>
                  <a:pt x="106680" y="396240"/>
                </a:lnTo>
                <a:lnTo>
                  <a:pt x="129540" y="396240"/>
                </a:lnTo>
                <a:lnTo>
                  <a:pt x="152400" y="388620"/>
                </a:lnTo>
                <a:lnTo>
                  <a:pt x="175260" y="388620"/>
                </a:lnTo>
                <a:lnTo>
                  <a:pt x="190500" y="381000"/>
                </a:lnTo>
                <a:lnTo>
                  <a:pt x="205740" y="373380"/>
                </a:lnTo>
                <a:lnTo>
                  <a:pt x="236220" y="365760"/>
                </a:lnTo>
                <a:lnTo>
                  <a:pt x="236220" y="3657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Freeform 6147"/>
          <p:cNvSpPr/>
          <p:nvPr/>
        </p:nvSpPr>
        <p:spPr>
          <a:xfrm>
            <a:off x="2743200" y="1913040"/>
            <a:ext cx="312840" cy="365040"/>
          </a:xfrm>
          <a:custGeom>
            <a:avLst/>
            <a:gdLst>
              <a:gd name="textAreaLeft" fmla="*/ 0 w 312840"/>
              <a:gd name="textAreaRight" fmla="*/ 313200 w 31284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312421" h="365761">
                <a:moveTo>
                  <a:pt x="99060" y="358140"/>
                </a:moveTo>
                <a:lnTo>
                  <a:pt x="99060" y="358140"/>
                </a:lnTo>
                <a:lnTo>
                  <a:pt x="99060" y="358140"/>
                </a:lnTo>
                <a:lnTo>
                  <a:pt x="106680" y="365760"/>
                </a:lnTo>
                <a:lnTo>
                  <a:pt x="106680" y="365760"/>
                </a:lnTo>
                <a:lnTo>
                  <a:pt x="114300" y="365760"/>
                </a:lnTo>
                <a:lnTo>
                  <a:pt x="121920" y="365760"/>
                </a:lnTo>
                <a:lnTo>
                  <a:pt x="129540" y="365760"/>
                </a:lnTo>
                <a:lnTo>
                  <a:pt x="129540" y="365760"/>
                </a:lnTo>
                <a:lnTo>
                  <a:pt x="137160" y="365760"/>
                </a:lnTo>
                <a:lnTo>
                  <a:pt x="144780" y="365760"/>
                </a:lnTo>
                <a:lnTo>
                  <a:pt x="152400" y="358140"/>
                </a:lnTo>
                <a:lnTo>
                  <a:pt x="167640" y="358140"/>
                </a:lnTo>
                <a:lnTo>
                  <a:pt x="175260" y="350520"/>
                </a:lnTo>
                <a:lnTo>
                  <a:pt x="182880" y="350520"/>
                </a:lnTo>
                <a:lnTo>
                  <a:pt x="198120" y="350520"/>
                </a:lnTo>
                <a:lnTo>
                  <a:pt x="205740" y="342900"/>
                </a:lnTo>
                <a:lnTo>
                  <a:pt x="220980" y="335280"/>
                </a:lnTo>
                <a:lnTo>
                  <a:pt x="228600" y="327660"/>
                </a:lnTo>
                <a:lnTo>
                  <a:pt x="236220" y="320040"/>
                </a:lnTo>
                <a:lnTo>
                  <a:pt x="251460" y="312420"/>
                </a:lnTo>
                <a:lnTo>
                  <a:pt x="259080" y="304800"/>
                </a:lnTo>
                <a:lnTo>
                  <a:pt x="274320" y="289560"/>
                </a:lnTo>
                <a:lnTo>
                  <a:pt x="281940" y="281940"/>
                </a:lnTo>
                <a:lnTo>
                  <a:pt x="289560" y="266700"/>
                </a:lnTo>
                <a:lnTo>
                  <a:pt x="297180" y="251460"/>
                </a:lnTo>
                <a:lnTo>
                  <a:pt x="297180" y="236220"/>
                </a:lnTo>
                <a:lnTo>
                  <a:pt x="304800" y="228600"/>
                </a:lnTo>
                <a:lnTo>
                  <a:pt x="312420" y="205740"/>
                </a:lnTo>
                <a:lnTo>
                  <a:pt x="312420" y="190500"/>
                </a:lnTo>
                <a:lnTo>
                  <a:pt x="312420" y="175260"/>
                </a:lnTo>
                <a:lnTo>
                  <a:pt x="304800" y="160020"/>
                </a:lnTo>
                <a:lnTo>
                  <a:pt x="297180" y="144780"/>
                </a:lnTo>
                <a:lnTo>
                  <a:pt x="297180" y="129540"/>
                </a:lnTo>
                <a:lnTo>
                  <a:pt x="289560" y="106680"/>
                </a:lnTo>
                <a:lnTo>
                  <a:pt x="281940" y="99060"/>
                </a:lnTo>
                <a:lnTo>
                  <a:pt x="274320" y="83820"/>
                </a:lnTo>
                <a:lnTo>
                  <a:pt x="266700" y="68580"/>
                </a:lnTo>
                <a:lnTo>
                  <a:pt x="259080" y="60960"/>
                </a:lnTo>
                <a:lnTo>
                  <a:pt x="251460" y="45720"/>
                </a:lnTo>
                <a:lnTo>
                  <a:pt x="243840" y="38100"/>
                </a:lnTo>
                <a:lnTo>
                  <a:pt x="228600" y="30480"/>
                </a:lnTo>
                <a:lnTo>
                  <a:pt x="220980" y="22860"/>
                </a:lnTo>
                <a:lnTo>
                  <a:pt x="213360" y="15240"/>
                </a:lnTo>
                <a:lnTo>
                  <a:pt x="198120" y="7620"/>
                </a:lnTo>
                <a:lnTo>
                  <a:pt x="190500" y="7620"/>
                </a:lnTo>
                <a:lnTo>
                  <a:pt x="182880" y="7620"/>
                </a:lnTo>
                <a:lnTo>
                  <a:pt x="167640" y="0"/>
                </a:lnTo>
                <a:lnTo>
                  <a:pt x="152400" y="7620"/>
                </a:lnTo>
                <a:lnTo>
                  <a:pt x="144780" y="7620"/>
                </a:lnTo>
                <a:lnTo>
                  <a:pt x="129540" y="7620"/>
                </a:lnTo>
                <a:lnTo>
                  <a:pt x="121920" y="15240"/>
                </a:lnTo>
                <a:lnTo>
                  <a:pt x="106680" y="22860"/>
                </a:lnTo>
                <a:lnTo>
                  <a:pt x="91440" y="30480"/>
                </a:lnTo>
                <a:lnTo>
                  <a:pt x="83820" y="38100"/>
                </a:lnTo>
                <a:lnTo>
                  <a:pt x="68580" y="45720"/>
                </a:lnTo>
                <a:lnTo>
                  <a:pt x="60960" y="60960"/>
                </a:lnTo>
                <a:lnTo>
                  <a:pt x="45720" y="76200"/>
                </a:lnTo>
                <a:lnTo>
                  <a:pt x="38100" y="91440"/>
                </a:lnTo>
                <a:lnTo>
                  <a:pt x="30480" y="99060"/>
                </a:lnTo>
                <a:lnTo>
                  <a:pt x="22860" y="121920"/>
                </a:lnTo>
                <a:lnTo>
                  <a:pt x="15240" y="129540"/>
                </a:lnTo>
                <a:lnTo>
                  <a:pt x="7620" y="144780"/>
                </a:lnTo>
                <a:lnTo>
                  <a:pt x="7620" y="160020"/>
                </a:lnTo>
                <a:lnTo>
                  <a:pt x="0" y="182880"/>
                </a:lnTo>
                <a:lnTo>
                  <a:pt x="0" y="198120"/>
                </a:lnTo>
                <a:lnTo>
                  <a:pt x="0" y="205740"/>
                </a:lnTo>
                <a:lnTo>
                  <a:pt x="0" y="220980"/>
                </a:lnTo>
                <a:lnTo>
                  <a:pt x="0" y="236220"/>
                </a:lnTo>
                <a:lnTo>
                  <a:pt x="0" y="251460"/>
                </a:lnTo>
                <a:lnTo>
                  <a:pt x="0" y="259080"/>
                </a:lnTo>
                <a:lnTo>
                  <a:pt x="7620" y="266700"/>
                </a:lnTo>
                <a:lnTo>
                  <a:pt x="15240" y="281940"/>
                </a:lnTo>
                <a:lnTo>
                  <a:pt x="22860" y="289560"/>
                </a:lnTo>
                <a:lnTo>
                  <a:pt x="30480" y="297180"/>
                </a:lnTo>
                <a:lnTo>
                  <a:pt x="38100" y="304800"/>
                </a:lnTo>
                <a:lnTo>
                  <a:pt x="45720" y="312420"/>
                </a:lnTo>
                <a:lnTo>
                  <a:pt x="60960" y="320040"/>
                </a:lnTo>
                <a:lnTo>
                  <a:pt x="68580" y="320040"/>
                </a:lnTo>
                <a:lnTo>
                  <a:pt x="83820" y="327660"/>
                </a:lnTo>
                <a:lnTo>
                  <a:pt x="99060" y="327660"/>
                </a:lnTo>
                <a:lnTo>
                  <a:pt x="114300" y="327660"/>
                </a:lnTo>
                <a:lnTo>
                  <a:pt x="137160" y="335280"/>
                </a:lnTo>
                <a:lnTo>
                  <a:pt x="137160" y="3352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Freeform 6148"/>
          <p:cNvSpPr/>
          <p:nvPr/>
        </p:nvSpPr>
        <p:spPr>
          <a:xfrm>
            <a:off x="2408400" y="1646280"/>
            <a:ext cx="182520" cy="198360"/>
          </a:xfrm>
          <a:custGeom>
            <a:avLst/>
            <a:gdLst>
              <a:gd name="textAreaLeft" fmla="*/ 0 w 182520"/>
              <a:gd name="textAreaRight" fmla="*/ 182880 w 18252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82881" h="198121">
                <a:moveTo>
                  <a:pt x="0" y="7620"/>
                </a:moveTo>
                <a:lnTo>
                  <a:pt x="0" y="7620"/>
                </a:lnTo>
                <a:lnTo>
                  <a:pt x="0" y="7620"/>
                </a:lnTo>
                <a:lnTo>
                  <a:pt x="0" y="0"/>
                </a:lnTo>
                <a:lnTo>
                  <a:pt x="0" y="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0" y="15240"/>
                </a:lnTo>
                <a:lnTo>
                  <a:pt x="7620" y="15240"/>
                </a:lnTo>
                <a:lnTo>
                  <a:pt x="7620" y="22860"/>
                </a:lnTo>
                <a:lnTo>
                  <a:pt x="7620" y="30480"/>
                </a:lnTo>
                <a:lnTo>
                  <a:pt x="7620" y="38100"/>
                </a:lnTo>
                <a:lnTo>
                  <a:pt x="7620" y="53340"/>
                </a:lnTo>
                <a:lnTo>
                  <a:pt x="7620" y="60960"/>
                </a:lnTo>
                <a:lnTo>
                  <a:pt x="7620" y="68580"/>
                </a:lnTo>
                <a:lnTo>
                  <a:pt x="7620" y="83820"/>
                </a:lnTo>
                <a:lnTo>
                  <a:pt x="7620" y="91440"/>
                </a:lnTo>
                <a:lnTo>
                  <a:pt x="7620" y="106680"/>
                </a:lnTo>
                <a:lnTo>
                  <a:pt x="7620" y="114300"/>
                </a:lnTo>
                <a:lnTo>
                  <a:pt x="7620" y="129540"/>
                </a:lnTo>
                <a:lnTo>
                  <a:pt x="7620" y="137160"/>
                </a:lnTo>
                <a:lnTo>
                  <a:pt x="7620" y="144780"/>
                </a:lnTo>
                <a:lnTo>
                  <a:pt x="7620" y="160020"/>
                </a:lnTo>
                <a:lnTo>
                  <a:pt x="7620" y="167640"/>
                </a:lnTo>
                <a:lnTo>
                  <a:pt x="7620" y="175260"/>
                </a:lnTo>
                <a:lnTo>
                  <a:pt x="7620" y="182880"/>
                </a:lnTo>
                <a:lnTo>
                  <a:pt x="7620" y="190500"/>
                </a:lnTo>
                <a:lnTo>
                  <a:pt x="7620" y="190500"/>
                </a:lnTo>
                <a:lnTo>
                  <a:pt x="7620" y="198120"/>
                </a:lnTo>
                <a:lnTo>
                  <a:pt x="15240" y="198120"/>
                </a:lnTo>
                <a:lnTo>
                  <a:pt x="15240" y="198120"/>
                </a:lnTo>
                <a:lnTo>
                  <a:pt x="15240" y="198120"/>
                </a:lnTo>
                <a:lnTo>
                  <a:pt x="15240" y="198120"/>
                </a:lnTo>
                <a:lnTo>
                  <a:pt x="15240" y="198120"/>
                </a:lnTo>
                <a:lnTo>
                  <a:pt x="15240" y="198120"/>
                </a:lnTo>
                <a:lnTo>
                  <a:pt x="15240" y="190500"/>
                </a:lnTo>
                <a:lnTo>
                  <a:pt x="22860" y="182880"/>
                </a:lnTo>
                <a:lnTo>
                  <a:pt x="22860" y="175260"/>
                </a:lnTo>
                <a:lnTo>
                  <a:pt x="30480" y="167640"/>
                </a:lnTo>
                <a:lnTo>
                  <a:pt x="30480" y="160020"/>
                </a:lnTo>
                <a:lnTo>
                  <a:pt x="38100" y="144780"/>
                </a:lnTo>
                <a:lnTo>
                  <a:pt x="45720" y="137160"/>
                </a:lnTo>
                <a:lnTo>
                  <a:pt x="53340" y="129540"/>
                </a:lnTo>
                <a:lnTo>
                  <a:pt x="60960" y="121920"/>
                </a:lnTo>
                <a:lnTo>
                  <a:pt x="68580" y="114300"/>
                </a:lnTo>
                <a:lnTo>
                  <a:pt x="76200" y="106680"/>
                </a:lnTo>
                <a:lnTo>
                  <a:pt x="83820" y="99060"/>
                </a:lnTo>
                <a:lnTo>
                  <a:pt x="91440" y="91440"/>
                </a:lnTo>
                <a:lnTo>
                  <a:pt x="99060" y="91440"/>
                </a:lnTo>
                <a:lnTo>
                  <a:pt x="106680" y="91440"/>
                </a:lnTo>
                <a:lnTo>
                  <a:pt x="114300" y="83820"/>
                </a:lnTo>
                <a:lnTo>
                  <a:pt x="121920" y="83820"/>
                </a:lnTo>
                <a:lnTo>
                  <a:pt x="129540" y="91440"/>
                </a:lnTo>
                <a:lnTo>
                  <a:pt x="137160" y="91440"/>
                </a:lnTo>
                <a:lnTo>
                  <a:pt x="137160" y="91440"/>
                </a:lnTo>
                <a:lnTo>
                  <a:pt x="144780" y="99060"/>
                </a:lnTo>
                <a:lnTo>
                  <a:pt x="152400" y="106680"/>
                </a:lnTo>
                <a:lnTo>
                  <a:pt x="160020" y="114300"/>
                </a:lnTo>
                <a:lnTo>
                  <a:pt x="160020" y="121920"/>
                </a:lnTo>
                <a:lnTo>
                  <a:pt x="167640" y="121920"/>
                </a:lnTo>
                <a:lnTo>
                  <a:pt x="167640" y="137160"/>
                </a:lnTo>
                <a:lnTo>
                  <a:pt x="167640" y="144780"/>
                </a:lnTo>
                <a:lnTo>
                  <a:pt x="175260" y="144780"/>
                </a:lnTo>
                <a:lnTo>
                  <a:pt x="175260" y="160020"/>
                </a:lnTo>
                <a:lnTo>
                  <a:pt x="175260" y="160020"/>
                </a:lnTo>
                <a:lnTo>
                  <a:pt x="175260" y="167640"/>
                </a:lnTo>
                <a:lnTo>
                  <a:pt x="175260" y="175260"/>
                </a:lnTo>
                <a:lnTo>
                  <a:pt x="175260" y="175260"/>
                </a:lnTo>
                <a:lnTo>
                  <a:pt x="175260" y="182880"/>
                </a:lnTo>
                <a:lnTo>
                  <a:pt x="182880" y="182880"/>
                </a:lnTo>
                <a:lnTo>
                  <a:pt x="182880" y="182880"/>
                </a:lnTo>
                <a:lnTo>
                  <a:pt x="182880" y="182880"/>
                </a:lnTo>
                <a:lnTo>
                  <a:pt x="182880" y="1828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Freeform 6149"/>
          <p:cNvSpPr/>
          <p:nvPr/>
        </p:nvSpPr>
        <p:spPr>
          <a:xfrm>
            <a:off x="2789280" y="1630440"/>
            <a:ext cx="22320" cy="206280"/>
          </a:xfrm>
          <a:custGeom>
            <a:avLst/>
            <a:gdLst>
              <a:gd name="textAreaLeft" fmla="*/ 0 w 22320"/>
              <a:gd name="textAreaRight" fmla="*/ 22680 w 223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22861" h="205741">
                <a:moveTo>
                  <a:pt x="22860" y="0"/>
                </a:moveTo>
                <a:lnTo>
                  <a:pt x="22860" y="0"/>
                </a:lnTo>
                <a:lnTo>
                  <a:pt x="22860" y="7620"/>
                </a:lnTo>
                <a:lnTo>
                  <a:pt x="22860" y="7620"/>
                </a:lnTo>
                <a:lnTo>
                  <a:pt x="22860" y="15240"/>
                </a:lnTo>
                <a:lnTo>
                  <a:pt x="15240" y="22860"/>
                </a:lnTo>
                <a:lnTo>
                  <a:pt x="15240" y="30480"/>
                </a:lnTo>
                <a:lnTo>
                  <a:pt x="15240" y="38100"/>
                </a:lnTo>
                <a:lnTo>
                  <a:pt x="15240" y="53340"/>
                </a:lnTo>
                <a:lnTo>
                  <a:pt x="7620" y="68580"/>
                </a:lnTo>
                <a:lnTo>
                  <a:pt x="7620" y="76200"/>
                </a:lnTo>
                <a:lnTo>
                  <a:pt x="7620" y="91440"/>
                </a:lnTo>
                <a:lnTo>
                  <a:pt x="0" y="106680"/>
                </a:lnTo>
                <a:lnTo>
                  <a:pt x="0" y="114300"/>
                </a:lnTo>
                <a:lnTo>
                  <a:pt x="0" y="129540"/>
                </a:lnTo>
                <a:lnTo>
                  <a:pt x="0" y="137160"/>
                </a:lnTo>
                <a:lnTo>
                  <a:pt x="0" y="152400"/>
                </a:lnTo>
                <a:lnTo>
                  <a:pt x="7620" y="160020"/>
                </a:lnTo>
                <a:lnTo>
                  <a:pt x="7620" y="175260"/>
                </a:lnTo>
                <a:lnTo>
                  <a:pt x="7620" y="182880"/>
                </a:lnTo>
                <a:lnTo>
                  <a:pt x="7620" y="190500"/>
                </a:lnTo>
                <a:lnTo>
                  <a:pt x="7620" y="190500"/>
                </a:lnTo>
                <a:lnTo>
                  <a:pt x="15240" y="198120"/>
                </a:lnTo>
                <a:lnTo>
                  <a:pt x="22860" y="205740"/>
                </a:lnTo>
                <a:lnTo>
                  <a:pt x="22860" y="2057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Freeform 6150"/>
          <p:cNvSpPr/>
          <p:nvPr/>
        </p:nvSpPr>
        <p:spPr>
          <a:xfrm>
            <a:off x="2797200" y="1676520"/>
            <a:ext cx="204840" cy="160200"/>
          </a:xfrm>
          <a:custGeom>
            <a:avLst/>
            <a:gdLst>
              <a:gd name="textAreaLeft" fmla="*/ 0 w 204840"/>
              <a:gd name="textAreaRight" fmla="*/ 205200 w 20484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205741" h="160021">
                <a:moveTo>
                  <a:pt x="83820" y="0"/>
                </a:moveTo>
                <a:lnTo>
                  <a:pt x="83820" y="0"/>
                </a:lnTo>
                <a:lnTo>
                  <a:pt x="83820" y="0"/>
                </a:lnTo>
                <a:lnTo>
                  <a:pt x="83820" y="0"/>
                </a:lnTo>
                <a:lnTo>
                  <a:pt x="83820" y="0"/>
                </a:lnTo>
                <a:lnTo>
                  <a:pt x="83820" y="0"/>
                </a:lnTo>
                <a:lnTo>
                  <a:pt x="83820" y="0"/>
                </a:lnTo>
                <a:lnTo>
                  <a:pt x="76200" y="7620"/>
                </a:lnTo>
                <a:lnTo>
                  <a:pt x="76200" y="7620"/>
                </a:lnTo>
                <a:lnTo>
                  <a:pt x="68580" y="15240"/>
                </a:lnTo>
                <a:lnTo>
                  <a:pt x="68580" y="22860"/>
                </a:lnTo>
                <a:lnTo>
                  <a:pt x="60960" y="30480"/>
                </a:lnTo>
                <a:lnTo>
                  <a:pt x="53340" y="38100"/>
                </a:lnTo>
                <a:lnTo>
                  <a:pt x="45720" y="45720"/>
                </a:lnTo>
                <a:lnTo>
                  <a:pt x="45720" y="53340"/>
                </a:lnTo>
                <a:lnTo>
                  <a:pt x="38100" y="60960"/>
                </a:lnTo>
                <a:lnTo>
                  <a:pt x="30480" y="68580"/>
                </a:lnTo>
                <a:lnTo>
                  <a:pt x="22860" y="76200"/>
                </a:lnTo>
                <a:lnTo>
                  <a:pt x="22860" y="76200"/>
                </a:lnTo>
                <a:lnTo>
                  <a:pt x="15240" y="83820"/>
                </a:lnTo>
                <a:lnTo>
                  <a:pt x="15240" y="91440"/>
                </a:lnTo>
                <a:lnTo>
                  <a:pt x="7620" y="91440"/>
                </a:lnTo>
                <a:lnTo>
                  <a:pt x="7620" y="91440"/>
                </a:lnTo>
                <a:lnTo>
                  <a:pt x="0" y="91440"/>
                </a:lnTo>
                <a:lnTo>
                  <a:pt x="0" y="91440"/>
                </a:lnTo>
                <a:lnTo>
                  <a:pt x="0" y="99060"/>
                </a:lnTo>
                <a:lnTo>
                  <a:pt x="0" y="99060"/>
                </a:lnTo>
                <a:lnTo>
                  <a:pt x="0" y="99060"/>
                </a:lnTo>
                <a:lnTo>
                  <a:pt x="7620" y="91440"/>
                </a:lnTo>
                <a:lnTo>
                  <a:pt x="7620" y="91440"/>
                </a:lnTo>
                <a:lnTo>
                  <a:pt x="15240" y="91440"/>
                </a:lnTo>
                <a:lnTo>
                  <a:pt x="22860" y="83820"/>
                </a:lnTo>
                <a:lnTo>
                  <a:pt x="30480" y="83820"/>
                </a:lnTo>
                <a:lnTo>
                  <a:pt x="38100" y="76200"/>
                </a:lnTo>
                <a:lnTo>
                  <a:pt x="53340" y="76200"/>
                </a:lnTo>
                <a:lnTo>
                  <a:pt x="68580" y="76200"/>
                </a:lnTo>
                <a:lnTo>
                  <a:pt x="76200" y="76200"/>
                </a:lnTo>
                <a:lnTo>
                  <a:pt x="91440" y="76200"/>
                </a:lnTo>
                <a:lnTo>
                  <a:pt x="99060" y="76200"/>
                </a:lnTo>
                <a:lnTo>
                  <a:pt x="114300" y="76200"/>
                </a:lnTo>
                <a:lnTo>
                  <a:pt x="129540" y="76200"/>
                </a:lnTo>
                <a:lnTo>
                  <a:pt x="137160" y="83820"/>
                </a:lnTo>
                <a:lnTo>
                  <a:pt x="144780" y="91440"/>
                </a:lnTo>
                <a:lnTo>
                  <a:pt x="160020" y="91440"/>
                </a:lnTo>
                <a:lnTo>
                  <a:pt x="167640" y="99060"/>
                </a:lnTo>
                <a:lnTo>
                  <a:pt x="175260" y="106680"/>
                </a:lnTo>
                <a:lnTo>
                  <a:pt x="182880" y="106680"/>
                </a:lnTo>
                <a:lnTo>
                  <a:pt x="190500" y="114300"/>
                </a:lnTo>
                <a:lnTo>
                  <a:pt x="190500" y="121920"/>
                </a:lnTo>
                <a:lnTo>
                  <a:pt x="198120" y="129540"/>
                </a:lnTo>
                <a:lnTo>
                  <a:pt x="198120" y="137160"/>
                </a:lnTo>
                <a:lnTo>
                  <a:pt x="198120" y="144780"/>
                </a:lnTo>
                <a:lnTo>
                  <a:pt x="205740" y="152400"/>
                </a:lnTo>
                <a:lnTo>
                  <a:pt x="205740" y="160020"/>
                </a:lnTo>
                <a:lnTo>
                  <a:pt x="205740" y="1600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Freeform 6151"/>
          <p:cNvSpPr/>
          <p:nvPr/>
        </p:nvSpPr>
        <p:spPr>
          <a:xfrm>
            <a:off x="2865600" y="2155680"/>
            <a:ext cx="1157040" cy="2210040"/>
          </a:xfrm>
          <a:custGeom>
            <a:avLst/>
            <a:gdLst>
              <a:gd name="textAreaLeft" fmla="*/ 0 w 1157040"/>
              <a:gd name="textAreaRight" fmla="*/ 1157400 w 1157040"/>
              <a:gd name="textAreaTop" fmla="*/ 0 h 2210040"/>
              <a:gd name="textAreaBottom" fmla="*/ 2210400 h 2210040"/>
            </a:gdLst>
            <a:ahLst/>
            <a:rect l="textAreaLeft" t="textAreaTop" r="textAreaRight" b="textAreaBottom"/>
            <a:pathLst>
              <a:path w="1158241" h="2209801">
                <a:moveTo>
                  <a:pt x="7620" y="7620"/>
                </a:moveTo>
                <a:lnTo>
                  <a:pt x="7620" y="0"/>
                </a:lnTo>
                <a:lnTo>
                  <a:pt x="0" y="0"/>
                </a:lnTo>
                <a:lnTo>
                  <a:pt x="0" y="0"/>
                </a:lnTo>
                <a:lnTo>
                  <a:pt x="7620" y="0"/>
                </a:lnTo>
                <a:lnTo>
                  <a:pt x="7620" y="0"/>
                </a:lnTo>
                <a:lnTo>
                  <a:pt x="15240" y="0"/>
                </a:lnTo>
                <a:lnTo>
                  <a:pt x="22860" y="0"/>
                </a:lnTo>
                <a:lnTo>
                  <a:pt x="38100" y="0"/>
                </a:lnTo>
                <a:lnTo>
                  <a:pt x="53340" y="7620"/>
                </a:lnTo>
                <a:lnTo>
                  <a:pt x="60960" y="7620"/>
                </a:lnTo>
                <a:lnTo>
                  <a:pt x="76200" y="15240"/>
                </a:lnTo>
                <a:lnTo>
                  <a:pt x="91440" y="22860"/>
                </a:lnTo>
                <a:lnTo>
                  <a:pt x="106680" y="30480"/>
                </a:lnTo>
                <a:lnTo>
                  <a:pt x="121920" y="38100"/>
                </a:lnTo>
                <a:lnTo>
                  <a:pt x="144780" y="53340"/>
                </a:lnTo>
                <a:lnTo>
                  <a:pt x="160020" y="60960"/>
                </a:lnTo>
                <a:lnTo>
                  <a:pt x="175260" y="76200"/>
                </a:lnTo>
                <a:lnTo>
                  <a:pt x="198120" y="83820"/>
                </a:lnTo>
                <a:lnTo>
                  <a:pt x="213360" y="106680"/>
                </a:lnTo>
                <a:lnTo>
                  <a:pt x="228600" y="121920"/>
                </a:lnTo>
                <a:lnTo>
                  <a:pt x="251460" y="137160"/>
                </a:lnTo>
                <a:lnTo>
                  <a:pt x="274320" y="152400"/>
                </a:lnTo>
                <a:lnTo>
                  <a:pt x="297180" y="175260"/>
                </a:lnTo>
                <a:lnTo>
                  <a:pt x="320040" y="190500"/>
                </a:lnTo>
                <a:lnTo>
                  <a:pt x="342900" y="213360"/>
                </a:lnTo>
                <a:lnTo>
                  <a:pt x="365760" y="236220"/>
                </a:lnTo>
                <a:lnTo>
                  <a:pt x="388620" y="259080"/>
                </a:lnTo>
                <a:lnTo>
                  <a:pt x="411480" y="281940"/>
                </a:lnTo>
                <a:lnTo>
                  <a:pt x="434340" y="304800"/>
                </a:lnTo>
                <a:lnTo>
                  <a:pt x="457200" y="327660"/>
                </a:lnTo>
                <a:lnTo>
                  <a:pt x="487680" y="358140"/>
                </a:lnTo>
                <a:lnTo>
                  <a:pt x="510540" y="381000"/>
                </a:lnTo>
                <a:lnTo>
                  <a:pt x="533400" y="411480"/>
                </a:lnTo>
                <a:lnTo>
                  <a:pt x="556260" y="441960"/>
                </a:lnTo>
                <a:lnTo>
                  <a:pt x="579120" y="464820"/>
                </a:lnTo>
                <a:lnTo>
                  <a:pt x="601980" y="495300"/>
                </a:lnTo>
                <a:lnTo>
                  <a:pt x="632460" y="525780"/>
                </a:lnTo>
                <a:lnTo>
                  <a:pt x="655320" y="556260"/>
                </a:lnTo>
                <a:lnTo>
                  <a:pt x="678180" y="586740"/>
                </a:lnTo>
                <a:lnTo>
                  <a:pt x="701040" y="617220"/>
                </a:lnTo>
                <a:lnTo>
                  <a:pt x="723900" y="647700"/>
                </a:lnTo>
                <a:lnTo>
                  <a:pt x="746760" y="678180"/>
                </a:lnTo>
                <a:lnTo>
                  <a:pt x="777240" y="716280"/>
                </a:lnTo>
                <a:lnTo>
                  <a:pt x="800100" y="746760"/>
                </a:lnTo>
                <a:lnTo>
                  <a:pt x="822960" y="777240"/>
                </a:lnTo>
                <a:lnTo>
                  <a:pt x="845820" y="815340"/>
                </a:lnTo>
                <a:lnTo>
                  <a:pt x="868680" y="845820"/>
                </a:lnTo>
                <a:lnTo>
                  <a:pt x="891540" y="883920"/>
                </a:lnTo>
                <a:lnTo>
                  <a:pt x="914400" y="914400"/>
                </a:lnTo>
                <a:lnTo>
                  <a:pt x="937260" y="944880"/>
                </a:lnTo>
                <a:lnTo>
                  <a:pt x="960120" y="975360"/>
                </a:lnTo>
                <a:lnTo>
                  <a:pt x="982980" y="1013460"/>
                </a:lnTo>
                <a:lnTo>
                  <a:pt x="998220" y="1043940"/>
                </a:lnTo>
                <a:lnTo>
                  <a:pt x="1021080" y="1074420"/>
                </a:lnTo>
                <a:lnTo>
                  <a:pt x="1036320" y="1104900"/>
                </a:lnTo>
                <a:lnTo>
                  <a:pt x="1051560" y="1135380"/>
                </a:lnTo>
                <a:lnTo>
                  <a:pt x="1066800" y="1165860"/>
                </a:lnTo>
                <a:lnTo>
                  <a:pt x="1082040" y="1196340"/>
                </a:lnTo>
                <a:lnTo>
                  <a:pt x="1089660" y="1226820"/>
                </a:lnTo>
                <a:lnTo>
                  <a:pt x="1104900" y="1257300"/>
                </a:lnTo>
                <a:lnTo>
                  <a:pt x="1120140" y="1280160"/>
                </a:lnTo>
                <a:lnTo>
                  <a:pt x="1127760" y="1310640"/>
                </a:lnTo>
                <a:lnTo>
                  <a:pt x="1135380" y="1341120"/>
                </a:lnTo>
                <a:lnTo>
                  <a:pt x="1143000" y="1363980"/>
                </a:lnTo>
                <a:lnTo>
                  <a:pt x="1143000" y="1386840"/>
                </a:lnTo>
                <a:lnTo>
                  <a:pt x="1150620" y="1409700"/>
                </a:lnTo>
                <a:lnTo>
                  <a:pt x="1150620" y="1432560"/>
                </a:lnTo>
                <a:lnTo>
                  <a:pt x="1158240" y="1463040"/>
                </a:lnTo>
                <a:lnTo>
                  <a:pt x="1158240" y="1485900"/>
                </a:lnTo>
                <a:lnTo>
                  <a:pt x="1150620" y="1501140"/>
                </a:lnTo>
                <a:lnTo>
                  <a:pt x="1150620" y="1524000"/>
                </a:lnTo>
                <a:lnTo>
                  <a:pt x="1143000" y="1546860"/>
                </a:lnTo>
                <a:lnTo>
                  <a:pt x="1143000" y="1562100"/>
                </a:lnTo>
                <a:lnTo>
                  <a:pt x="1127760" y="1577340"/>
                </a:lnTo>
                <a:lnTo>
                  <a:pt x="1120140" y="1600200"/>
                </a:lnTo>
                <a:lnTo>
                  <a:pt x="1104900" y="1615440"/>
                </a:lnTo>
                <a:lnTo>
                  <a:pt x="1089660" y="1623060"/>
                </a:lnTo>
                <a:lnTo>
                  <a:pt x="1074420" y="1638300"/>
                </a:lnTo>
                <a:lnTo>
                  <a:pt x="1051560" y="1653540"/>
                </a:lnTo>
                <a:lnTo>
                  <a:pt x="1036320" y="1668780"/>
                </a:lnTo>
                <a:lnTo>
                  <a:pt x="1021080" y="1684020"/>
                </a:lnTo>
                <a:lnTo>
                  <a:pt x="998220" y="1699260"/>
                </a:lnTo>
                <a:lnTo>
                  <a:pt x="982980" y="1714500"/>
                </a:lnTo>
                <a:lnTo>
                  <a:pt x="960120" y="1729740"/>
                </a:lnTo>
                <a:lnTo>
                  <a:pt x="944880" y="1744980"/>
                </a:lnTo>
                <a:lnTo>
                  <a:pt x="929640" y="1760220"/>
                </a:lnTo>
                <a:lnTo>
                  <a:pt x="914400" y="1775460"/>
                </a:lnTo>
                <a:lnTo>
                  <a:pt x="899160" y="1790700"/>
                </a:lnTo>
                <a:lnTo>
                  <a:pt x="883920" y="1805940"/>
                </a:lnTo>
                <a:lnTo>
                  <a:pt x="876300" y="1828800"/>
                </a:lnTo>
                <a:lnTo>
                  <a:pt x="861060" y="1844040"/>
                </a:lnTo>
                <a:lnTo>
                  <a:pt x="853440" y="1866900"/>
                </a:lnTo>
                <a:lnTo>
                  <a:pt x="845820" y="1889760"/>
                </a:lnTo>
                <a:lnTo>
                  <a:pt x="845820" y="1905000"/>
                </a:lnTo>
                <a:lnTo>
                  <a:pt x="838200" y="1920240"/>
                </a:lnTo>
                <a:lnTo>
                  <a:pt x="838200" y="1943100"/>
                </a:lnTo>
                <a:lnTo>
                  <a:pt x="838200" y="1965960"/>
                </a:lnTo>
                <a:lnTo>
                  <a:pt x="838200" y="1981200"/>
                </a:lnTo>
                <a:lnTo>
                  <a:pt x="838200" y="2004060"/>
                </a:lnTo>
                <a:lnTo>
                  <a:pt x="845820" y="2019300"/>
                </a:lnTo>
                <a:lnTo>
                  <a:pt x="845820" y="2042160"/>
                </a:lnTo>
                <a:lnTo>
                  <a:pt x="853440" y="2057400"/>
                </a:lnTo>
                <a:lnTo>
                  <a:pt x="861060" y="2072640"/>
                </a:lnTo>
                <a:lnTo>
                  <a:pt x="868680" y="2095500"/>
                </a:lnTo>
                <a:lnTo>
                  <a:pt x="876300" y="2110740"/>
                </a:lnTo>
                <a:lnTo>
                  <a:pt x="883920" y="2125980"/>
                </a:lnTo>
                <a:lnTo>
                  <a:pt x="891540" y="2133600"/>
                </a:lnTo>
                <a:lnTo>
                  <a:pt x="906780" y="2148840"/>
                </a:lnTo>
                <a:lnTo>
                  <a:pt x="914400" y="2156460"/>
                </a:lnTo>
                <a:lnTo>
                  <a:pt x="922020" y="2164080"/>
                </a:lnTo>
                <a:lnTo>
                  <a:pt x="929640" y="2171700"/>
                </a:lnTo>
                <a:lnTo>
                  <a:pt x="937260" y="2186940"/>
                </a:lnTo>
                <a:lnTo>
                  <a:pt x="937260" y="2186940"/>
                </a:lnTo>
                <a:lnTo>
                  <a:pt x="944880" y="2194560"/>
                </a:lnTo>
                <a:lnTo>
                  <a:pt x="944880" y="2202180"/>
                </a:lnTo>
                <a:lnTo>
                  <a:pt x="944880" y="2202180"/>
                </a:lnTo>
                <a:lnTo>
                  <a:pt x="944880" y="2202180"/>
                </a:lnTo>
                <a:lnTo>
                  <a:pt x="952500" y="2209800"/>
                </a:lnTo>
                <a:lnTo>
                  <a:pt x="952500" y="2209800"/>
                </a:lnTo>
                <a:lnTo>
                  <a:pt x="952500" y="2209800"/>
                </a:lnTo>
                <a:lnTo>
                  <a:pt x="952500" y="2209800"/>
                </a:lnTo>
                <a:lnTo>
                  <a:pt x="952500" y="2209800"/>
                </a:lnTo>
                <a:lnTo>
                  <a:pt x="952500" y="2209800"/>
                </a:lnTo>
                <a:lnTo>
                  <a:pt x="952500" y="2209800"/>
                </a:lnTo>
                <a:lnTo>
                  <a:pt x="952500" y="2209800"/>
                </a:lnTo>
                <a:lnTo>
                  <a:pt x="952500" y="2209800"/>
                </a:lnTo>
                <a:lnTo>
                  <a:pt x="952500" y="2209800"/>
                </a:lnTo>
                <a:lnTo>
                  <a:pt x="952500" y="2209800"/>
                </a:lnTo>
                <a:lnTo>
                  <a:pt x="952500" y="22098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Freeform 6152"/>
          <p:cNvSpPr/>
          <p:nvPr/>
        </p:nvSpPr>
        <p:spPr>
          <a:xfrm>
            <a:off x="3794040" y="4282920"/>
            <a:ext cx="114480" cy="136800"/>
          </a:xfrm>
          <a:custGeom>
            <a:avLst/>
            <a:gdLst>
              <a:gd name="textAreaLeft" fmla="*/ 0 w 114480"/>
              <a:gd name="textAreaRight" fmla="*/ 114840 w 114480"/>
              <a:gd name="textAreaTop" fmla="*/ 0 h 136800"/>
              <a:gd name="textAreaBottom" fmla="*/ 137160 h 136800"/>
            </a:gdLst>
            <a:ahLst/>
            <a:rect l="textAreaLeft" t="textAreaTop" r="textAreaRight" b="textAreaBottom"/>
            <a:pathLst>
              <a:path w="114301" h="137161">
                <a:moveTo>
                  <a:pt x="76200" y="0"/>
                </a:moveTo>
                <a:lnTo>
                  <a:pt x="76200" y="0"/>
                </a:lnTo>
                <a:lnTo>
                  <a:pt x="76200" y="0"/>
                </a:lnTo>
                <a:lnTo>
                  <a:pt x="76200" y="0"/>
                </a:lnTo>
                <a:lnTo>
                  <a:pt x="76200" y="7620"/>
                </a:lnTo>
                <a:lnTo>
                  <a:pt x="76200" y="7620"/>
                </a:lnTo>
                <a:lnTo>
                  <a:pt x="76200" y="7620"/>
                </a:lnTo>
                <a:lnTo>
                  <a:pt x="76200" y="7620"/>
                </a:lnTo>
                <a:lnTo>
                  <a:pt x="76200" y="7620"/>
                </a:lnTo>
                <a:lnTo>
                  <a:pt x="76200" y="15240"/>
                </a:lnTo>
                <a:lnTo>
                  <a:pt x="76200" y="15240"/>
                </a:lnTo>
                <a:lnTo>
                  <a:pt x="68580" y="22860"/>
                </a:lnTo>
                <a:lnTo>
                  <a:pt x="68580" y="30480"/>
                </a:lnTo>
                <a:lnTo>
                  <a:pt x="68580" y="30480"/>
                </a:lnTo>
                <a:lnTo>
                  <a:pt x="68580" y="38100"/>
                </a:lnTo>
                <a:lnTo>
                  <a:pt x="60960" y="45720"/>
                </a:lnTo>
                <a:lnTo>
                  <a:pt x="60960" y="53340"/>
                </a:lnTo>
                <a:lnTo>
                  <a:pt x="53340" y="60960"/>
                </a:lnTo>
                <a:lnTo>
                  <a:pt x="53340" y="68580"/>
                </a:lnTo>
                <a:lnTo>
                  <a:pt x="53340" y="76200"/>
                </a:lnTo>
                <a:lnTo>
                  <a:pt x="45720" y="83820"/>
                </a:lnTo>
                <a:lnTo>
                  <a:pt x="45720" y="91440"/>
                </a:lnTo>
                <a:lnTo>
                  <a:pt x="45720" y="99060"/>
                </a:lnTo>
                <a:lnTo>
                  <a:pt x="38100" y="106680"/>
                </a:lnTo>
                <a:lnTo>
                  <a:pt x="38100" y="114300"/>
                </a:lnTo>
                <a:lnTo>
                  <a:pt x="30480" y="121920"/>
                </a:lnTo>
                <a:lnTo>
                  <a:pt x="30480" y="121920"/>
                </a:lnTo>
                <a:lnTo>
                  <a:pt x="30480" y="129540"/>
                </a:lnTo>
                <a:lnTo>
                  <a:pt x="22860" y="129540"/>
                </a:lnTo>
                <a:lnTo>
                  <a:pt x="22860" y="137160"/>
                </a:lnTo>
                <a:lnTo>
                  <a:pt x="22860" y="137160"/>
                </a:lnTo>
                <a:lnTo>
                  <a:pt x="22860" y="137160"/>
                </a:lnTo>
                <a:lnTo>
                  <a:pt x="22860" y="137160"/>
                </a:lnTo>
                <a:lnTo>
                  <a:pt x="22860" y="137160"/>
                </a:lnTo>
                <a:lnTo>
                  <a:pt x="15240" y="137160"/>
                </a:lnTo>
                <a:lnTo>
                  <a:pt x="15240" y="137160"/>
                </a:lnTo>
                <a:lnTo>
                  <a:pt x="15240" y="137160"/>
                </a:lnTo>
                <a:lnTo>
                  <a:pt x="15240" y="129540"/>
                </a:lnTo>
                <a:lnTo>
                  <a:pt x="7620" y="129540"/>
                </a:lnTo>
                <a:lnTo>
                  <a:pt x="7620" y="121920"/>
                </a:lnTo>
                <a:lnTo>
                  <a:pt x="0" y="121920"/>
                </a:lnTo>
                <a:lnTo>
                  <a:pt x="0" y="114300"/>
                </a:lnTo>
                <a:lnTo>
                  <a:pt x="0" y="106680"/>
                </a:lnTo>
                <a:lnTo>
                  <a:pt x="0" y="99060"/>
                </a:lnTo>
                <a:lnTo>
                  <a:pt x="0" y="99060"/>
                </a:lnTo>
                <a:lnTo>
                  <a:pt x="0" y="91440"/>
                </a:lnTo>
                <a:lnTo>
                  <a:pt x="0" y="91440"/>
                </a:lnTo>
                <a:lnTo>
                  <a:pt x="0" y="83820"/>
                </a:lnTo>
                <a:lnTo>
                  <a:pt x="0" y="76200"/>
                </a:lnTo>
                <a:lnTo>
                  <a:pt x="0" y="68580"/>
                </a:lnTo>
                <a:lnTo>
                  <a:pt x="7620" y="68580"/>
                </a:lnTo>
                <a:lnTo>
                  <a:pt x="15240" y="60960"/>
                </a:lnTo>
                <a:lnTo>
                  <a:pt x="15240" y="60960"/>
                </a:lnTo>
                <a:lnTo>
                  <a:pt x="22860" y="53340"/>
                </a:lnTo>
                <a:lnTo>
                  <a:pt x="30480" y="45720"/>
                </a:lnTo>
                <a:lnTo>
                  <a:pt x="30480" y="45720"/>
                </a:lnTo>
                <a:lnTo>
                  <a:pt x="38100" y="38100"/>
                </a:lnTo>
                <a:lnTo>
                  <a:pt x="45720" y="38100"/>
                </a:lnTo>
                <a:lnTo>
                  <a:pt x="53340" y="30480"/>
                </a:lnTo>
                <a:lnTo>
                  <a:pt x="53340" y="30480"/>
                </a:lnTo>
                <a:lnTo>
                  <a:pt x="60960" y="22860"/>
                </a:lnTo>
                <a:lnTo>
                  <a:pt x="68580" y="22860"/>
                </a:lnTo>
                <a:lnTo>
                  <a:pt x="68580" y="22860"/>
                </a:lnTo>
                <a:lnTo>
                  <a:pt x="76200" y="22860"/>
                </a:lnTo>
                <a:lnTo>
                  <a:pt x="83820" y="22860"/>
                </a:lnTo>
                <a:lnTo>
                  <a:pt x="91440" y="22860"/>
                </a:lnTo>
                <a:lnTo>
                  <a:pt x="91440" y="22860"/>
                </a:lnTo>
                <a:lnTo>
                  <a:pt x="99060" y="22860"/>
                </a:lnTo>
                <a:lnTo>
                  <a:pt x="99060" y="22860"/>
                </a:lnTo>
                <a:lnTo>
                  <a:pt x="106680" y="22860"/>
                </a:lnTo>
                <a:lnTo>
                  <a:pt x="106680" y="30480"/>
                </a:lnTo>
                <a:lnTo>
                  <a:pt x="106680" y="30480"/>
                </a:lnTo>
                <a:lnTo>
                  <a:pt x="114300" y="30480"/>
                </a:lnTo>
                <a:lnTo>
                  <a:pt x="114300" y="30480"/>
                </a:lnTo>
                <a:lnTo>
                  <a:pt x="114300" y="30480"/>
                </a:lnTo>
                <a:lnTo>
                  <a:pt x="114300" y="304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Freeform 6153"/>
          <p:cNvSpPr/>
          <p:nvPr/>
        </p:nvSpPr>
        <p:spPr>
          <a:xfrm>
            <a:off x="4183200" y="1074600"/>
            <a:ext cx="625320" cy="281160"/>
          </a:xfrm>
          <a:custGeom>
            <a:avLst/>
            <a:gdLst>
              <a:gd name="textAreaLeft" fmla="*/ 0 w 625320"/>
              <a:gd name="textAreaRight" fmla="*/ 625680 w 62532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624841" h="281941">
                <a:moveTo>
                  <a:pt x="0" y="137160"/>
                </a:moveTo>
                <a:lnTo>
                  <a:pt x="0" y="137160"/>
                </a:lnTo>
                <a:lnTo>
                  <a:pt x="0" y="129540"/>
                </a:lnTo>
                <a:lnTo>
                  <a:pt x="0" y="129540"/>
                </a:lnTo>
                <a:lnTo>
                  <a:pt x="0" y="129540"/>
                </a:lnTo>
                <a:lnTo>
                  <a:pt x="7620" y="129540"/>
                </a:lnTo>
                <a:lnTo>
                  <a:pt x="7620" y="129540"/>
                </a:lnTo>
                <a:lnTo>
                  <a:pt x="15240" y="129540"/>
                </a:lnTo>
                <a:lnTo>
                  <a:pt x="15240" y="121920"/>
                </a:lnTo>
                <a:lnTo>
                  <a:pt x="22860" y="121920"/>
                </a:lnTo>
                <a:lnTo>
                  <a:pt x="30480" y="121920"/>
                </a:lnTo>
                <a:lnTo>
                  <a:pt x="38100" y="121920"/>
                </a:lnTo>
                <a:lnTo>
                  <a:pt x="45720" y="121920"/>
                </a:lnTo>
                <a:lnTo>
                  <a:pt x="53340" y="121920"/>
                </a:lnTo>
                <a:lnTo>
                  <a:pt x="60960" y="129540"/>
                </a:lnTo>
                <a:lnTo>
                  <a:pt x="68580" y="129540"/>
                </a:lnTo>
                <a:lnTo>
                  <a:pt x="83820" y="129540"/>
                </a:lnTo>
                <a:lnTo>
                  <a:pt x="91440" y="129540"/>
                </a:lnTo>
                <a:lnTo>
                  <a:pt x="99060" y="137160"/>
                </a:lnTo>
                <a:lnTo>
                  <a:pt x="106680" y="137160"/>
                </a:lnTo>
                <a:lnTo>
                  <a:pt x="121920" y="137160"/>
                </a:lnTo>
                <a:lnTo>
                  <a:pt x="129540" y="144780"/>
                </a:lnTo>
                <a:lnTo>
                  <a:pt x="137160" y="152400"/>
                </a:lnTo>
                <a:lnTo>
                  <a:pt x="144780" y="152400"/>
                </a:lnTo>
                <a:lnTo>
                  <a:pt x="152400" y="160020"/>
                </a:lnTo>
                <a:lnTo>
                  <a:pt x="160020" y="160020"/>
                </a:lnTo>
                <a:lnTo>
                  <a:pt x="160020" y="167640"/>
                </a:lnTo>
                <a:lnTo>
                  <a:pt x="167640" y="175260"/>
                </a:lnTo>
                <a:lnTo>
                  <a:pt x="167640" y="182880"/>
                </a:lnTo>
                <a:lnTo>
                  <a:pt x="167640" y="190500"/>
                </a:lnTo>
                <a:lnTo>
                  <a:pt x="167640" y="190500"/>
                </a:lnTo>
                <a:lnTo>
                  <a:pt x="167640" y="205740"/>
                </a:lnTo>
                <a:lnTo>
                  <a:pt x="167640" y="205740"/>
                </a:lnTo>
                <a:lnTo>
                  <a:pt x="167640" y="220980"/>
                </a:lnTo>
                <a:lnTo>
                  <a:pt x="160020" y="228600"/>
                </a:lnTo>
                <a:lnTo>
                  <a:pt x="152400" y="236220"/>
                </a:lnTo>
                <a:lnTo>
                  <a:pt x="152400" y="243840"/>
                </a:lnTo>
                <a:lnTo>
                  <a:pt x="144780" y="251460"/>
                </a:lnTo>
                <a:lnTo>
                  <a:pt x="137160" y="259080"/>
                </a:lnTo>
                <a:lnTo>
                  <a:pt x="129540" y="266700"/>
                </a:lnTo>
                <a:lnTo>
                  <a:pt x="121920" y="266700"/>
                </a:lnTo>
                <a:lnTo>
                  <a:pt x="121920" y="274320"/>
                </a:lnTo>
                <a:lnTo>
                  <a:pt x="121920" y="274320"/>
                </a:lnTo>
                <a:lnTo>
                  <a:pt x="114300" y="274320"/>
                </a:lnTo>
                <a:lnTo>
                  <a:pt x="114300" y="274320"/>
                </a:lnTo>
                <a:lnTo>
                  <a:pt x="114300" y="281940"/>
                </a:lnTo>
                <a:lnTo>
                  <a:pt x="114300" y="281940"/>
                </a:lnTo>
                <a:lnTo>
                  <a:pt x="114300" y="274320"/>
                </a:lnTo>
                <a:lnTo>
                  <a:pt x="114300" y="274320"/>
                </a:lnTo>
                <a:lnTo>
                  <a:pt x="114300" y="266700"/>
                </a:lnTo>
                <a:lnTo>
                  <a:pt x="121920" y="266700"/>
                </a:lnTo>
                <a:lnTo>
                  <a:pt x="121920" y="259080"/>
                </a:lnTo>
                <a:lnTo>
                  <a:pt x="129540" y="251460"/>
                </a:lnTo>
                <a:lnTo>
                  <a:pt x="129540" y="243840"/>
                </a:lnTo>
                <a:lnTo>
                  <a:pt x="137160" y="228600"/>
                </a:lnTo>
                <a:lnTo>
                  <a:pt x="137160" y="220980"/>
                </a:lnTo>
                <a:lnTo>
                  <a:pt x="144780" y="205740"/>
                </a:lnTo>
                <a:lnTo>
                  <a:pt x="144780" y="198120"/>
                </a:lnTo>
                <a:lnTo>
                  <a:pt x="152400" y="190500"/>
                </a:lnTo>
                <a:lnTo>
                  <a:pt x="152400" y="175260"/>
                </a:lnTo>
                <a:lnTo>
                  <a:pt x="152400" y="167640"/>
                </a:lnTo>
                <a:lnTo>
                  <a:pt x="160020" y="152400"/>
                </a:lnTo>
                <a:lnTo>
                  <a:pt x="160020" y="144780"/>
                </a:lnTo>
                <a:lnTo>
                  <a:pt x="160020" y="137160"/>
                </a:lnTo>
                <a:lnTo>
                  <a:pt x="167640" y="121920"/>
                </a:lnTo>
                <a:lnTo>
                  <a:pt x="167640" y="114300"/>
                </a:lnTo>
                <a:lnTo>
                  <a:pt x="167640" y="106680"/>
                </a:lnTo>
                <a:lnTo>
                  <a:pt x="167640" y="99060"/>
                </a:lnTo>
                <a:lnTo>
                  <a:pt x="167640" y="91440"/>
                </a:lnTo>
                <a:lnTo>
                  <a:pt x="175260" y="83820"/>
                </a:lnTo>
                <a:lnTo>
                  <a:pt x="175260" y="76200"/>
                </a:lnTo>
                <a:lnTo>
                  <a:pt x="175260" y="76200"/>
                </a:lnTo>
                <a:lnTo>
                  <a:pt x="175260" y="68580"/>
                </a:lnTo>
                <a:lnTo>
                  <a:pt x="182880" y="68580"/>
                </a:lnTo>
                <a:lnTo>
                  <a:pt x="182880" y="68580"/>
                </a:lnTo>
                <a:lnTo>
                  <a:pt x="190500" y="60960"/>
                </a:lnTo>
                <a:lnTo>
                  <a:pt x="190500" y="60960"/>
                </a:lnTo>
                <a:lnTo>
                  <a:pt x="198120" y="60960"/>
                </a:lnTo>
                <a:lnTo>
                  <a:pt x="205740" y="53340"/>
                </a:lnTo>
                <a:lnTo>
                  <a:pt x="205740" y="53340"/>
                </a:lnTo>
                <a:lnTo>
                  <a:pt x="213360" y="53340"/>
                </a:lnTo>
                <a:lnTo>
                  <a:pt x="220980" y="53340"/>
                </a:lnTo>
                <a:lnTo>
                  <a:pt x="228600" y="53340"/>
                </a:lnTo>
                <a:lnTo>
                  <a:pt x="236220" y="45720"/>
                </a:lnTo>
                <a:lnTo>
                  <a:pt x="251460" y="45720"/>
                </a:lnTo>
                <a:lnTo>
                  <a:pt x="259080" y="45720"/>
                </a:lnTo>
                <a:lnTo>
                  <a:pt x="266700" y="38100"/>
                </a:lnTo>
                <a:lnTo>
                  <a:pt x="281940" y="38100"/>
                </a:lnTo>
                <a:lnTo>
                  <a:pt x="304800" y="38100"/>
                </a:lnTo>
                <a:lnTo>
                  <a:pt x="320040" y="30480"/>
                </a:lnTo>
                <a:lnTo>
                  <a:pt x="342900" y="30480"/>
                </a:lnTo>
                <a:lnTo>
                  <a:pt x="358140" y="22860"/>
                </a:lnTo>
                <a:lnTo>
                  <a:pt x="388620" y="22860"/>
                </a:lnTo>
                <a:lnTo>
                  <a:pt x="411480" y="15240"/>
                </a:lnTo>
                <a:lnTo>
                  <a:pt x="434340" y="15240"/>
                </a:lnTo>
                <a:lnTo>
                  <a:pt x="464820" y="15240"/>
                </a:lnTo>
                <a:lnTo>
                  <a:pt x="487680" y="7620"/>
                </a:lnTo>
                <a:lnTo>
                  <a:pt x="510540" y="7620"/>
                </a:lnTo>
                <a:lnTo>
                  <a:pt x="541020" y="7620"/>
                </a:lnTo>
                <a:lnTo>
                  <a:pt x="563880" y="7620"/>
                </a:lnTo>
                <a:lnTo>
                  <a:pt x="586740" y="7620"/>
                </a:lnTo>
                <a:lnTo>
                  <a:pt x="624840" y="0"/>
                </a:lnTo>
                <a:lnTo>
                  <a:pt x="62484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Freeform 6154"/>
          <p:cNvSpPr/>
          <p:nvPr/>
        </p:nvSpPr>
        <p:spPr>
          <a:xfrm>
            <a:off x="4449600" y="1143000"/>
            <a:ext cx="182880" cy="168120"/>
          </a:xfrm>
          <a:custGeom>
            <a:avLst/>
            <a:gdLst>
              <a:gd name="textAreaLeft" fmla="*/ 0 w 182880"/>
              <a:gd name="textAreaRight" fmla="*/ 183240 w 18288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82881" h="167641">
                <a:moveTo>
                  <a:pt x="7620" y="38100"/>
                </a:moveTo>
                <a:lnTo>
                  <a:pt x="0" y="38100"/>
                </a:lnTo>
                <a:lnTo>
                  <a:pt x="0" y="38100"/>
                </a:lnTo>
                <a:lnTo>
                  <a:pt x="0" y="38100"/>
                </a:lnTo>
                <a:lnTo>
                  <a:pt x="0" y="30480"/>
                </a:lnTo>
                <a:lnTo>
                  <a:pt x="0" y="30480"/>
                </a:lnTo>
                <a:lnTo>
                  <a:pt x="0" y="30480"/>
                </a:lnTo>
                <a:lnTo>
                  <a:pt x="0" y="22860"/>
                </a:lnTo>
                <a:lnTo>
                  <a:pt x="7620" y="22860"/>
                </a:lnTo>
                <a:lnTo>
                  <a:pt x="7620" y="22860"/>
                </a:lnTo>
                <a:lnTo>
                  <a:pt x="15240" y="15240"/>
                </a:lnTo>
                <a:lnTo>
                  <a:pt x="22860" y="15240"/>
                </a:lnTo>
                <a:lnTo>
                  <a:pt x="30480" y="15240"/>
                </a:lnTo>
                <a:lnTo>
                  <a:pt x="45720" y="7620"/>
                </a:lnTo>
                <a:lnTo>
                  <a:pt x="53340" y="7620"/>
                </a:lnTo>
                <a:lnTo>
                  <a:pt x="68580" y="7620"/>
                </a:lnTo>
                <a:lnTo>
                  <a:pt x="83820" y="7620"/>
                </a:lnTo>
                <a:lnTo>
                  <a:pt x="91440" y="7620"/>
                </a:lnTo>
                <a:lnTo>
                  <a:pt x="106680" y="7620"/>
                </a:lnTo>
                <a:lnTo>
                  <a:pt x="121920" y="0"/>
                </a:lnTo>
                <a:lnTo>
                  <a:pt x="137160" y="7620"/>
                </a:lnTo>
                <a:lnTo>
                  <a:pt x="144780" y="7620"/>
                </a:lnTo>
                <a:lnTo>
                  <a:pt x="152400" y="7620"/>
                </a:lnTo>
                <a:lnTo>
                  <a:pt x="160020" y="15240"/>
                </a:lnTo>
                <a:lnTo>
                  <a:pt x="167640" y="15240"/>
                </a:lnTo>
                <a:lnTo>
                  <a:pt x="167640" y="22860"/>
                </a:lnTo>
                <a:lnTo>
                  <a:pt x="167640" y="22860"/>
                </a:lnTo>
                <a:lnTo>
                  <a:pt x="167640" y="30480"/>
                </a:lnTo>
                <a:lnTo>
                  <a:pt x="160020" y="30480"/>
                </a:lnTo>
                <a:lnTo>
                  <a:pt x="152400" y="38100"/>
                </a:lnTo>
                <a:lnTo>
                  <a:pt x="144780" y="45720"/>
                </a:lnTo>
                <a:lnTo>
                  <a:pt x="129540" y="45720"/>
                </a:lnTo>
                <a:lnTo>
                  <a:pt x="114300" y="53340"/>
                </a:lnTo>
                <a:lnTo>
                  <a:pt x="99060" y="53340"/>
                </a:lnTo>
                <a:lnTo>
                  <a:pt x="91440" y="60960"/>
                </a:lnTo>
                <a:lnTo>
                  <a:pt x="83820" y="60960"/>
                </a:lnTo>
                <a:lnTo>
                  <a:pt x="76200" y="68580"/>
                </a:lnTo>
                <a:lnTo>
                  <a:pt x="68580" y="68580"/>
                </a:lnTo>
                <a:lnTo>
                  <a:pt x="60960" y="68580"/>
                </a:lnTo>
                <a:lnTo>
                  <a:pt x="60960" y="76200"/>
                </a:lnTo>
                <a:lnTo>
                  <a:pt x="60960" y="76200"/>
                </a:lnTo>
                <a:lnTo>
                  <a:pt x="68580" y="76200"/>
                </a:lnTo>
                <a:lnTo>
                  <a:pt x="76200" y="83820"/>
                </a:lnTo>
                <a:lnTo>
                  <a:pt x="83820" y="83820"/>
                </a:lnTo>
                <a:lnTo>
                  <a:pt x="99060" y="83820"/>
                </a:lnTo>
                <a:lnTo>
                  <a:pt x="106680" y="91440"/>
                </a:lnTo>
                <a:lnTo>
                  <a:pt x="121920" y="99060"/>
                </a:lnTo>
                <a:lnTo>
                  <a:pt x="137160" y="99060"/>
                </a:lnTo>
                <a:lnTo>
                  <a:pt x="144780" y="106680"/>
                </a:lnTo>
                <a:lnTo>
                  <a:pt x="152400" y="114300"/>
                </a:lnTo>
                <a:lnTo>
                  <a:pt x="167640" y="114300"/>
                </a:lnTo>
                <a:lnTo>
                  <a:pt x="175260" y="121920"/>
                </a:lnTo>
                <a:lnTo>
                  <a:pt x="175260" y="121920"/>
                </a:lnTo>
                <a:lnTo>
                  <a:pt x="182880" y="129540"/>
                </a:lnTo>
                <a:lnTo>
                  <a:pt x="182880" y="137160"/>
                </a:lnTo>
                <a:lnTo>
                  <a:pt x="182880" y="144780"/>
                </a:lnTo>
                <a:lnTo>
                  <a:pt x="175260" y="144780"/>
                </a:lnTo>
                <a:lnTo>
                  <a:pt x="175260" y="152400"/>
                </a:lnTo>
                <a:lnTo>
                  <a:pt x="160020" y="152400"/>
                </a:lnTo>
                <a:lnTo>
                  <a:pt x="152400" y="160020"/>
                </a:lnTo>
                <a:lnTo>
                  <a:pt x="137160" y="160020"/>
                </a:lnTo>
                <a:lnTo>
                  <a:pt x="121920" y="160020"/>
                </a:lnTo>
                <a:lnTo>
                  <a:pt x="106680" y="160020"/>
                </a:lnTo>
                <a:lnTo>
                  <a:pt x="91440" y="167640"/>
                </a:lnTo>
                <a:lnTo>
                  <a:pt x="76200" y="167640"/>
                </a:lnTo>
                <a:lnTo>
                  <a:pt x="53340" y="167640"/>
                </a:lnTo>
                <a:lnTo>
                  <a:pt x="45720" y="160020"/>
                </a:lnTo>
                <a:lnTo>
                  <a:pt x="38100" y="160020"/>
                </a:lnTo>
                <a:lnTo>
                  <a:pt x="30480" y="160020"/>
                </a:lnTo>
                <a:lnTo>
                  <a:pt x="22860" y="152400"/>
                </a:lnTo>
                <a:lnTo>
                  <a:pt x="15240" y="144780"/>
                </a:lnTo>
                <a:lnTo>
                  <a:pt x="15240" y="1447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Freeform 6155"/>
          <p:cNvSpPr/>
          <p:nvPr/>
        </p:nvSpPr>
        <p:spPr>
          <a:xfrm>
            <a:off x="4702320" y="1112760"/>
            <a:ext cx="144360" cy="166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44781" h="167641">
                <a:moveTo>
                  <a:pt x="15240" y="15240"/>
                </a:moveTo>
                <a:lnTo>
                  <a:pt x="22860" y="15240"/>
                </a:lnTo>
                <a:lnTo>
                  <a:pt x="30480" y="7620"/>
                </a:lnTo>
                <a:lnTo>
                  <a:pt x="38100" y="7620"/>
                </a:lnTo>
                <a:lnTo>
                  <a:pt x="38100" y="0"/>
                </a:lnTo>
                <a:lnTo>
                  <a:pt x="45720" y="0"/>
                </a:lnTo>
                <a:lnTo>
                  <a:pt x="45720" y="0"/>
                </a:lnTo>
                <a:lnTo>
                  <a:pt x="45720" y="0"/>
                </a:lnTo>
                <a:lnTo>
                  <a:pt x="45720" y="0"/>
                </a:lnTo>
                <a:lnTo>
                  <a:pt x="38100" y="7620"/>
                </a:lnTo>
                <a:lnTo>
                  <a:pt x="38100" y="7620"/>
                </a:lnTo>
                <a:lnTo>
                  <a:pt x="30480" y="15240"/>
                </a:lnTo>
                <a:lnTo>
                  <a:pt x="30480" y="22860"/>
                </a:lnTo>
                <a:lnTo>
                  <a:pt x="22860" y="30480"/>
                </a:lnTo>
                <a:lnTo>
                  <a:pt x="15240" y="38100"/>
                </a:lnTo>
                <a:lnTo>
                  <a:pt x="7620" y="53340"/>
                </a:lnTo>
                <a:lnTo>
                  <a:pt x="7620" y="60960"/>
                </a:lnTo>
                <a:lnTo>
                  <a:pt x="0" y="76200"/>
                </a:lnTo>
                <a:lnTo>
                  <a:pt x="0" y="83820"/>
                </a:lnTo>
                <a:lnTo>
                  <a:pt x="0" y="99060"/>
                </a:lnTo>
                <a:lnTo>
                  <a:pt x="0" y="106680"/>
                </a:lnTo>
                <a:lnTo>
                  <a:pt x="0" y="121920"/>
                </a:lnTo>
                <a:lnTo>
                  <a:pt x="0" y="129540"/>
                </a:lnTo>
                <a:lnTo>
                  <a:pt x="7620" y="137160"/>
                </a:lnTo>
                <a:lnTo>
                  <a:pt x="15240" y="144780"/>
                </a:lnTo>
                <a:lnTo>
                  <a:pt x="30480" y="152400"/>
                </a:lnTo>
                <a:lnTo>
                  <a:pt x="38100" y="152400"/>
                </a:lnTo>
                <a:lnTo>
                  <a:pt x="53340" y="152400"/>
                </a:lnTo>
                <a:lnTo>
                  <a:pt x="68580" y="152400"/>
                </a:lnTo>
                <a:lnTo>
                  <a:pt x="83820" y="152400"/>
                </a:lnTo>
                <a:lnTo>
                  <a:pt x="99060" y="152400"/>
                </a:lnTo>
                <a:lnTo>
                  <a:pt x="106680" y="152400"/>
                </a:lnTo>
                <a:lnTo>
                  <a:pt x="121920" y="144780"/>
                </a:lnTo>
                <a:lnTo>
                  <a:pt x="129540" y="137160"/>
                </a:lnTo>
                <a:lnTo>
                  <a:pt x="137160" y="129540"/>
                </a:lnTo>
                <a:lnTo>
                  <a:pt x="137160" y="129540"/>
                </a:lnTo>
                <a:lnTo>
                  <a:pt x="144780" y="114300"/>
                </a:lnTo>
                <a:lnTo>
                  <a:pt x="144780" y="114300"/>
                </a:lnTo>
                <a:lnTo>
                  <a:pt x="144780" y="106680"/>
                </a:lnTo>
                <a:lnTo>
                  <a:pt x="137160" y="99060"/>
                </a:lnTo>
                <a:lnTo>
                  <a:pt x="137160" y="99060"/>
                </a:lnTo>
                <a:lnTo>
                  <a:pt x="129540" y="91440"/>
                </a:lnTo>
                <a:lnTo>
                  <a:pt x="121920" y="91440"/>
                </a:lnTo>
                <a:lnTo>
                  <a:pt x="114300" y="91440"/>
                </a:lnTo>
                <a:lnTo>
                  <a:pt x="106680" y="91440"/>
                </a:lnTo>
                <a:lnTo>
                  <a:pt x="99060" y="91440"/>
                </a:lnTo>
                <a:lnTo>
                  <a:pt x="99060" y="99060"/>
                </a:lnTo>
                <a:lnTo>
                  <a:pt x="91440" y="99060"/>
                </a:lnTo>
                <a:lnTo>
                  <a:pt x="91440" y="106680"/>
                </a:lnTo>
                <a:lnTo>
                  <a:pt x="91440" y="114300"/>
                </a:lnTo>
                <a:lnTo>
                  <a:pt x="91440" y="121920"/>
                </a:lnTo>
                <a:lnTo>
                  <a:pt x="91440" y="129540"/>
                </a:lnTo>
                <a:lnTo>
                  <a:pt x="99060" y="137160"/>
                </a:lnTo>
                <a:lnTo>
                  <a:pt x="106680" y="144780"/>
                </a:lnTo>
                <a:lnTo>
                  <a:pt x="114300" y="152400"/>
                </a:lnTo>
                <a:lnTo>
                  <a:pt x="129540" y="167640"/>
                </a:lnTo>
                <a:lnTo>
                  <a:pt x="129540" y="1676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Freeform 6156"/>
          <p:cNvSpPr/>
          <p:nvPr/>
        </p:nvSpPr>
        <p:spPr>
          <a:xfrm>
            <a:off x="2079720" y="2460600"/>
            <a:ext cx="503280" cy="374760"/>
          </a:xfrm>
          <a:custGeom>
            <a:avLst/>
            <a:gdLst>
              <a:gd name="textAreaLeft" fmla="*/ 0 w 503280"/>
              <a:gd name="textAreaRight" fmla="*/ 503640 w 50328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502921" h="373381">
                <a:moveTo>
                  <a:pt x="152400" y="320040"/>
                </a:moveTo>
                <a:lnTo>
                  <a:pt x="160020" y="320040"/>
                </a:lnTo>
                <a:lnTo>
                  <a:pt x="167640" y="320040"/>
                </a:lnTo>
                <a:lnTo>
                  <a:pt x="175260" y="327660"/>
                </a:lnTo>
                <a:lnTo>
                  <a:pt x="190500" y="327660"/>
                </a:lnTo>
                <a:lnTo>
                  <a:pt x="198120" y="327660"/>
                </a:lnTo>
                <a:lnTo>
                  <a:pt x="205740" y="335280"/>
                </a:lnTo>
                <a:lnTo>
                  <a:pt x="220980" y="335280"/>
                </a:lnTo>
                <a:lnTo>
                  <a:pt x="228600" y="335280"/>
                </a:lnTo>
                <a:lnTo>
                  <a:pt x="243840" y="335280"/>
                </a:lnTo>
                <a:lnTo>
                  <a:pt x="259080" y="335280"/>
                </a:lnTo>
                <a:lnTo>
                  <a:pt x="274320" y="335280"/>
                </a:lnTo>
                <a:lnTo>
                  <a:pt x="289560" y="327660"/>
                </a:lnTo>
                <a:lnTo>
                  <a:pt x="304800" y="327660"/>
                </a:lnTo>
                <a:lnTo>
                  <a:pt x="320040" y="320040"/>
                </a:lnTo>
                <a:lnTo>
                  <a:pt x="335280" y="320040"/>
                </a:lnTo>
                <a:lnTo>
                  <a:pt x="350520" y="312420"/>
                </a:lnTo>
                <a:lnTo>
                  <a:pt x="365760" y="304800"/>
                </a:lnTo>
                <a:lnTo>
                  <a:pt x="388620" y="297180"/>
                </a:lnTo>
                <a:lnTo>
                  <a:pt x="403860" y="281940"/>
                </a:lnTo>
                <a:lnTo>
                  <a:pt x="419100" y="274320"/>
                </a:lnTo>
                <a:lnTo>
                  <a:pt x="434340" y="259080"/>
                </a:lnTo>
                <a:lnTo>
                  <a:pt x="449580" y="251460"/>
                </a:lnTo>
                <a:lnTo>
                  <a:pt x="464820" y="236220"/>
                </a:lnTo>
                <a:lnTo>
                  <a:pt x="472440" y="220980"/>
                </a:lnTo>
                <a:lnTo>
                  <a:pt x="487680" y="205740"/>
                </a:lnTo>
                <a:lnTo>
                  <a:pt x="487680" y="190500"/>
                </a:lnTo>
                <a:lnTo>
                  <a:pt x="495300" y="175260"/>
                </a:lnTo>
                <a:lnTo>
                  <a:pt x="502920" y="160020"/>
                </a:lnTo>
                <a:lnTo>
                  <a:pt x="502920" y="144780"/>
                </a:lnTo>
                <a:lnTo>
                  <a:pt x="502920" y="137160"/>
                </a:lnTo>
                <a:lnTo>
                  <a:pt x="502920" y="114300"/>
                </a:lnTo>
                <a:lnTo>
                  <a:pt x="502920" y="99060"/>
                </a:lnTo>
                <a:lnTo>
                  <a:pt x="502920" y="91440"/>
                </a:lnTo>
                <a:lnTo>
                  <a:pt x="495300" y="76200"/>
                </a:lnTo>
                <a:lnTo>
                  <a:pt x="487680" y="60960"/>
                </a:lnTo>
                <a:lnTo>
                  <a:pt x="480060" y="53340"/>
                </a:lnTo>
                <a:lnTo>
                  <a:pt x="472440" y="38100"/>
                </a:lnTo>
                <a:lnTo>
                  <a:pt x="464820" y="30480"/>
                </a:lnTo>
                <a:lnTo>
                  <a:pt x="449580" y="22860"/>
                </a:lnTo>
                <a:lnTo>
                  <a:pt x="434340" y="15240"/>
                </a:lnTo>
                <a:lnTo>
                  <a:pt x="419100" y="7620"/>
                </a:lnTo>
                <a:lnTo>
                  <a:pt x="403860" y="7620"/>
                </a:lnTo>
                <a:lnTo>
                  <a:pt x="381000" y="0"/>
                </a:lnTo>
                <a:lnTo>
                  <a:pt x="358140" y="0"/>
                </a:lnTo>
                <a:lnTo>
                  <a:pt x="342900" y="0"/>
                </a:lnTo>
                <a:lnTo>
                  <a:pt x="320040" y="0"/>
                </a:lnTo>
                <a:lnTo>
                  <a:pt x="297180" y="0"/>
                </a:lnTo>
                <a:lnTo>
                  <a:pt x="274320" y="0"/>
                </a:lnTo>
                <a:lnTo>
                  <a:pt x="251460" y="7620"/>
                </a:lnTo>
                <a:lnTo>
                  <a:pt x="228600" y="7620"/>
                </a:lnTo>
                <a:lnTo>
                  <a:pt x="213360" y="15240"/>
                </a:lnTo>
                <a:lnTo>
                  <a:pt x="190500" y="22860"/>
                </a:lnTo>
                <a:lnTo>
                  <a:pt x="167640" y="38100"/>
                </a:lnTo>
                <a:lnTo>
                  <a:pt x="152400" y="45720"/>
                </a:lnTo>
                <a:lnTo>
                  <a:pt x="129540" y="60960"/>
                </a:lnTo>
                <a:lnTo>
                  <a:pt x="114300" y="76200"/>
                </a:lnTo>
                <a:lnTo>
                  <a:pt x="99060" y="83820"/>
                </a:lnTo>
                <a:lnTo>
                  <a:pt x="83820" y="106680"/>
                </a:lnTo>
                <a:lnTo>
                  <a:pt x="68580" y="121920"/>
                </a:lnTo>
                <a:lnTo>
                  <a:pt x="53340" y="137160"/>
                </a:lnTo>
                <a:lnTo>
                  <a:pt x="38100" y="152400"/>
                </a:lnTo>
                <a:lnTo>
                  <a:pt x="30480" y="175260"/>
                </a:lnTo>
                <a:lnTo>
                  <a:pt x="22860" y="190500"/>
                </a:lnTo>
                <a:lnTo>
                  <a:pt x="15240" y="213360"/>
                </a:lnTo>
                <a:lnTo>
                  <a:pt x="7620" y="228600"/>
                </a:lnTo>
                <a:lnTo>
                  <a:pt x="7620" y="251460"/>
                </a:lnTo>
                <a:lnTo>
                  <a:pt x="0" y="266700"/>
                </a:lnTo>
                <a:lnTo>
                  <a:pt x="0" y="281940"/>
                </a:lnTo>
                <a:lnTo>
                  <a:pt x="7620" y="297180"/>
                </a:lnTo>
                <a:lnTo>
                  <a:pt x="7620" y="312420"/>
                </a:lnTo>
                <a:lnTo>
                  <a:pt x="15240" y="327660"/>
                </a:lnTo>
                <a:lnTo>
                  <a:pt x="22860" y="335280"/>
                </a:lnTo>
                <a:lnTo>
                  <a:pt x="30480" y="350520"/>
                </a:lnTo>
                <a:lnTo>
                  <a:pt x="38100" y="358140"/>
                </a:lnTo>
                <a:lnTo>
                  <a:pt x="53340" y="365760"/>
                </a:lnTo>
                <a:lnTo>
                  <a:pt x="68580" y="365760"/>
                </a:lnTo>
                <a:lnTo>
                  <a:pt x="83820" y="373380"/>
                </a:lnTo>
                <a:lnTo>
                  <a:pt x="106680" y="373380"/>
                </a:lnTo>
                <a:lnTo>
                  <a:pt x="121920" y="373380"/>
                </a:lnTo>
                <a:lnTo>
                  <a:pt x="144780" y="373380"/>
                </a:lnTo>
                <a:lnTo>
                  <a:pt x="167640" y="373380"/>
                </a:lnTo>
                <a:lnTo>
                  <a:pt x="190500" y="365760"/>
                </a:lnTo>
                <a:lnTo>
                  <a:pt x="220980" y="365760"/>
                </a:lnTo>
                <a:lnTo>
                  <a:pt x="243840" y="365760"/>
                </a:lnTo>
                <a:lnTo>
                  <a:pt x="274320" y="358140"/>
                </a:lnTo>
                <a:lnTo>
                  <a:pt x="274320" y="3581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Freeform 6157"/>
          <p:cNvSpPr/>
          <p:nvPr/>
        </p:nvSpPr>
        <p:spPr>
          <a:xfrm>
            <a:off x="3908520" y="4441680"/>
            <a:ext cx="2293920" cy="46080"/>
          </a:xfrm>
          <a:custGeom>
            <a:avLst/>
            <a:gdLst>
              <a:gd name="textAreaLeft" fmla="*/ 0 w 2293920"/>
              <a:gd name="textAreaRight" fmla="*/ 2294280 w 229392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2293621" h="45721">
                <a:moveTo>
                  <a:pt x="0" y="30480"/>
                </a:moveTo>
                <a:lnTo>
                  <a:pt x="0" y="30480"/>
                </a:lnTo>
                <a:lnTo>
                  <a:pt x="7620" y="30480"/>
                </a:lnTo>
                <a:lnTo>
                  <a:pt x="7620" y="30480"/>
                </a:lnTo>
                <a:lnTo>
                  <a:pt x="7620" y="30480"/>
                </a:lnTo>
                <a:lnTo>
                  <a:pt x="15240" y="30480"/>
                </a:lnTo>
                <a:lnTo>
                  <a:pt x="15240" y="30480"/>
                </a:lnTo>
                <a:lnTo>
                  <a:pt x="15240" y="30480"/>
                </a:lnTo>
                <a:lnTo>
                  <a:pt x="22860" y="30480"/>
                </a:lnTo>
                <a:lnTo>
                  <a:pt x="30480" y="30480"/>
                </a:lnTo>
                <a:lnTo>
                  <a:pt x="38100" y="30480"/>
                </a:lnTo>
                <a:lnTo>
                  <a:pt x="38100" y="30480"/>
                </a:lnTo>
                <a:lnTo>
                  <a:pt x="45720" y="30480"/>
                </a:lnTo>
                <a:lnTo>
                  <a:pt x="53340" y="30480"/>
                </a:lnTo>
                <a:lnTo>
                  <a:pt x="53340" y="30480"/>
                </a:lnTo>
                <a:lnTo>
                  <a:pt x="60960" y="30480"/>
                </a:lnTo>
                <a:lnTo>
                  <a:pt x="68580" y="30480"/>
                </a:lnTo>
                <a:lnTo>
                  <a:pt x="76200" y="30480"/>
                </a:lnTo>
                <a:lnTo>
                  <a:pt x="83820" y="30480"/>
                </a:lnTo>
                <a:lnTo>
                  <a:pt x="91440" y="30480"/>
                </a:lnTo>
                <a:lnTo>
                  <a:pt x="99060" y="30480"/>
                </a:lnTo>
                <a:lnTo>
                  <a:pt x="106680" y="30480"/>
                </a:lnTo>
                <a:lnTo>
                  <a:pt x="114300" y="38100"/>
                </a:lnTo>
                <a:lnTo>
                  <a:pt x="129540" y="38100"/>
                </a:lnTo>
                <a:lnTo>
                  <a:pt x="137160" y="38100"/>
                </a:lnTo>
                <a:lnTo>
                  <a:pt x="144780" y="38100"/>
                </a:lnTo>
                <a:lnTo>
                  <a:pt x="152400" y="38100"/>
                </a:lnTo>
                <a:lnTo>
                  <a:pt x="160020" y="38100"/>
                </a:lnTo>
                <a:lnTo>
                  <a:pt x="175260" y="38100"/>
                </a:lnTo>
                <a:lnTo>
                  <a:pt x="190500" y="38100"/>
                </a:lnTo>
                <a:lnTo>
                  <a:pt x="198120" y="38100"/>
                </a:lnTo>
                <a:lnTo>
                  <a:pt x="213360" y="38100"/>
                </a:lnTo>
                <a:lnTo>
                  <a:pt x="220980" y="38100"/>
                </a:lnTo>
                <a:lnTo>
                  <a:pt x="236220" y="38100"/>
                </a:lnTo>
                <a:lnTo>
                  <a:pt x="251460" y="38100"/>
                </a:lnTo>
                <a:lnTo>
                  <a:pt x="259080" y="38100"/>
                </a:lnTo>
                <a:lnTo>
                  <a:pt x="274320" y="38100"/>
                </a:lnTo>
                <a:lnTo>
                  <a:pt x="289560" y="38100"/>
                </a:lnTo>
                <a:lnTo>
                  <a:pt x="297180" y="38100"/>
                </a:lnTo>
                <a:lnTo>
                  <a:pt x="320040" y="38100"/>
                </a:lnTo>
                <a:lnTo>
                  <a:pt x="327660" y="38100"/>
                </a:lnTo>
                <a:lnTo>
                  <a:pt x="342900" y="45720"/>
                </a:lnTo>
                <a:lnTo>
                  <a:pt x="358140" y="45720"/>
                </a:lnTo>
                <a:lnTo>
                  <a:pt x="373380" y="45720"/>
                </a:lnTo>
                <a:lnTo>
                  <a:pt x="381000" y="45720"/>
                </a:lnTo>
                <a:lnTo>
                  <a:pt x="396240" y="45720"/>
                </a:lnTo>
                <a:lnTo>
                  <a:pt x="411480" y="45720"/>
                </a:lnTo>
                <a:lnTo>
                  <a:pt x="426720" y="45720"/>
                </a:lnTo>
                <a:lnTo>
                  <a:pt x="441960" y="38100"/>
                </a:lnTo>
                <a:lnTo>
                  <a:pt x="449580" y="38100"/>
                </a:lnTo>
                <a:lnTo>
                  <a:pt x="472440" y="38100"/>
                </a:lnTo>
                <a:lnTo>
                  <a:pt x="487680" y="38100"/>
                </a:lnTo>
                <a:lnTo>
                  <a:pt x="502920" y="38100"/>
                </a:lnTo>
                <a:lnTo>
                  <a:pt x="518160" y="38100"/>
                </a:lnTo>
                <a:lnTo>
                  <a:pt x="533400" y="38100"/>
                </a:lnTo>
                <a:lnTo>
                  <a:pt x="548640" y="38100"/>
                </a:lnTo>
                <a:lnTo>
                  <a:pt x="563880" y="38100"/>
                </a:lnTo>
                <a:lnTo>
                  <a:pt x="579120" y="38100"/>
                </a:lnTo>
                <a:lnTo>
                  <a:pt x="594360" y="38100"/>
                </a:lnTo>
                <a:lnTo>
                  <a:pt x="609600" y="38100"/>
                </a:lnTo>
                <a:lnTo>
                  <a:pt x="624840" y="38100"/>
                </a:lnTo>
                <a:lnTo>
                  <a:pt x="640080" y="38100"/>
                </a:lnTo>
                <a:lnTo>
                  <a:pt x="662940" y="38100"/>
                </a:lnTo>
                <a:lnTo>
                  <a:pt x="678180" y="38100"/>
                </a:lnTo>
                <a:lnTo>
                  <a:pt x="693420" y="38100"/>
                </a:lnTo>
                <a:lnTo>
                  <a:pt x="708660" y="38100"/>
                </a:lnTo>
                <a:lnTo>
                  <a:pt x="723900" y="38100"/>
                </a:lnTo>
                <a:lnTo>
                  <a:pt x="739140" y="38100"/>
                </a:lnTo>
                <a:lnTo>
                  <a:pt x="754380" y="38100"/>
                </a:lnTo>
                <a:lnTo>
                  <a:pt x="777240" y="30480"/>
                </a:lnTo>
                <a:lnTo>
                  <a:pt x="792480" y="30480"/>
                </a:lnTo>
                <a:lnTo>
                  <a:pt x="807720" y="30480"/>
                </a:lnTo>
                <a:lnTo>
                  <a:pt x="822960" y="30480"/>
                </a:lnTo>
                <a:lnTo>
                  <a:pt x="845820" y="30480"/>
                </a:lnTo>
                <a:lnTo>
                  <a:pt x="861060" y="30480"/>
                </a:lnTo>
                <a:lnTo>
                  <a:pt x="876300" y="30480"/>
                </a:lnTo>
                <a:lnTo>
                  <a:pt x="891540" y="30480"/>
                </a:lnTo>
                <a:lnTo>
                  <a:pt x="914400" y="30480"/>
                </a:lnTo>
                <a:lnTo>
                  <a:pt x="929640" y="30480"/>
                </a:lnTo>
                <a:lnTo>
                  <a:pt x="944880" y="30480"/>
                </a:lnTo>
                <a:lnTo>
                  <a:pt x="967740" y="30480"/>
                </a:lnTo>
                <a:lnTo>
                  <a:pt x="982980" y="30480"/>
                </a:lnTo>
                <a:lnTo>
                  <a:pt x="1005840" y="30480"/>
                </a:lnTo>
                <a:lnTo>
                  <a:pt x="1021080" y="30480"/>
                </a:lnTo>
                <a:lnTo>
                  <a:pt x="1036320" y="30480"/>
                </a:lnTo>
                <a:lnTo>
                  <a:pt x="1059180" y="22860"/>
                </a:lnTo>
                <a:lnTo>
                  <a:pt x="1074420" y="22860"/>
                </a:lnTo>
                <a:lnTo>
                  <a:pt x="1089660" y="22860"/>
                </a:lnTo>
                <a:lnTo>
                  <a:pt x="1112520" y="22860"/>
                </a:lnTo>
                <a:lnTo>
                  <a:pt x="1127760" y="22860"/>
                </a:lnTo>
                <a:lnTo>
                  <a:pt x="1150620" y="22860"/>
                </a:lnTo>
                <a:lnTo>
                  <a:pt x="1165860" y="22860"/>
                </a:lnTo>
                <a:lnTo>
                  <a:pt x="1181100" y="22860"/>
                </a:lnTo>
                <a:lnTo>
                  <a:pt x="1203960" y="22860"/>
                </a:lnTo>
                <a:lnTo>
                  <a:pt x="1219200" y="22860"/>
                </a:lnTo>
                <a:lnTo>
                  <a:pt x="1234440" y="22860"/>
                </a:lnTo>
                <a:lnTo>
                  <a:pt x="1257300" y="22860"/>
                </a:lnTo>
                <a:lnTo>
                  <a:pt x="1272540" y="22860"/>
                </a:lnTo>
                <a:lnTo>
                  <a:pt x="1295400" y="22860"/>
                </a:lnTo>
                <a:lnTo>
                  <a:pt x="1310640" y="22860"/>
                </a:lnTo>
                <a:lnTo>
                  <a:pt x="1325880" y="22860"/>
                </a:lnTo>
                <a:lnTo>
                  <a:pt x="1348740" y="22860"/>
                </a:lnTo>
                <a:lnTo>
                  <a:pt x="1363980" y="22860"/>
                </a:lnTo>
                <a:lnTo>
                  <a:pt x="1379220" y="22860"/>
                </a:lnTo>
                <a:lnTo>
                  <a:pt x="1402080" y="22860"/>
                </a:lnTo>
                <a:lnTo>
                  <a:pt x="1417320" y="15240"/>
                </a:lnTo>
                <a:lnTo>
                  <a:pt x="1432560" y="15240"/>
                </a:lnTo>
                <a:lnTo>
                  <a:pt x="1455420" y="15240"/>
                </a:lnTo>
                <a:lnTo>
                  <a:pt x="1470660" y="15240"/>
                </a:lnTo>
                <a:lnTo>
                  <a:pt x="1485900" y="15240"/>
                </a:lnTo>
                <a:lnTo>
                  <a:pt x="1508760" y="15240"/>
                </a:lnTo>
                <a:lnTo>
                  <a:pt x="1524000" y="15240"/>
                </a:lnTo>
                <a:lnTo>
                  <a:pt x="1539240" y="15240"/>
                </a:lnTo>
                <a:lnTo>
                  <a:pt x="1554480" y="15240"/>
                </a:lnTo>
                <a:lnTo>
                  <a:pt x="1569720" y="15240"/>
                </a:lnTo>
                <a:lnTo>
                  <a:pt x="1584960" y="15240"/>
                </a:lnTo>
                <a:lnTo>
                  <a:pt x="1607820" y="15240"/>
                </a:lnTo>
                <a:lnTo>
                  <a:pt x="1623060" y="15240"/>
                </a:lnTo>
                <a:lnTo>
                  <a:pt x="1638300" y="15240"/>
                </a:lnTo>
                <a:lnTo>
                  <a:pt x="1653540" y="15240"/>
                </a:lnTo>
                <a:lnTo>
                  <a:pt x="1668780" y="15240"/>
                </a:lnTo>
                <a:lnTo>
                  <a:pt x="1691640" y="7620"/>
                </a:lnTo>
                <a:lnTo>
                  <a:pt x="1706880" y="7620"/>
                </a:lnTo>
                <a:lnTo>
                  <a:pt x="1722120" y="7620"/>
                </a:lnTo>
                <a:lnTo>
                  <a:pt x="1737360" y="7620"/>
                </a:lnTo>
                <a:lnTo>
                  <a:pt x="1752600" y="7620"/>
                </a:lnTo>
                <a:lnTo>
                  <a:pt x="1767840" y="7620"/>
                </a:lnTo>
                <a:lnTo>
                  <a:pt x="1790700" y="7620"/>
                </a:lnTo>
                <a:lnTo>
                  <a:pt x="1805940" y="7620"/>
                </a:lnTo>
                <a:lnTo>
                  <a:pt x="1821180" y="7620"/>
                </a:lnTo>
                <a:lnTo>
                  <a:pt x="1836420" y="7620"/>
                </a:lnTo>
                <a:lnTo>
                  <a:pt x="1851660" y="7620"/>
                </a:lnTo>
                <a:lnTo>
                  <a:pt x="1866900" y="7620"/>
                </a:lnTo>
                <a:lnTo>
                  <a:pt x="1889760" y="7620"/>
                </a:lnTo>
                <a:lnTo>
                  <a:pt x="1905000" y="7620"/>
                </a:lnTo>
                <a:lnTo>
                  <a:pt x="1920240" y="7620"/>
                </a:lnTo>
                <a:lnTo>
                  <a:pt x="1935480" y="7620"/>
                </a:lnTo>
                <a:lnTo>
                  <a:pt x="1958340" y="7620"/>
                </a:lnTo>
                <a:lnTo>
                  <a:pt x="1973580" y="7620"/>
                </a:lnTo>
                <a:lnTo>
                  <a:pt x="1996440" y="7620"/>
                </a:lnTo>
                <a:lnTo>
                  <a:pt x="2011680" y="7620"/>
                </a:lnTo>
                <a:lnTo>
                  <a:pt x="2026920" y="7620"/>
                </a:lnTo>
                <a:lnTo>
                  <a:pt x="2042160" y="7620"/>
                </a:lnTo>
                <a:lnTo>
                  <a:pt x="2065020" y="7620"/>
                </a:lnTo>
                <a:lnTo>
                  <a:pt x="2080260" y="7620"/>
                </a:lnTo>
                <a:lnTo>
                  <a:pt x="2095500" y="7620"/>
                </a:lnTo>
                <a:lnTo>
                  <a:pt x="2110740" y="7620"/>
                </a:lnTo>
                <a:lnTo>
                  <a:pt x="2133600" y="7620"/>
                </a:lnTo>
                <a:lnTo>
                  <a:pt x="2148840" y="7620"/>
                </a:lnTo>
                <a:lnTo>
                  <a:pt x="2164080" y="7620"/>
                </a:lnTo>
                <a:lnTo>
                  <a:pt x="2179320" y="7620"/>
                </a:lnTo>
                <a:lnTo>
                  <a:pt x="2194560" y="7620"/>
                </a:lnTo>
                <a:lnTo>
                  <a:pt x="2209800" y="7620"/>
                </a:lnTo>
                <a:lnTo>
                  <a:pt x="2217420" y="0"/>
                </a:lnTo>
                <a:lnTo>
                  <a:pt x="2232660" y="0"/>
                </a:lnTo>
                <a:lnTo>
                  <a:pt x="2247900" y="0"/>
                </a:lnTo>
                <a:lnTo>
                  <a:pt x="2255520" y="0"/>
                </a:lnTo>
                <a:lnTo>
                  <a:pt x="2270760" y="0"/>
                </a:lnTo>
                <a:lnTo>
                  <a:pt x="2278380" y="0"/>
                </a:lnTo>
                <a:lnTo>
                  <a:pt x="2293620" y="7620"/>
                </a:lnTo>
                <a:lnTo>
                  <a:pt x="2293620" y="7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Freeform 6158"/>
          <p:cNvSpPr/>
          <p:nvPr/>
        </p:nvSpPr>
        <p:spPr>
          <a:xfrm>
            <a:off x="4587840" y="3970440"/>
            <a:ext cx="190440" cy="258840"/>
          </a:xfrm>
          <a:custGeom>
            <a:avLst/>
            <a:gdLst>
              <a:gd name="textAreaLeft" fmla="*/ 0 w 190440"/>
              <a:gd name="textAreaRight" fmla="*/ 190800 w 1904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90501" h="259081">
                <a:moveTo>
                  <a:pt x="68580" y="7620"/>
                </a:moveTo>
                <a:lnTo>
                  <a:pt x="60960" y="0"/>
                </a:lnTo>
                <a:lnTo>
                  <a:pt x="60960" y="0"/>
                </a:lnTo>
                <a:lnTo>
                  <a:pt x="60960" y="0"/>
                </a:lnTo>
                <a:lnTo>
                  <a:pt x="60960" y="7620"/>
                </a:lnTo>
                <a:lnTo>
                  <a:pt x="53340" y="7620"/>
                </a:lnTo>
                <a:lnTo>
                  <a:pt x="53340" y="15240"/>
                </a:lnTo>
                <a:lnTo>
                  <a:pt x="45720" y="22860"/>
                </a:lnTo>
                <a:lnTo>
                  <a:pt x="45720" y="38100"/>
                </a:lnTo>
                <a:lnTo>
                  <a:pt x="38100" y="45720"/>
                </a:lnTo>
                <a:lnTo>
                  <a:pt x="30480" y="60960"/>
                </a:lnTo>
                <a:lnTo>
                  <a:pt x="22860" y="76200"/>
                </a:lnTo>
                <a:lnTo>
                  <a:pt x="15240" y="91440"/>
                </a:lnTo>
                <a:lnTo>
                  <a:pt x="15240" y="106680"/>
                </a:lnTo>
                <a:lnTo>
                  <a:pt x="7620" y="129540"/>
                </a:lnTo>
                <a:lnTo>
                  <a:pt x="7620" y="144780"/>
                </a:lnTo>
                <a:lnTo>
                  <a:pt x="0" y="160020"/>
                </a:lnTo>
                <a:lnTo>
                  <a:pt x="0" y="175260"/>
                </a:lnTo>
                <a:lnTo>
                  <a:pt x="0" y="198120"/>
                </a:lnTo>
                <a:lnTo>
                  <a:pt x="7620" y="213360"/>
                </a:lnTo>
                <a:lnTo>
                  <a:pt x="15240" y="220980"/>
                </a:lnTo>
                <a:lnTo>
                  <a:pt x="22860" y="236220"/>
                </a:lnTo>
                <a:lnTo>
                  <a:pt x="30480" y="243840"/>
                </a:lnTo>
                <a:lnTo>
                  <a:pt x="45720" y="251460"/>
                </a:lnTo>
                <a:lnTo>
                  <a:pt x="53340" y="259080"/>
                </a:lnTo>
                <a:lnTo>
                  <a:pt x="68580" y="259080"/>
                </a:lnTo>
                <a:lnTo>
                  <a:pt x="83820" y="259080"/>
                </a:lnTo>
                <a:lnTo>
                  <a:pt x="91440" y="259080"/>
                </a:lnTo>
                <a:lnTo>
                  <a:pt x="106680" y="251460"/>
                </a:lnTo>
                <a:lnTo>
                  <a:pt x="114300" y="251460"/>
                </a:lnTo>
                <a:lnTo>
                  <a:pt x="121920" y="243840"/>
                </a:lnTo>
                <a:lnTo>
                  <a:pt x="137160" y="236220"/>
                </a:lnTo>
                <a:lnTo>
                  <a:pt x="137160" y="220980"/>
                </a:lnTo>
                <a:lnTo>
                  <a:pt x="144780" y="213360"/>
                </a:lnTo>
                <a:lnTo>
                  <a:pt x="144780" y="205740"/>
                </a:lnTo>
                <a:lnTo>
                  <a:pt x="144780" y="198120"/>
                </a:lnTo>
                <a:lnTo>
                  <a:pt x="137160" y="190500"/>
                </a:lnTo>
                <a:lnTo>
                  <a:pt x="137160" y="182880"/>
                </a:lnTo>
                <a:lnTo>
                  <a:pt x="129540" y="175260"/>
                </a:lnTo>
                <a:lnTo>
                  <a:pt x="121920" y="175260"/>
                </a:lnTo>
                <a:lnTo>
                  <a:pt x="121920" y="167640"/>
                </a:lnTo>
                <a:lnTo>
                  <a:pt x="114300" y="167640"/>
                </a:lnTo>
                <a:lnTo>
                  <a:pt x="106680" y="167640"/>
                </a:lnTo>
                <a:lnTo>
                  <a:pt x="106680" y="175260"/>
                </a:lnTo>
                <a:lnTo>
                  <a:pt x="99060" y="175260"/>
                </a:lnTo>
                <a:lnTo>
                  <a:pt x="99060" y="182880"/>
                </a:lnTo>
                <a:lnTo>
                  <a:pt x="99060" y="190500"/>
                </a:lnTo>
                <a:lnTo>
                  <a:pt x="99060" y="198120"/>
                </a:lnTo>
                <a:lnTo>
                  <a:pt x="99060" y="205740"/>
                </a:lnTo>
                <a:lnTo>
                  <a:pt x="99060" y="220980"/>
                </a:lnTo>
                <a:lnTo>
                  <a:pt x="106680" y="228600"/>
                </a:lnTo>
                <a:lnTo>
                  <a:pt x="114300" y="236220"/>
                </a:lnTo>
                <a:lnTo>
                  <a:pt x="121920" y="243840"/>
                </a:lnTo>
                <a:lnTo>
                  <a:pt x="129540" y="251460"/>
                </a:lnTo>
                <a:lnTo>
                  <a:pt x="144780" y="259080"/>
                </a:lnTo>
                <a:lnTo>
                  <a:pt x="152400" y="259080"/>
                </a:lnTo>
                <a:lnTo>
                  <a:pt x="160020" y="259080"/>
                </a:lnTo>
                <a:lnTo>
                  <a:pt x="175260" y="259080"/>
                </a:lnTo>
                <a:lnTo>
                  <a:pt x="190500" y="259080"/>
                </a:lnTo>
                <a:lnTo>
                  <a:pt x="190500" y="2590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Freeform 6159"/>
          <p:cNvSpPr/>
          <p:nvPr/>
        </p:nvSpPr>
        <p:spPr>
          <a:xfrm>
            <a:off x="4854600" y="4152960"/>
            <a:ext cx="136440" cy="92160"/>
          </a:xfrm>
          <a:custGeom>
            <a:avLst/>
            <a:gdLst>
              <a:gd name="textAreaLeft" fmla="*/ 0 w 136440"/>
              <a:gd name="textAreaRight" fmla="*/ 136800 w 136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37161" h="91441">
                <a:moveTo>
                  <a:pt x="30480" y="7620"/>
                </a:moveTo>
                <a:lnTo>
                  <a:pt x="30480" y="7620"/>
                </a:lnTo>
                <a:lnTo>
                  <a:pt x="30480" y="7620"/>
                </a:lnTo>
                <a:lnTo>
                  <a:pt x="30480" y="7620"/>
                </a:lnTo>
                <a:lnTo>
                  <a:pt x="22860" y="7620"/>
                </a:lnTo>
                <a:lnTo>
                  <a:pt x="22860" y="7620"/>
                </a:lnTo>
                <a:lnTo>
                  <a:pt x="15240" y="7620"/>
                </a:lnTo>
                <a:lnTo>
                  <a:pt x="15240" y="15240"/>
                </a:lnTo>
                <a:lnTo>
                  <a:pt x="15240" y="15240"/>
                </a:lnTo>
                <a:lnTo>
                  <a:pt x="7620" y="22860"/>
                </a:lnTo>
                <a:lnTo>
                  <a:pt x="7620" y="22860"/>
                </a:lnTo>
                <a:lnTo>
                  <a:pt x="0" y="30480"/>
                </a:lnTo>
                <a:lnTo>
                  <a:pt x="0" y="38100"/>
                </a:lnTo>
                <a:lnTo>
                  <a:pt x="0" y="45720"/>
                </a:lnTo>
                <a:lnTo>
                  <a:pt x="0" y="53340"/>
                </a:lnTo>
                <a:lnTo>
                  <a:pt x="7620" y="60960"/>
                </a:lnTo>
                <a:lnTo>
                  <a:pt x="15240" y="68580"/>
                </a:lnTo>
                <a:lnTo>
                  <a:pt x="15240" y="76200"/>
                </a:lnTo>
                <a:lnTo>
                  <a:pt x="30480" y="83820"/>
                </a:lnTo>
                <a:lnTo>
                  <a:pt x="38100" y="91440"/>
                </a:lnTo>
                <a:lnTo>
                  <a:pt x="45720" y="91440"/>
                </a:lnTo>
                <a:lnTo>
                  <a:pt x="60960" y="91440"/>
                </a:lnTo>
                <a:lnTo>
                  <a:pt x="76200" y="91440"/>
                </a:lnTo>
                <a:lnTo>
                  <a:pt x="91440" y="91440"/>
                </a:lnTo>
                <a:lnTo>
                  <a:pt x="106680" y="83820"/>
                </a:lnTo>
                <a:lnTo>
                  <a:pt x="114300" y="83820"/>
                </a:lnTo>
                <a:lnTo>
                  <a:pt x="121920" y="76200"/>
                </a:lnTo>
                <a:lnTo>
                  <a:pt x="129540" y="68580"/>
                </a:lnTo>
                <a:lnTo>
                  <a:pt x="137160" y="60960"/>
                </a:lnTo>
                <a:lnTo>
                  <a:pt x="137160" y="45720"/>
                </a:lnTo>
                <a:lnTo>
                  <a:pt x="137160" y="38100"/>
                </a:lnTo>
                <a:lnTo>
                  <a:pt x="137160" y="30480"/>
                </a:lnTo>
                <a:lnTo>
                  <a:pt x="137160" y="22860"/>
                </a:lnTo>
                <a:lnTo>
                  <a:pt x="137160" y="15240"/>
                </a:lnTo>
                <a:lnTo>
                  <a:pt x="137160" y="7620"/>
                </a:lnTo>
                <a:lnTo>
                  <a:pt x="129540" y="7620"/>
                </a:lnTo>
                <a:lnTo>
                  <a:pt x="129540" y="7620"/>
                </a:lnTo>
                <a:lnTo>
                  <a:pt x="121920" y="0"/>
                </a:lnTo>
                <a:lnTo>
                  <a:pt x="121920" y="0"/>
                </a:lnTo>
                <a:lnTo>
                  <a:pt x="121920" y="0"/>
                </a:lnTo>
                <a:lnTo>
                  <a:pt x="12192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Freeform 6160"/>
          <p:cNvSpPr/>
          <p:nvPr/>
        </p:nvSpPr>
        <p:spPr>
          <a:xfrm>
            <a:off x="5045040" y="4160880"/>
            <a:ext cx="128520" cy="106200"/>
          </a:xfrm>
          <a:custGeom>
            <a:avLst/>
            <a:gdLst>
              <a:gd name="textAreaLeft" fmla="*/ 0 w 128520"/>
              <a:gd name="textAreaRight" fmla="*/ 128880 w 12852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129541" h="106681">
                <a:moveTo>
                  <a:pt x="0" y="30480"/>
                </a:moveTo>
                <a:lnTo>
                  <a:pt x="0" y="22860"/>
                </a:lnTo>
                <a:lnTo>
                  <a:pt x="0" y="22860"/>
                </a:lnTo>
                <a:lnTo>
                  <a:pt x="0" y="22860"/>
                </a:lnTo>
                <a:lnTo>
                  <a:pt x="0" y="22860"/>
                </a:lnTo>
                <a:lnTo>
                  <a:pt x="0" y="22860"/>
                </a:lnTo>
                <a:lnTo>
                  <a:pt x="7620" y="30480"/>
                </a:lnTo>
                <a:lnTo>
                  <a:pt x="7620" y="30480"/>
                </a:lnTo>
                <a:lnTo>
                  <a:pt x="15240" y="38100"/>
                </a:lnTo>
                <a:lnTo>
                  <a:pt x="15240" y="45720"/>
                </a:lnTo>
                <a:lnTo>
                  <a:pt x="22860" y="45720"/>
                </a:lnTo>
                <a:lnTo>
                  <a:pt x="22860" y="53340"/>
                </a:lnTo>
                <a:lnTo>
                  <a:pt x="22860" y="60960"/>
                </a:lnTo>
                <a:lnTo>
                  <a:pt x="30480" y="68580"/>
                </a:lnTo>
                <a:lnTo>
                  <a:pt x="30480" y="76200"/>
                </a:lnTo>
                <a:lnTo>
                  <a:pt x="30480" y="83820"/>
                </a:lnTo>
                <a:lnTo>
                  <a:pt x="30480" y="91440"/>
                </a:lnTo>
                <a:lnTo>
                  <a:pt x="30480" y="91440"/>
                </a:lnTo>
                <a:lnTo>
                  <a:pt x="30480" y="99060"/>
                </a:lnTo>
                <a:lnTo>
                  <a:pt x="30480" y="99060"/>
                </a:lnTo>
                <a:lnTo>
                  <a:pt x="30480" y="106680"/>
                </a:lnTo>
                <a:lnTo>
                  <a:pt x="30480" y="106680"/>
                </a:lnTo>
                <a:lnTo>
                  <a:pt x="30480" y="106680"/>
                </a:lnTo>
                <a:lnTo>
                  <a:pt x="30480" y="99060"/>
                </a:lnTo>
                <a:lnTo>
                  <a:pt x="30480" y="99060"/>
                </a:lnTo>
                <a:lnTo>
                  <a:pt x="30480" y="91440"/>
                </a:lnTo>
                <a:lnTo>
                  <a:pt x="22860" y="83820"/>
                </a:lnTo>
                <a:lnTo>
                  <a:pt x="22860" y="76200"/>
                </a:lnTo>
                <a:lnTo>
                  <a:pt x="22860" y="68580"/>
                </a:lnTo>
                <a:lnTo>
                  <a:pt x="22860" y="60960"/>
                </a:lnTo>
                <a:lnTo>
                  <a:pt x="22860" y="53340"/>
                </a:lnTo>
                <a:lnTo>
                  <a:pt x="22860" y="38100"/>
                </a:lnTo>
                <a:lnTo>
                  <a:pt x="22860" y="30480"/>
                </a:lnTo>
                <a:lnTo>
                  <a:pt x="22860" y="22860"/>
                </a:lnTo>
                <a:lnTo>
                  <a:pt x="30480" y="15240"/>
                </a:lnTo>
                <a:lnTo>
                  <a:pt x="30480" y="7620"/>
                </a:lnTo>
                <a:lnTo>
                  <a:pt x="30480" y="0"/>
                </a:lnTo>
                <a:lnTo>
                  <a:pt x="38100" y="0"/>
                </a:lnTo>
                <a:lnTo>
                  <a:pt x="45720" y="0"/>
                </a:lnTo>
                <a:lnTo>
                  <a:pt x="45720" y="0"/>
                </a:lnTo>
                <a:lnTo>
                  <a:pt x="53340" y="0"/>
                </a:lnTo>
                <a:lnTo>
                  <a:pt x="60960" y="0"/>
                </a:lnTo>
                <a:lnTo>
                  <a:pt x="68580" y="7620"/>
                </a:lnTo>
                <a:lnTo>
                  <a:pt x="76200" y="7620"/>
                </a:lnTo>
                <a:lnTo>
                  <a:pt x="76200" y="15240"/>
                </a:lnTo>
                <a:lnTo>
                  <a:pt x="83820" y="22860"/>
                </a:lnTo>
                <a:lnTo>
                  <a:pt x="91440" y="30480"/>
                </a:lnTo>
                <a:lnTo>
                  <a:pt x="91440" y="38100"/>
                </a:lnTo>
                <a:lnTo>
                  <a:pt x="99060" y="53340"/>
                </a:lnTo>
                <a:lnTo>
                  <a:pt x="99060" y="60960"/>
                </a:lnTo>
                <a:lnTo>
                  <a:pt x="106680" y="68580"/>
                </a:lnTo>
                <a:lnTo>
                  <a:pt x="106680" y="76200"/>
                </a:lnTo>
                <a:lnTo>
                  <a:pt x="106680" y="83820"/>
                </a:lnTo>
                <a:lnTo>
                  <a:pt x="114300" y="91440"/>
                </a:lnTo>
                <a:lnTo>
                  <a:pt x="114300" y="91440"/>
                </a:lnTo>
                <a:lnTo>
                  <a:pt x="121920" y="91440"/>
                </a:lnTo>
                <a:lnTo>
                  <a:pt x="121920" y="91440"/>
                </a:lnTo>
                <a:lnTo>
                  <a:pt x="121920" y="91440"/>
                </a:lnTo>
                <a:lnTo>
                  <a:pt x="129540" y="99060"/>
                </a:lnTo>
                <a:lnTo>
                  <a:pt x="129540" y="990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Freeform 6161"/>
          <p:cNvSpPr/>
          <p:nvPr/>
        </p:nvSpPr>
        <p:spPr>
          <a:xfrm>
            <a:off x="5219640" y="4122720"/>
            <a:ext cx="15840" cy="114480"/>
          </a:xfrm>
          <a:custGeom>
            <a:avLst/>
            <a:gdLst>
              <a:gd name="textAreaLeft" fmla="*/ 0 w 15840"/>
              <a:gd name="textAreaRight" fmla="*/ 16200 w 1584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15241" h="114301">
                <a:moveTo>
                  <a:pt x="0" y="0"/>
                </a:moveTo>
                <a:lnTo>
                  <a:pt x="0" y="0"/>
                </a:lnTo>
                <a:lnTo>
                  <a:pt x="0" y="7620"/>
                </a:lnTo>
                <a:lnTo>
                  <a:pt x="0" y="7620"/>
                </a:lnTo>
                <a:lnTo>
                  <a:pt x="0" y="15240"/>
                </a:lnTo>
                <a:lnTo>
                  <a:pt x="7620" y="22860"/>
                </a:lnTo>
                <a:lnTo>
                  <a:pt x="7620" y="22860"/>
                </a:lnTo>
                <a:lnTo>
                  <a:pt x="7620" y="30480"/>
                </a:lnTo>
                <a:lnTo>
                  <a:pt x="7620" y="38100"/>
                </a:lnTo>
                <a:lnTo>
                  <a:pt x="7620" y="45720"/>
                </a:lnTo>
                <a:lnTo>
                  <a:pt x="7620" y="53340"/>
                </a:lnTo>
                <a:lnTo>
                  <a:pt x="15240" y="68580"/>
                </a:lnTo>
                <a:lnTo>
                  <a:pt x="15240" y="76200"/>
                </a:lnTo>
                <a:lnTo>
                  <a:pt x="15240" y="83820"/>
                </a:lnTo>
                <a:lnTo>
                  <a:pt x="15240" y="91440"/>
                </a:lnTo>
                <a:lnTo>
                  <a:pt x="15240" y="99060"/>
                </a:lnTo>
                <a:lnTo>
                  <a:pt x="15240" y="106680"/>
                </a:lnTo>
                <a:lnTo>
                  <a:pt x="7620" y="106680"/>
                </a:lnTo>
                <a:lnTo>
                  <a:pt x="7620" y="106680"/>
                </a:lnTo>
                <a:lnTo>
                  <a:pt x="7620" y="114300"/>
                </a:lnTo>
                <a:lnTo>
                  <a:pt x="7620" y="1143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Freeform 6162"/>
          <p:cNvSpPr/>
          <p:nvPr/>
        </p:nvSpPr>
        <p:spPr>
          <a:xfrm>
            <a:off x="5249880" y="4076640"/>
            <a:ext cx="15840" cy="7920"/>
          </a:xfrm>
          <a:custGeom>
            <a:avLst/>
            <a:gdLst>
              <a:gd name="textAreaLeft" fmla="*/ 0 w 15840"/>
              <a:gd name="textAreaRight" fmla="*/ 16200 w 1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5241" h="7621">
                <a:moveTo>
                  <a:pt x="0" y="7620"/>
                </a:moveTo>
                <a:lnTo>
                  <a:pt x="0" y="7620"/>
                </a:lnTo>
                <a:lnTo>
                  <a:pt x="0" y="0"/>
                </a:lnTo>
                <a:lnTo>
                  <a:pt x="7620" y="0"/>
                </a:lnTo>
                <a:lnTo>
                  <a:pt x="7620" y="0"/>
                </a:lnTo>
                <a:lnTo>
                  <a:pt x="7620" y="0"/>
                </a:lnTo>
                <a:lnTo>
                  <a:pt x="15240" y="0"/>
                </a:lnTo>
                <a:lnTo>
                  <a:pt x="1524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Freeform 6163"/>
          <p:cNvSpPr/>
          <p:nvPr/>
        </p:nvSpPr>
        <p:spPr>
          <a:xfrm>
            <a:off x="5334120" y="4030560"/>
            <a:ext cx="7920" cy="220680"/>
          </a:xfrm>
          <a:custGeom>
            <a:avLst/>
            <a:gdLst>
              <a:gd name="textAreaLeft" fmla="*/ 0 w 7920"/>
              <a:gd name="textAreaRight" fmla="*/ 8280 w 792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7621" h="22098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7620"/>
                </a:lnTo>
                <a:lnTo>
                  <a:pt x="0" y="15240"/>
                </a:lnTo>
                <a:lnTo>
                  <a:pt x="0" y="15240"/>
                </a:lnTo>
                <a:lnTo>
                  <a:pt x="0" y="30480"/>
                </a:lnTo>
                <a:lnTo>
                  <a:pt x="0" y="38100"/>
                </a:lnTo>
                <a:lnTo>
                  <a:pt x="0" y="53340"/>
                </a:lnTo>
                <a:lnTo>
                  <a:pt x="0" y="60960"/>
                </a:lnTo>
                <a:lnTo>
                  <a:pt x="0" y="76200"/>
                </a:lnTo>
                <a:lnTo>
                  <a:pt x="0" y="91440"/>
                </a:lnTo>
                <a:lnTo>
                  <a:pt x="0" y="114300"/>
                </a:lnTo>
                <a:lnTo>
                  <a:pt x="0" y="129540"/>
                </a:lnTo>
                <a:lnTo>
                  <a:pt x="0" y="144780"/>
                </a:lnTo>
                <a:lnTo>
                  <a:pt x="0" y="160020"/>
                </a:lnTo>
                <a:lnTo>
                  <a:pt x="0" y="175260"/>
                </a:lnTo>
                <a:lnTo>
                  <a:pt x="0" y="182880"/>
                </a:lnTo>
                <a:lnTo>
                  <a:pt x="0" y="198120"/>
                </a:lnTo>
                <a:lnTo>
                  <a:pt x="0" y="205740"/>
                </a:lnTo>
                <a:lnTo>
                  <a:pt x="0" y="213360"/>
                </a:lnTo>
                <a:lnTo>
                  <a:pt x="7620" y="220980"/>
                </a:lnTo>
                <a:lnTo>
                  <a:pt x="7620" y="2209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Freeform 6164"/>
          <p:cNvSpPr/>
          <p:nvPr/>
        </p:nvSpPr>
        <p:spPr>
          <a:xfrm>
            <a:off x="5288040" y="4145040"/>
            <a:ext cx="137880" cy="23760"/>
          </a:xfrm>
          <a:custGeom>
            <a:avLst/>
            <a:gdLst>
              <a:gd name="textAreaLeft" fmla="*/ 0 w 137880"/>
              <a:gd name="textAreaRight" fmla="*/ 138240 w 1378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37161" h="22861">
                <a:moveTo>
                  <a:pt x="0" y="22860"/>
                </a:moveTo>
                <a:lnTo>
                  <a:pt x="0" y="15240"/>
                </a:lnTo>
                <a:lnTo>
                  <a:pt x="0" y="15240"/>
                </a:lnTo>
                <a:lnTo>
                  <a:pt x="7620" y="7620"/>
                </a:lnTo>
                <a:lnTo>
                  <a:pt x="15240" y="7620"/>
                </a:lnTo>
                <a:lnTo>
                  <a:pt x="22860" y="0"/>
                </a:lnTo>
                <a:lnTo>
                  <a:pt x="30480" y="0"/>
                </a:lnTo>
                <a:lnTo>
                  <a:pt x="45720" y="7620"/>
                </a:lnTo>
                <a:lnTo>
                  <a:pt x="60960" y="7620"/>
                </a:lnTo>
                <a:lnTo>
                  <a:pt x="76200" y="7620"/>
                </a:lnTo>
                <a:lnTo>
                  <a:pt x="91440" y="15240"/>
                </a:lnTo>
                <a:lnTo>
                  <a:pt x="106680" y="15240"/>
                </a:lnTo>
                <a:lnTo>
                  <a:pt x="137160" y="22860"/>
                </a:lnTo>
                <a:lnTo>
                  <a:pt x="137160" y="228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Freeform 6165"/>
          <p:cNvSpPr/>
          <p:nvPr/>
        </p:nvSpPr>
        <p:spPr>
          <a:xfrm>
            <a:off x="3825720" y="2392200"/>
            <a:ext cx="44640" cy="2027520"/>
          </a:xfrm>
          <a:custGeom>
            <a:avLst/>
            <a:gdLst>
              <a:gd name="textAreaLeft" fmla="*/ 0 w 44640"/>
              <a:gd name="textAreaRight" fmla="*/ 45000 w 44640"/>
              <a:gd name="textAreaTop" fmla="*/ 0 h 2027520"/>
              <a:gd name="textAreaBottom" fmla="*/ 2027880 h 2027520"/>
            </a:gdLst>
            <a:ahLst/>
            <a:rect l="textAreaLeft" t="textAreaTop" r="textAreaRight" b="textAreaBottom"/>
            <a:pathLst>
              <a:path w="45721" h="2026921">
                <a:moveTo>
                  <a:pt x="30480" y="2019300"/>
                </a:moveTo>
                <a:lnTo>
                  <a:pt x="30480" y="2019300"/>
                </a:lnTo>
                <a:lnTo>
                  <a:pt x="30480" y="2019300"/>
                </a:lnTo>
                <a:lnTo>
                  <a:pt x="30480" y="2019300"/>
                </a:lnTo>
                <a:lnTo>
                  <a:pt x="30480" y="2019300"/>
                </a:lnTo>
                <a:lnTo>
                  <a:pt x="30480" y="2026920"/>
                </a:lnTo>
                <a:lnTo>
                  <a:pt x="30480" y="2026920"/>
                </a:lnTo>
                <a:lnTo>
                  <a:pt x="30480" y="2026920"/>
                </a:lnTo>
                <a:lnTo>
                  <a:pt x="30480" y="2026920"/>
                </a:lnTo>
                <a:lnTo>
                  <a:pt x="30480" y="2026920"/>
                </a:lnTo>
                <a:lnTo>
                  <a:pt x="30480" y="2026920"/>
                </a:lnTo>
                <a:lnTo>
                  <a:pt x="30480" y="2026920"/>
                </a:lnTo>
                <a:lnTo>
                  <a:pt x="30480" y="2026920"/>
                </a:lnTo>
                <a:lnTo>
                  <a:pt x="30480" y="2026920"/>
                </a:lnTo>
                <a:lnTo>
                  <a:pt x="30480" y="2026920"/>
                </a:lnTo>
                <a:lnTo>
                  <a:pt x="30480" y="2026920"/>
                </a:lnTo>
                <a:lnTo>
                  <a:pt x="30480" y="2026920"/>
                </a:lnTo>
                <a:lnTo>
                  <a:pt x="30480" y="2026920"/>
                </a:lnTo>
                <a:lnTo>
                  <a:pt x="30480" y="2026920"/>
                </a:lnTo>
                <a:lnTo>
                  <a:pt x="30480" y="2019300"/>
                </a:lnTo>
                <a:lnTo>
                  <a:pt x="30480" y="2019300"/>
                </a:lnTo>
                <a:lnTo>
                  <a:pt x="30480" y="2019300"/>
                </a:lnTo>
                <a:lnTo>
                  <a:pt x="30480" y="2011680"/>
                </a:lnTo>
                <a:lnTo>
                  <a:pt x="30480" y="2004060"/>
                </a:lnTo>
                <a:lnTo>
                  <a:pt x="30480" y="2004060"/>
                </a:lnTo>
                <a:lnTo>
                  <a:pt x="30480" y="1996440"/>
                </a:lnTo>
                <a:lnTo>
                  <a:pt x="30480" y="1988820"/>
                </a:lnTo>
                <a:lnTo>
                  <a:pt x="30480" y="1973580"/>
                </a:lnTo>
                <a:lnTo>
                  <a:pt x="30480" y="1965960"/>
                </a:lnTo>
                <a:lnTo>
                  <a:pt x="30480" y="1958340"/>
                </a:lnTo>
                <a:lnTo>
                  <a:pt x="30480" y="1943100"/>
                </a:lnTo>
                <a:lnTo>
                  <a:pt x="30480" y="1927860"/>
                </a:lnTo>
                <a:lnTo>
                  <a:pt x="30480" y="1912620"/>
                </a:lnTo>
                <a:lnTo>
                  <a:pt x="30480" y="1897380"/>
                </a:lnTo>
                <a:lnTo>
                  <a:pt x="30480" y="1874520"/>
                </a:lnTo>
                <a:lnTo>
                  <a:pt x="30480" y="1859280"/>
                </a:lnTo>
                <a:lnTo>
                  <a:pt x="30480" y="1836420"/>
                </a:lnTo>
                <a:lnTo>
                  <a:pt x="30480" y="1821180"/>
                </a:lnTo>
                <a:lnTo>
                  <a:pt x="30480" y="1790700"/>
                </a:lnTo>
                <a:lnTo>
                  <a:pt x="38100" y="1775460"/>
                </a:lnTo>
                <a:lnTo>
                  <a:pt x="38100" y="1744980"/>
                </a:lnTo>
                <a:lnTo>
                  <a:pt x="38100" y="1722120"/>
                </a:lnTo>
                <a:lnTo>
                  <a:pt x="38100" y="1699260"/>
                </a:lnTo>
                <a:lnTo>
                  <a:pt x="38100" y="1668780"/>
                </a:lnTo>
                <a:lnTo>
                  <a:pt x="38100" y="1638300"/>
                </a:lnTo>
                <a:lnTo>
                  <a:pt x="38100" y="1615440"/>
                </a:lnTo>
                <a:lnTo>
                  <a:pt x="38100" y="1584960"/>
                </a:lnTo>
                <a:lnTo>
                  <a:pt x="38100" y="1554480"/>
                </a:lnTo>
                <a:lnTo>
                  <a:pt x="45720" y="1524000"/>
                </a:lnTo>
                <a:lnTo>
                  <a:pt x="45720" y="1493520"/>
                </a:lnTo>
                <a:lnTo>
                  <a:pt x="45720" y="1463040"/>
                </a:lnTo>
                <a:lnTo>
                  <a:pt x="45720" y="1432560"/>
                </a:lnTo>
                <a:lnTo>
                  <a:pt x="45720" y="1394460"/>
                </a:lnTo>
                <a:lnTo>
                  <a:pt x="45720" y="1363980"/>
                </a:lnTo>
                <a:lnTo>
                  <a:pt x="45720" y="1333500"/>
                </a:lnTo>
                <a:lnTo>
                  <a:pt x="45720" y="1295400"/>
                </a:lnTo>
                <a:lnTo>
                  <a:pt x="45720" y="1264920"/>
                </a:lnTo>
                <a:lnTo>
                  <a:pt x="45720" y="1226820"/>
                </a:lnTo>
                <a:lnTo>
                  <a:pt x="45720" y="1196340"/>
                </a:lnTo>
                <a:lnTo>
                  <a:pt x="45720" y="1158240"/>
                </a:lnTo>
                <a:lnTo>
                  <a:pt x="45720" y="1120140"/>
                </a:lnTo>
                <a:lnTo>
                  <a:pt x="45720" y="1089660"/>
                </a:lnTo>
                <a:lnTo>
                  <a:pt x="45720" y="1059180"/>
                </a:lnTo>
                <a:lnTo>
                  <a:pt x="45720" y="1021080"/>
                </a:lnTo>
                <a:lnTo>
                  <a:pt x="45720" y="990600"/>
                </a:lnTo>
                <a:lnTo>
                  <a:pt x="45720" y="952500"/>
                </a:lnTo>
                <a:lnTo>
                  <a:pt x="45720" y="914400"/>
                </a:lnTo>
                <a:lnTo>
                  <a:pt x="45720" y="883920"/>
                </a:lnTo>
                <a:lnTo>
                  <a:pt x="45720" y="845820"/>
                </a:lnTo>
                <a:lnTo>
                  <a:pt x="45720" y="815340"/>
                </a:lnTo>
                <a:lnTo>
                  <a:pt x="38100" y="777240"/>
                </a:lnTo>
                <a:lnTo>
                  <a:pt x="38100" y="739140"/>
                </a:lnTo>
                <a:lnTo>
                  <a:pt x="38100" y="708660"/>
                </a:lnTo>
                <a:lnTo>
                  <a:pt x="38100" y="670560"/>
                </a:lnTo>
                <a:lnTo>
                  <a:pt x="30480" y="632460"/>
                </a:lnTo>
                <a:lnTo>
                  <a:pt x="30480" y="601980"/>
                </a:lnTo>
                <a:lnTo>
                  <a:pt x="30480" y="563880"/>
                </a:lnTo>
                <a:lnTo>
                  <a:pt x="30480" y="533400"/>
                </a:lnTo>
                <a:lnTo>
                  <a:pt x="22860" y="502920"/>
                </a:lnTo>
                <a:lnTo>
                  <a:pt x="22860" y="464820"/>
                </a:lnTo>
                <a:lnTo>
                  <a:pt x="22860" y="434340"/>
                </a:lnTo>
                <a:lnTo>
                  <a:pt x="15240" y="403860"/>
                </a:lnTo>
                <a:lnTo>
                  <a:pt x="15240" y="373380"/>
                </a:lnTo>
                <a:lnTo>
                  <a:pt x="15240" y="342900"/>
                </a:lnTo>
                <a:lnTo>
                  <a:pt x="15240" y="320040"/>
                </a:lnTo>
                <a:lnTo>
                  <a:pt x="15240" y="289560"/>
                </a:lnTo>
                <a:lnTo>
                  <a:pt x="15240" y="259080"/>
                </a:lnTo>
                <a:lnTo>
                  <a:pt x="15240" y="236220"/>
                </a:lnTo>
                <a:lnTo>
                  <a:pt x="15240" y="213360"/>
                </a:lnTo>
                <a:lnTo>
                  <a:pt x="15240" y="182880"/>
                </a:lnTo>
                <a:lnTo>
                  <a:pt x="15240" y="160020"/>
                </a:lnTo>
                <a:lnTo>
                  <a:pt x="15240" y="144780"/>
                </a:lnTo>
                <a:lnTo>
                  <a:pt x="15240" y="121920"/>
                </a:lnTo>
                <a:lnTo>
                  <a:pt x="15240" y="106680"/>
                </a:lnTo>
                <a:lnTo>
                  <a:pt x="15240" y="91440"/>
                </a:lnTo>
                <a:lnTo>
                  <a:pt x="15240" y="68580"/>
                </a:lnTo>
                <a:lnTo>
                  <a:pt x="15240" y="60960"/>
                </a:lnTo>
                <a:lnTo>
                  <a:pt x="15240" y="45720"/>
                </a:lnTo>
                <a:lnTo>
                  <a:pt x="7620" y="38100"/>
                </a:lnTo>
                <a:lnTo>
                  <a:pt x="7620" y="30480"/>
                </a:lnTo>
                <a:lnTo>
                  <a:pt x="7620" y="22860"/>
                </a:lnTo>
                <a:lnTo>
                  <a:pt x="7620" y="15240"/>
                </a:lnTo>
                <a:lnTo>
                  <a:pt x="7620" y="7620"/>
                </a:lnTo>
                <a:lnTo>
                  <a:pt x="7620" y="7620"/>
                </a:lnTo>
                <a:lnTo>
                  <a:pt x="7620" y="7620"/>
                </a:lnTo>
                <a:lnTo>
                  <a:pt x="0" y="0"/>
                </a:lnTo>
                <a:lnTo>
                  <a:pt x="0" y="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0" y="15240"/>
                </a:lnTo>
                <a:lnTo>
                  <a:pt x="0" y="152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Freeform 6166"/>
          <p:cNvSpPr/>
          <p:nvPr/>
        </p:nvSpPr>
        <p:spPr>
          <a:xfrm>
            <a:off x="1959120" y="4465800"/>
            <a:ext cx="1888920" cy="144360"/>
          </a:xfrm>
          <a:custGeom>
            <a:avLst/>
            <a:gdLst>
              <a:gd name="textAreaLeft" fmla="*/ 0 w 1888920"/>
              <a:gd name="textAreaRight" fmla="*/ 1889280 w 18889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889761" h="144781">
                <a:moveTo>
                  <a:pt x="1889760" y="0"/>
                </a:moveTo>
                <a:lnTo>
                  <a:pt x="1889760" y="0"/>
                </a:lnTo>
                <a:lnTo>
                  <a:pt x="1889760" y="0"/>
                </a:lnTo>
                <a:lnTo>
                  <a:pt x="1889760" y="0"/>
                </a:lnTo>
                <a:lnTo>
                  <a:pt x="1889760" y="0"/>
                </a:lnTo>
                <a:lnTo>
                  <a:pt x="1889760" y="0"/>
                </a:lnTo>
                <a:lnTo>
                  <a:pt x="1889760" y="0"/>
                </a:lnTo>
                <a:lnTo>
                  <a:pt x="1889760" y="0"/>
                </a:lnTo>
                <a:lnTo>
                  <a:pt x="1889760" y="0"/>
                </a:lnTo>
                <a:lnTo>
                  <a:pt x="1889760" y="0"/>
                </a:lnTo>
                <a:lnTo>
                  <a:pt x="1889760" y="0"/>
                </a:lnTo>
                <a:lnTo>
                  <a:pt x="1882140" y="0"/>
                </a:lnTo>
                <a:lnTo>
                  <a:pt x="1874520" y="0"/>
                </a:lnTo>
                <a:lnTo>
                  <a:pt x="1866900" y="0"/>
                </a:lnTo>
                <a:lnTo>
                  <a:pt x="1859280" y="0"/>
                </a:lnTo>
                <a:lnTo>
                  <a:pt x="1859280" y="0"/>
                </a:lnTo>
                <a:lnTo>
                  <a:pt x="1844040" y="0"/>
                </a:lnTo>
                <a:lnTo>
                  <a:pt x="1836420" y="0"/>
                </a:lnTo>
                <a:lnTo>
                  <a:pt x="1828800" y="7620"/>
                </a:lnTo>
                <a:lnTo>
                  <a:pt x="1813560" y="7620"/>
                </a:lnTo>
                <a:lnTo>
                  <a:pt x="1798320" y="7620"/>
                </a:lnTo>
                <a:lnTo>
                  <a:pt x="1783080" y="7620"/>
                </a:lnTo>
                <a:lnTo>
                  <a:pt x="1767840" y="7620"/>
                </a:lnTo>
                <a:lnTo>
                  <a:pt x="1752600" y="7620"/>
                </a:lnTo>
                <a:lnTo>
                  <a:pt x="1729740" y="7620"/>
                </a:lnTo>
                <a:lnTo>
                  <a:pt x="1714500" y="15240"/>
                </a:lnTo>
                <a:lnTo>
                  <a:pt x="1691640" y="15240"/>
                </a:lnTo>
                <a:lnTo>
                  <a:pt x="1668780" y="15240"/>
                </a:lnTo>
                <a:lnTo>
                  <a:pt x="1653540" y="22860"/>
                </a:lnTo>
                <a:lnTo>
                  <a:pt x="1623060" y="22860"/>
                </a:lnTo>
                <a:lnTo>
                  <a:pt x="1600200" y="30480"/>
                </a:lnTo>
                <a:lnTo>
                  <a:pt x="1577340" y="30480"/>
                </a:lnTo>
                <a:lnTo>
                  <a:pt x="1546860" y="38100"/>
                </a:lnTo>
                <a:lnTo>
                  <a:pt x="1524000" y="38100"/>
                </a:lnTo>
                <a:lnTo>
                  <a:pt x="1493520" y="45720"/>
                </a:lnTo>
                <a:lnTo>
                  <a:pt x="1463040" y="53340"/>
                </a:lnTo>
                <a:lnTo>
                  <a:pt x="1432560" y="53340"/>
                </a:lnTo>
                <a:lnTo>
                  <a:pt x="1402080" y="60960"/>
                </a:lnTo>
                <a:lnTo>
                  <a:pt x="1371600" y="68580"/>
                </a:lnTo>
                <a:lnTo>
                  <a:pt x="1333500" y="68580"/>
                </a:lnTo>
                <a:lnTo>
                  <a:pt x="1295400" y="76200"/>
                </a:lnTo>
                <a:lnTo>
                  <a:pt x="1257300" y="76200"/>
                </a:lnTo>
                <a:lnTo>
                  <a:pt x="1219200" y="83820"/>
                </a:lnTo>
                <a:lnTo>
                  <a:pt x="1181100" y="83820"/>
                </a:lnTo>
                <a:lnTo>
                  <a:pt x="1143000" y="91440"/>
                </a:lnTo>
                <a:lnTo>
                  <a:pt x="1104900" y="91440"/>
                </a:lnTo>
                <a:lnTo>
                  <a:pt x="1059180" y="99060"/>
                </a:lnTo>
                <a:lnTo>
                  <a:pt x="1021080" y="106680"/>
                </a:lnTo>
                <a:lnTo>
                  <a:pt x="982980" y="106680"/>
                </a:lnTo>
                <a:lnTo>
                  <a:pt x="937260" y="106680"/>
                </a:lnTo>
                <a:lnTo>
                  <a:pt x="899160" y="114300"/>
                </a:lnTo>
                <a:lnTo>
                  <a:pt x="853440" y="114300"/>
                </a:lnTo>
                <a:lnTo>
                  <a:pt x="807720" y="121920"/>
                </a:lnTo>
                <a:lnTo>
                  <a:pt x="769620" y="121920"/>
                </a:lnTo>
                <a:lnTo>
                  <a:pt x="723900" y="121920"/>
                </a:lnTo>
                <a:lnTo>
                  <a:pt x="678180" y="129540"/>
                </a:lnTo>
                <a:lnTo>
                  <a:pt x="640080" y="129540"/>
                </a:lnTo>
                <a:lnTo>
                  <a:pt x="594360" y="137160"/>
                </a:lnTo>
                <a:lnTo>
                  <a:pt x="556260" y="137160"/>
                </a:lnTo>
                <a:lnTo>
                  <a:pt x="510540" y="144780"/>
                </a:lnTo>
                <a:lnTo>
                  <a:pt x="472440" y="144780"/>
                </a:lnTo>
                <a:lnTo>
                  <a:pt x="426720" y="144780"/>
                </a:lnTo>
                <a:lnTo>
                  <a:pt x="388620" y="144780"/>
                </a:lnTo>
                <a:lnTo>
                  <a:pt x="358140" y="144780"/>
                </a:lnTo>
                <a:lnTo>
                  <a:pt x="320040" y="144780"/>
                </a:lnTo>
                <a:lnTo>
                  <a:pt x="281940" y="144780"/>
                </a:lnTo>
                <a:lnTo>
                  <a:pt x="251460" y="144780"/>
                </a:lnTo>
                <a:lnTo>
                  <a:pt x="220980" y="144780"/>
                </a:lnTo>
                <a:lnTo>
                  <a:pt x="190500" y="144780"/>
                </a:lnTo>
                <a:lnTo>
                  <a:pt x="160020" y="144780"/>
                </a:lnTo>
                <a:lnTo>
                  <a:pt x="137160" y="144780"/>
                </a:lnTo>
                <a:lnTo>
                  <a:pt x="114300" y="144780"/>
                </a:lnTo>
                <a:lnTo>
                  <a:pt x="91440" y="144780"/>
                </a:lnTo>
                <a:lnTo>
                  <a:pt x="76200" y="144780"/>
                </a:lnTo>
                <a:lnTo>
                  <a:pt x="53340" y="137160"/>
                </a:lnTo>
                <a:lnTo>
                  <a:pt x="45720" y="137160"/>
                </a:lnTo>
                <a:lnTo>
                  <a:pt x="30480" y="137160"/>
                </a:lnTo>
                <a:lnTo>
                  <a:pt x="22860" y="137160"/>
                </a:lnTo>
                <a:lnTo>
                  <a:pt x="15240" y="137160"/>
                </a:lnTo>
                <a:lnTo>
                  <a:pt x="7620" y="129540"/>
                </a:lnTo>
                <a:lnTo>
                  <a:pt x="0" y="129540"/>
                </a:lnTo>
                <a:lnTo>
                  <a:pt x="0" y="129540"/>
                </a:lnTo>
                <a:lnTo>
                  <a:pt x="0" y="129540"/>
                </a:lnTo>
                <a:lnTo>
                  <a:pt x="0" y="129540"/>
                </a:lnTo>
                <a:lnTo>
                  <a:pt x="0" y="129540"/>
                </a:lnTo>
                <a:lnTo>
                  <a:pt x="0" y="129540"/>
                </a:lnTo>
                <a:lnTo>
                  <a:pt x="0" y="129540"/>
                </a:lnTo>
                <a:lnTo>
                  <a:pt x="0" y="129540"/>
                </a:lnTo>
                <a:lnTo>
                  <a:pt x="0" y="1295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Freeform 6167"/>
          <p:cNvSpPr/>
          <p:nvPr/>
        </p:nvSpPr>
        <p:spPr>
          <a:xfrm>
            <a:off x="3894120" y="4465800"/>
            <a:ext cx="212760" cy="2095200"/>
          </a:xfrm>
          <a:custGeom>
            <a:avLst/>
            <a:gdLst>
              <a:gd name="textAreaLeft" fmla="*/ 0 w 212760"/>
              <a:gd name="textAreaRight" fmla="*/ 213120 w 212760"/>
              <a:gd name="textAreaTop" fmla="*/ 0 h 2095200"/>
              <a:gd name="textAreaBottom" fmla="*/ 2095560 h 2095200"/>
            </a:gdLst>
            <a:ahLst/>
            <a:rect l="textAreaLeft" t="textAreaTop" r="textAreaRight" b="textAreaBottom"/>
            <a:pathLst>
              <a:path w="213361" h="209550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620" y="0"/>
                </a:lnTo>
                <a:lnTo>
                  <a:pt x="7620" y="7620"/>
                </a:lnTo>
                <a:lnTo>
                  <a:pt x="7620" y="7620"/>
                </a:lnTo>
                <a:lnTo>
                  <a:pt x="7620" y="15240"/>
                </a:lnTo>
                <a:lnTo>
                  <a:pt x="15240" y="15240"/>
                </a:lnTo>
                <a:lnTo>
                  <a:pt x="15240" y="22860"/>
                </a:lnTo>
                <a:lnTo>
                  <a:pt x="15240" y="22860"/>
                </a:lnTo>
                <a:lnTo>
                  <a:pt x="15240" y="30480"/>
                </a:lnTo>
                <a:lnTo>
                  <a:pt x="15240" y="38100"/>
                </a:lnTo>
                <a:lnTo>
                  <a:pt x="15240" y="45720"/>
                </a:lnTo>
                <a:lnTo>
                  <a:pt x="22860" y="53340"/>
                </a:lnTo>
                <a:lnTo>
                  <a:pt x="22860" y="60960"/>
                </a:lnTo>
                <a:lnTo>
                  <a:pt x="22860" y="68580"/>
                </a:lnTo>
                <a:lnTo>
                  <a:pt x="22860" y="76200"/>
                </a:lnTo>
                <a:lnTo>
                  <a:pt x="22860" y="83820"/>
                </a:lnTo>
                <a:lnTo>
                  <a:pt x="30480" y="91440"/>
                </a:lnTo>
                <a:lnTo>
                  <a:pt x="30480" y="99060"/>
                </a:lnTo>
                <a:lnTo>
                  <a:pt x="30480" y="114300"/>
                </a:lnTo>
                <a:lnTo>
                  <a:pt x="30480" y="121920"/>
                </a:lnTo>
                <a:lnTo>
                  <a:pt x="38100" y="137160"/>
                </a:lnTo>
                <a:lnTo>
                  <a:pt x="38100" y="152400"/>
                </a:lnTo>
                <a:lnTo>
                  <a:pt x="45720" y="167640"/>
                </a:lnTo>
                <a:lnTo>
                  <a:pt x="45720" y="182880"/>
                </a:lnTo>
                <a:lnTo>
                  <a:pt x="45720" y="198120"/>
                </a:lnTo>
                <a:lnTo>
                  <a:pt x="45720" y="220980"/>
                </a:lnTo>
                <a:lnTo>
                  <a:pt x="53340" y="236220"/>
                </a:lnTo>
                <a:lnTo>
                  <a:pt x="53340" y="259080"/>
                </a:lnTo>
                <a:lnTo>
                  <a:pt x="60960" y="281940"/>
                </a:lnTo>
                <a:lnTo>
                  <a:pt x="60960" y="304800"/>
                </a:lnTo>
                <a:lnTo>
                  <a:pt x="68580" y="327660"/>
                </a:lnTo>
                <a:lnTo>
                  <a:pt x="68580" y="350520"/>
                </a:lnTo>
                <a:lnTo>
                  <a:pt x="76200" y="381000"/>
                </a:lnTo>
                <a:lnTo>
                  <a:pt x="76200" y="403860"/>
                </a:lnTo>
                <a:lnTo>
                  <a:pt x="83820" y="434340"/>
                </a:lnTo>
                <a:lnTo>
                  <a:pt x="83820" y="464820"/>
                </a:lnTo>
                <a:lnTo>
                  <a:pt x="91440" y="495300"/>
                </a:lnTo>
                <a:lnTo>
                  <a:pt x="91440" y="525780"/>
                </a:lnTo>
                <a:lnTo>
                  <a:pt x="99060" y="556260"/>
                </a:lnTo>
                <a:lnTo>
                  <a:pt x="99060" y="594360"/>
                </a:lnTo>
                <a:lnTo>
                  <a:pt x="106680" y="624840"/>
                </a:lnTo>
                <a:lnTo>
                  <a:pt x="106680" y="662940"/>
                </a:lnTo>
                <a:lnTo>
                  <a:pt x="114300" y="701040"/>
                </a:lnTo>
                <a:lnTo>
                  <a:pt x="114300" y="731520"/>
                </a:lnTo>
                <a:lnTo>
                  <a:pt x="121920" y="769620"/>
                </a:lnTo>
                <a:lnTo>
                  <a:pt x="121920" y="807720"/>
                </a:lnTo>
                <a:lnTo>
                  <a:pt x="129540" y="853440"/>
                </a:lnTo>
                <a:lnTo>
                  <a:pt x="137160" y="883920"/>
                </a:lnTo>
                <a:lnTo>
                  <a:pt x="144780" y="929640"/>
                </a:lnTo>
                <a:lnTo>
                  <a:pt x="144780" y="967740"/>
                </a:lnTo>
                <a:lnTo>
                  <a:pt x="152400" y="1005840"/>
                </a:lnTo>
                <a:lnTo>
                  <a:pt x="152400" y="1043940"/>
                </a:lnTo>
                <a:lnTo>
                  <a:pt x="160020" y="1082040"/>
                </a:lnTo>
                <a:lnTo>
                  <a:pt x="167640" y="1127760"/>
                </a:lnTo>
                <a:lnTo>
                  <a:pt x="167640" y="1165860"/>
                </a:lnTo>
                <a:lnTo>
                  <a:pt x="175260" y="1203960"/>
                </a:lnTo>
                <a:lnTo>
                  <a:pt x="175260" y="1242060"/>
                </a:lnTo>
                <a:lnTo>
                  <a:pt x="182880" y="1280160"/>
                </a:lnTo>
                <a:lnTo>
                  <a:pt x="190500" y="1318260"/>
                </a:lnTo>
                <a:lnTo>
                  <a:pt x="190500" y="1356360"/>
                </a:lnTo>
                <a:lnTo>
                  <a:pt x="198120" y="1394460"/>
                </a:lnTo>
                <a:lnTo>
                  <a:pt x="198120" y="1424940"/>
                </a:lnTo>
                <a:lnTo>
                  <a:pt x="198120" y="1463040"/>
                </a:lnTo>
                <a:lnTo>
                  <a:pt x="198120" y="1493520"/>
                </a:lnTo>
                <a:lnTo>
                  <a:pt x="198120" y="1531620"/>
                </a:lnTo>
                <a:lnTo>
                  <a:pt x="198120" y="1562100"/>
                </a:lnTo>
                <a:lnTo>
                  <a:pt x="205740" y="1592580"/>
                </a:lnTo>
                <a:lnTo>
                  <a:pt x="205740" y="1623060"/>
                </a:lnTo>
                <a:lnTo>
                  <a:pt x="205740" y="1653540"/>
                </a:lnTo>
                <a:lnTo>
                  <a:pt x="205740" y="1676400"/>
                </a:lnTo>
                <a:lnTo>
                  <a:pt x="205740" y="1706880"/>
                </a:lnTo>
                <a:lnTo>
                  <a:pt x="205740" y="1729740"/>
                </a:lnTo>
                <a:lnTo>
                  <a:pt x="205740" y="1752600"/>
                </a:lnTo>
                <a:lnTo>
                  <a:pt x="205740" y="1783080"/>
                </a:lnTo>
                <a:lnTo>
                  <a:pt x="205740" y="1805940"/>
                </a:lnTo>
                <a:lnTo>
                  <a:pt x="205740" y="1828800"/>
                </a:lnTo>
                <a:lnTo>
                  <a:pt x="205740" y="1844040"/>
                </a:lnTo>
                <a:lnTo>
                  <a:pt x="205740" y="1866900"/>
                </a:lnTo>
                <a:lnTo>
                  <a:pt x="205740" y="1889760"/>
                </a:lnTo>
                <a:lnTo>
                  <a:pt x="205740" y="1905000"/>
                </a:lnTo>
                <a:lnTo>
                  <a:pt x="205740" y="1920240"/>
                </a:lnTo>
                <a:lnTo>
                  <a:pt x="205740" y="1935480"/>
                </a:lnTo>
                <a:lnTo>
                  <a:pt x="205740" y="1958340"/>
                </a:lnTo>
                <a:lnTo>
                  <a:pt x="205740" y="1973580"/>
                </a:lnTo>
                <a:lnTo>
                  <a:pt x="205740" y="1988820"/>
                </a:lnTo>
                <a:lnTo>
                  <a:pt x="205740" y="2004060"/>
                </a:lnTo>
                <a:lnTo>
                  <a:pt x="213360" y="2019300"/>
                </a:lnTo>
                <a:lnTo>
                  <a:pt x="213360" y="2026920"/>
                </a:lnTo>
                <a:lnTo>
                  <a:pt x="213360" y="2042160"/>
                </a:lnTo>
                <a:lnTo>
                  <a:pt x="213360" y="2049780"/>
                </a:lnTo>
                <a:lnTo>
                  <a:pt x="213360" y="2057400"/>
                </a:lnTo>
                <a:lnTo>
                  <a:pt x="213360" y="2065019"/>
                </a:lnTo>
                <a:lnTo>
                  <a:pt x="213360" y="2072641"/>
                </a:lnTo>
                <a:lnTo>
                  <a:pt x="213360" y="2080260"/>
                </a:lnTo>
                <a:lnTo>
                  <a:pt x="213360" y="2087880"/>
                </a:lnTo>
                <a:lnTo>
                  <a:pt x="213360" y="2095500"/>
                </a:lnTo>
                <a:lnTo>
                  <a:pt x="213360" y="20955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Freeform 6168"/>
          <p:cNvSpPr/>
          <p:nvPr/>
        </p:nvSpPr>
        <p:spPr>
          <a:xfrm>
            <a:off x="2468520" y="2255760"/>
            <a:ext cx="1463760" cy="85248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852480"/>
              <a:gd name="textAreaBottom" fmla="*/ 852840 h 852480"/>
            </a:gdLst>
            <a:ahLst/>
            <a:rect l="textAreaLeft" t="textAreaTop" r="textAreaRight" b="textAreaBottom"/>
            <a:pathLst>
              <a:path w="1463041" h="853441">
                <a:moveTo>
                  <a:pt x="1463040" y="7620"/>
                </a:moveTo>
                <a:lnTo>
                  <a:pt x="1455420" y="7620"/>
                </a:lnTo>
                <a:lnTo>
                  <a:pt x="1440180" y="7620"/>
                </a:lnTo>
                <a:lnTo>
                  <a:pt x="1424940" y="7620"/>
                </a:lnTo>
                <a:lnTo>
                  <a:pt x="1417320" y="0"/>
                </a:lnTo>
                <a:lnTo>
                  <a:pt x="1402080" y="0"/>
                </a:lnTo>
                <a:lnTo>
                  <a:pt x="1386840" y="0"/>
                </a:lnTo>
                <a:lnTo>
                  <a:pt x="1371600" y="0"/>
                </a:lnTo>
                <a:lnTo>
                  <a:pt x="1348740" y="7620"/>
                </a:lnTo>
                <a:lnTo>
                  <a:pt x="1333500" y="7620"/>
                </a:lnTo>
                <a:lnTo>
                  <a:pt x="1310640" y="7620"/>
                </a:lnTo>
                <a:lnTo>
                  <a:pt x="1287780" y="15240"/>
                </a:lnTo>
                <a:lnTo>
                  <a:pt x="1272540" y="15240"/>
                </a:lnTo>
                <a:lnTo>
                  <a:pt x="1249680" y="22860"/>
                </a:lnTo>
                <a:lnTo>
                  <a:pt x="1226820" y="22860"/>
                </a:lnTo>
                <a:lnTo>
                  <a:pt x="1196340" y="30480"/>
                </a:lnTo>
                <a:lnTo>
                  <a:pt x="1173480" y="38100"/>
                </a:lnTo>
                <a:lnTo>
                  <a:pt x="1150620" y="45720"/>
                </a:lnTo>
                <a:lnTo>
                  <a:pt x="1120140" y="53340"/>
                </a:lnTo>
                <a:lnTo>
                  <a:pt x="1089660" y="68580"/>
                </a:lnTo>
                <a:lnTo>
                  <a:pt x="1059180" y="76200"/>
                </a:lnTo>
                <a:lnTo>
                  <a:pt x="1028700" y="91440"/>
                </a:lnTo>
                <a:lnTo>
                  <a:pt x="998220" y="99060"/>
                </a:lnTo>
                <a:lnTo>
                  <a:pt x="960120" y="114300"/>
                </a:lnTo>
                <a:lnTo>
                  <a:pt x="929640" y="129540"/>
                </a:lnTo>
                <a:lnTo>
                  <a:pt x="891540" y="144780"/>
                </a:lnTo>
                <a:lnTo>
                  <a:pt x="861060" y="167640"/>
                </a:lnTo>
                <a:lnTo>
                  <a:pt x="822960" y="182880"/>
                </a:lnTo>
                <a:lnTo>
                  <a:pt x="784860" y="205740"/>
                </a:lnTo>
                <a:lnTo>
                  <a:pt x="739140" y="228600"/>
                </a:lnTo>
                <a:lnTo>
                  <a:pt x="701040" y="251460"/>
                </a:lnTo>
                <a:lnTo>
                  <a:pt x="662940" y="274320"/>
                </a:lnTo>
                <a:lnTo>
                  <a:pt x="624840" y="304800"/>
                </a:lnTo>
                <a:lnTo>
                  <a:pt x="586740" y="335280"/>
                </a:lnTo>
                <a:lnTo>
                  <a:pt x="541020" y="358140"/>
                </a:lnTo>
                <a:lnTo>
                  <a:pt x="502920" y="396240"/>
                </a:lnTo>
                <a:lnTo>
                  <a:pt x="457200" y="426720"/>
                </a:lnTo>
                <a:lnTo>
                  <a:pt x="419100" y="457200"/>
                </a:lnTo>
                <a:lnTo>
                  <a:pt x="381000" y="487680"/>
                </a:lnTo>
                <a:lnTo>
                  <a:pt x="335280" y="525780"/>
                </a:lnTo>
                <a:lnTo>
                  <a:pt x="297180" y="563880"/>
                </a:lnTo>
                <a:lnTo>
                  <a:pt x="259080" y="601980"/>
                </a:lnTo>
                <a:lnTo>
                  <a:pt x="220980" y="632460"/>
                </a:lnTo>
                <a:lnTo>
                  <a:pt x="182880" y="670560"/>
                </a:lnTo>
                <a:lnTo>
                  <a:pt x="144780" y="701040"/>
                </a:lnTo>
                <a:lnTo>
                  <a:pt x="114300" y="739140"/>
                </a:lnTo>
                <a:lnTo>
                  <a:pt x="83820" y="769620"/>
                </a:lnTo>
                <a:lnTo>
                  <a:pt x="60960" y="792480"/>
                </a:lnTo>
                <a:lnTo>
                  <a:pt x="30480" y="815340"/>
                </a:lnTo>
                <a:lnTo>
                  <a:pt x="0" y="853440"/>
                </a:lnTo>
                <a:lnTo>
                  <a:pt x="0" y="8534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Freeform 6169"/>
          <p:cNvSpPr/>
          <p:nvPr/>
        </p:nvSpPr>
        <p:spPr>
          <a:xfrm>
            <a:off x="2003400" y="2552760"/>
            <a:ext cx="1257480" cy="153180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531800"/>
              <a:gd name="textAreaBottom" fmla="*/ 1532160 h 1531800"/>
            </a:gdLst>
            <a:ahLst/>
            <a:rect l="textAreaLeft" t="textAreaTop" r="textAreaRight" b="textAreaBottom"/>
            <a:pathLst>
              <a:path w="1257301" h="1531621">
                <a:moveTo>
                  <a:pt x="1257300" y="0"/>
                </a:moveTo>
                <a:lnTo>
                  <a:pt x="1242060" y="0"/>
                </a:lnTo>
                <a:lnTo>
                  <a:pt x="1219200" y="7620"/>
                </a:lnTo>
                <a:lnTo>
                  <a:pt x="1196340" y="15240"/>
                </a:lnTo>
                <a:lnTo>
                  <a:pt x="1165860" y="15240"/>
                </a:lnTo>
                <a:lnTo>
                  <a:pt x="1143000" y="22860"/>
                </a:lnTo>
                <a:lnTo>
                  <a:pt x="1120140" y="38100"/>
                </a:lnTo>
                <a:lnTo>
                  <a:pt x="1097280" y="45720"/>
                </a:lnTo>
                <a:lnTo>
                  <a:pt x="1066800" y="53340"/>
                </a:lnTo>
                <a:lnTo>
                  <a:pt x="1036320" y="60960"/>
                </a:lnTo>
                <a:lnTo>
                  <a:pt x="1013460" y="76200"/>
                </a:lnTo>
                <a:lnTo>
                  <a:pt x="982980" y="91440"/>
                </a:lnTo>
                <a:lnTo>
                  <a:pt x="952500" y="106680"/>
                </a:lnTo>
                <a:lnTo>
                  <a:pt x="922020" y="121920"/>
                </a:lnTo>
                <a:lnTo>
                  <a:pt x="891540" y="137160"/>
                </a:lnTo>
                <a:lnTo>
                  <a:pt x="861060" y="152400"/>
                </a:lnTo>
                <a:lnTo>
                  <a:pt x="822960" y="175260"/>
                </a:lnTo>
                <a:lnTo>
                  <a:pt x="792480" y="198120"/>
                </a:lnTo>
                <a:lnTo>
                  <a:pt x="762000" y="220980"/>
                </a:lnTo>
                <a:lnTo>
                  <a:pt x="723900" y="243840"/>
                </a:lnTo>
                <a:lnTo>
                  <a:pt x="693420" y="266700"/>
                </a:lnTo>
                <a:lnTo>
                  <a:pt x="662940" y="289560"/>
                </a:lnTo>
                <a:lnTo>
                  <a:pt x="632460" y="320040"/>
                </a:lnTo>
                <a:lnTo>
                  <a:pt x="594360" y="350520"/>
                </a:lnTo>
                <a:lnTo>
                  <a:pt x="563880" y="381000"/>
                </a:lnTo>
                <a:lnTo>
                  <a:pt x="533400" y="411480"/>
                </a:lnTo>
                <a:lnTo>
                  <a:pt x="502920" y="449580"/>
                </a:lnTo>
                <a:lnTo>
                  <a:pt x="472440" y="487680"/>
                </a:lnTo>
                <a:lnTo>
                  <a:pt x="441960" y="518160"/>
                </a:lnTo>
                <a:lnTo>
                  <a:pt x="411480" y="556260"/>
                </a:lnTo>
                <a:lnTo>
                  <a:pt x="381000" y="594360"/>
                </a:lnTo>
                <a:lnTo>
                  <a:pt x="350520" y="632460"/>
                </a:lnTo>
                <a:lnTo>
                  <a:pt x="327660" y="670560"/>
                </a:lnTo>
                <a:lnTo>
                  <a:pt x="297180" y="716280"/>
                </a:lnTo>
                <a:lnTo>
                  <a:pt x="266700" y="762000"/>
                </a:lnTo>
                <a:lnTo>
                  <a:pt x="243840" y="800100"/>
                </a:lnTo>
                <a:lnTo>
                  <a:pt x="213360" y="845820"/>
                </a:lnTo>
                <a:lnTo>
                  <a:pt x="190500" y="891540"/>
                </a:lnTo>
                <a:lnTo>
                  <a:pt x="167640" y="944880"/>
                </a:lnTo>
                <a:lnTo>
                  <a:pt x="137160" y="990600"/>
                </a:lnTo>
                <a:lnTo>
                  <a:pt x="121920" y="1036320"/>
                </a:lnTo>
                <a:lnTo>
                  <a:pt x="99060" y="1089660"/>
                </a:lnTo>
                <a:lnTo>
                  <a:pt x="83820" y="1135380"/>
                </a:lnTo>
                <a:lnTo>
                  <a:pt x="60960" y="1188720"/>
                </a:lnTo>
                <a:lnTo>
                  <a:pt x="45720" y="1234440"/>
                </a:lnTo>
                <a:lnTo>
                  <a:pt x="38100" y="1280160"/>
                </a:lnTo>
                <a:lnTo>
                  <a:pt x="22860" y="1325880"/>
                </a:lnTo>
                <a:lnTo>
                  <a:pt x="22860" y="1371600"/>
                </a:lnTo>
                <a:lnTo>
                  <a:pt x="7620" y="1409700"/>
                </a:lnTo>
                <a:lnTo>
                  <a:pt x="7620" y="1447800"/>
                </a:lnTo>
                <a:lnTo>
                  <a:pt x="0" y="1478280"/>
                </a:lnTo>
                <a:lnTo>
                  <a:pt x="0" y="1531620"/>
                </a:lnTo>
                <a:lnTo>
                  <a:pt x="0" y="1531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Freeform 6170"/>
          <p:cNvSpPr/>
          <p:nvPr/>
        </p:nvSpPr>
        <p:spPr>
          <a:xfrm>
            <a:off x="1943280" y="3094200"/>
            <a:ext cx="677520" cy="1752480"/>
          </a:xfrm>
          <a:custGeom>
            <a:avLst/>
            <a:gdLst>
              <a:gd name="textAreaLeft" fmla="*/ 0 w 677520"/>
              <a:gd name="textAreaRight" fmla="*/ 677880 w 67752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678181" h="1752601">
                <a:moveTo>
                  <a:pt x="678180" y="7620"/>
                </a:moveTo>
                <a:lnTo>
                  <a:pt x="678180" y="0"/>
                </a:lnTo>
                <a:lnTo>
                  <a:pt x="670560" y="0"/>
                </a:lnTo>
                <a:lnTo>
                  <a:pt x="670560" y="0"/>
                </a:lnTo>
                <a:lnTo>
                  <a:pt x="662940" y="0"/>
                </a:lnTo>
                <a:lnTo>
                  <a:pt x="655320" y="0"/>
                </a:lnTo>
                <a:lnTo>
                  <a:pt x="647700" y="0"/>
                </a:lnTo>
                <a:lnTo>
                  <a:pt x="632460" y="7620"/>
                </a:lnTo>
                <a:lnTo>
                  <a:pt x="624840" y="15240"/>
                </a:lnTo>
                <a:lnTo>
                  <a:pt x="609600" y="30480"/>
                </a:lnTo>
                <a:lnTo>
                  <a:pt x="594360" y="38100"/>
                </a:lnTo>
                <a:lnTo>
                  <a:pt x="579120" y="53340"/>
                </a:lnTo>
                <a:lnTo>
                  <a:pt x="556260" y="68580"/>
                </a:lnTo>
                <a:lnTo>
                  <a:pt x="533400" y="83820"/>
                </a:lnTo>
                <a:lnTo>
                  <a:pt x="518160" y="99060"/>
                </a:lnTo>
                <a:lnTo>
                  <a:pt x="495300" y="114300"/>
                </a:lnTo>
                <a:lnTo>
                  <a:pt x="480060" y="137160"/>
                </a:lnTo>
                <a:lnTo>
                  <a:pt x="457200" y="160020"/>
                </a:lnTo>
                <a:lnTo>
                  <a:pt x="434340" y="182880"/>
                </a:lnTo>
                <a:lnTo>
                  <a:pt x="411480" y="205740"/>
                </a:lnTo>
                <a:lnTo>
                  <a:pt x="388620" y="228600"/>
                </a:lnTo>
                <a:lnTo>
                  <a:pt x="365760" y="251460"/>
                </a:lnTo>
                <a:lnTo>
                  <a:pt x="342900" y="281940"/>
                </a:lnTo>
                <a:lnTo>
                  <a:pt x="327660" y="312420"/>
                </a:lnTo>
                <a:lnTo>
                  <a:pt x="304800" y="335280"/>
                </a:lnTo>
                <a:lnTo>
                  <a:pt x="281940" y="365760"/>
                </a:lnTo>
                <a:lnTo>
                  <a:pt x="266700" y="396240"/>
                </a:lnTo>
                <a:lnTo>
                  <a:pt x="243840" y="426720"/>
                </a:lnTo>
                <a:lnTo>
                  <a:pt x="228600" y="457200"/>
                </a:lnTo>
                <a:lnTo>
                  <a:pt x="213360" y="495300"/>
                </a:lnTo>
                <a:lnTo>
                  <a:pt x="198120" y="525780"/>
                </a:lnTo>
                <a:lnTo>
                  <a:pt x="182880" y="563880"/>
                </a:lnTo>
                <a:lnTo>
                  <a:pt x="167640" y="601980"/>
                </a:lnTo>
                <a:lnTo>
                  <a:pt x="152400" y="632460"/>
                </a:lnTo>
                <a:lnTo>
                  <a:pt x="137160" y="670560"/>
                </a:lnTo>
                <a:lnTo>
                  <a:pt x="121920" y="716280"/>
                </a:lnTo>
                <a:lnTo>
                  <a:pt x="114300" y="754380"/>
                </a:lnTo>
                <a:lnTo>
                  <a:pt x="99060" y="792480"/>
                </a:lnTo>
                <a:lnTo>
                  <a:pt x="91440" y="830580"/>
                </a:lnTo>
                <a:lnTo>
                  <a:pt x="83820" y="876300"/>
                </a:lnTo>
                <a:lnTo>
                  <a:pt x="68580" y="914400"/>
                </a:lnTo>
                <a:lnTo>
                  <a:pt x="60960" y="960120"/>
                </a:lnTo>
                <a:lnTo>
                  <a:pt x="45720" y="998220"/>
                </a:lnTo>
                <a:lnTo>
                  <a:pt x="38100" y="1043940"/>
                </a:lnTo>
                <a:lnTo>
                  <a:pt x="38100" y="1089660"/>
                </a:lnTo>
                <a:lnTo>
                  <a:pt x="22860" y="1135380"/>
                </a:lnTo>
                <a:lnTo>
                  <a:pt x="15240" y="1173480"/>
                </a:lnTo>
                <a:lnTo>
                  <a:pt x="15240" y="1219200"/>
                </a:lnTo>
                <a:lnTo>
                  <a:pt x="7620" y="1264920"/>
                </a:lnTo>
                <a:lnTo>
                  <a:pt x="7620" y="1310640"/>
                </a:lnTo>
                <a:lnTo>
                  <a:pt x="0" y="1348740"/>
                </a:lnTo>
                <a:lnTo>
                  <a:pt x="0" y="1394460"/>
                </a:lnTo>
                <a:lnTo>
                  <a:pt x="0" y="1440180"/>
                </a:lnTo>
                <a:lnTo>
                  <a:pt x="0" y="1478280"/>
                </a:lnTo>
                <a:lnTo>
                  <a:pt x="0" y="1524000"/>
                </a:lnTo>
                <a:lnTo>
                  <a:pt x="0" y="1562100"/>
                </a:lnTo>
                <a:lnTo>
                  <a:pt x="7620" y="1600200"/>
                </a:lnTo>
                <a:lnTo>
                  <a:pt x="15240" y="1638300"/>
                </a:lnTo>
                <a:lnTo>
                  <a:pt x="22860" y="1676400"/>
                </a:lnTo>
                <a:lnTo>
                  <a:pt x="38100" y="1706880"/>
                </a:lnTo>
                <a:lnTo>
                  <a:pt x="53340" y="1752600"/>
                </a:lnTo>
                <a:lnTo>
                  <a:pt x="53340" y="17526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Freeform 6171"/>
          <p:cNvSpPr/>
          <p:nvPr/>
        </p:nvSpPr>
        <p:spPr>
          <a:xfrm>
            <a:off x="1951200" y="4327560"/>
            <a:ext cx="792000" cy="1517760"/>
          </a:xfrm>
          <a:custGeom>
            <a:avLst/>
            <a:gdLst>
              <a:gd name="textAreaLeft" fmla="*/ 0 w 792000"/>
              <a:gd name="textAreaRight" fmla="*/ 792360 w 792000"/>
              <a:gd name="textAreaTop" fmla="*/ 0 h 1517760"/>
              <a:gd name="textAreaBottom" fmla="*/ 1518120 h 1517760"/>
            </a:gdLst>
            <a:ahLst/>
            <a:rect l="textAreaLeft" t="textAreaTop" r="textAreaRight" b="textAreaBottom"/>
            <a:pathLst>
              <a:path w="792481" h="1516381">
                <a:moveTo>
                  <a:pt x="22860" y="0"/>
                </a:moveTo>
                <a:lnTo>
                  <a:pt x="15240" y="7620"/>
                </a:lnTo>
                <a:lnTo>
                  <a:pt x="7620" y="22860"/>
                </a:lnTo>
                <a:lnTo>
                  <a:pt x="7620" y="38100"/>
                </a:lnTo>
                <a:lnTo>
                  <a:pt x="7620" y="53340"/>
                </a:lnTo>
                <a:lnTo>
                  <a:pt x="0" y="76200"/>
                </a:lnTo>
                <a:lnTo>
                  <a:pt x="0" y="91440"/>
                </a:lnTo>
                <a:lnTo>
                  <a:pt x="0" y="106680"/>
                </a:lnTo>
                <a:lnTo>
                  <a:pt x="0" y="129540"/>
                </a:lnTo>
                <a:lnTo>
                  <a:pt x="0" y="144780"/>
                </a:lnTo>
                <a:lnTo>
                  <a:pt x="0" y="167640"/>
                </a:lnTo>
                <a:lnTo>
                  <a:pt x="0" y="190500"/>
                </a:lnTo>
                <a:lnTo>
                  <a:pt x="0" y="220980"/>
                </a:lnTo>
                <a:lnTo>
                  <a:pt x="7620" y="243840"/>
                </a:lnTo>
                <a:lnTo>
                  <a:pt x="7620" y="274320"/>
                </a:lnTo>
                <a:lnTo>
                  <a:pt x="15240" y="297180"/>
                </a:lnTo>
                <a:lnTo>
                  <a:pt x="15240" y="327660"/>
                </a:lnTo>
                <a:lnTo>
                  <a:pt x="30480" y="358140"/>
                </a:lnTo>
                <a:lnTo>
                  <a:pt x="38100" y="388620"/>
                </a:lnTo>
                <a:lnTo>
                  <a:pt x="45720" y="419100"/>
                </a:lnTo>
                <a:lnTo>
                  <a:pt x="53340" y="457200"/>
                </a:lnTo>
                <a:lnTo>
                  <a:pt x="60960" y="487680"/>
                </a:lnTo>
                <a:lnTo>
                  <a:pt x="76200" y="525780"/>
                </a:lnTo>
                <a:lnTo>
                  <a:pt x="91440" y="563880"/>
                </a:lnTo>
                <a:lnTo>
                  <a:pt x="99060" y="594360"/>
                </a:lnTo>
                <a:lnTo>
                  <a:pt x="114300" y="632460"/>
                </a:lnTo>
                <a:lnTo>
                  <a:pt x="129540" y="670560"/>
                </a:lnTo>
                <a:lnTo>
                  <a:pt x="152400" y="716280"/>
                </a:lnTo>
                <a:lnTo>
                  <a:pt x="167640" y="754380"/>
                </a:lnTo>
                <a:lnTo>
                  <a:pt x="190500" y="792480"/>
                </a:lnTo>
                <a:lnTo>
                  <a:pt x="213360" y="838200"/>
                </a:lnTo>
                <a:lnTo>
                  <a:pt x="236220" y="876300"/>
                </a:lnTo>
                <a:lnTo>
                  <a:pt x="259080" y="922020"/>
                </a:lnTo>
                <a:lnTo>
                  <a:pt x="281940" y="960120"/>
                </a:lnTo>
                <a:lnTo>
                  <a:pt x="312420" y="1005840"/>
                </a:lnTo>
                <a:lnTo>
                  <a:pt x="342900" y="1043940"/>
                </a:lnTo>
                <a:lnTo>
                  <a:pt x="373380" y="1089660"/>
                </a:lnTo>
                <a:lnTo>
                  <a:pt x="403860" y="1127760"/>
                </a:lnTo>
                <a:lnTo>
                  <a:pt x="434340" y="1173480"/>
                </a:lnTo>
                <a:lnTo>
                  <a:pt x="472440" y="1211580"/>
                </a:lnTo>
                <a:lnTo>
                  <a:pt x="510540" y="1257300"/>
                </a:lnTo>
                <a:lnTo>
                  <a:pt x="548640" y="1295400"/>
                </a:lnTo>
                <a:lnTo>
                  <a:pt x="586740" y="1333500"/>
                </a:lnTo>
                <a:lnTo>
                  <a:pt x="632460" y="1379220"/>
                </a:lnTo>
                <a:lnTo>
                  <a:pt x="678180" y="1417320"/>
                </a:lnTo>
                <a:lnTo>
                  <a:pt x="723900" y="1455420"/>
                </a:lnTo>
                <a:lnTo>
                  <a:pt x="792480" y="1516380"/>
                </a:lnTo>
                <a:lnTo>
                  <a:pt x="792480" y="15163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Freeform 6172"/>
          <p:cNvSpPr/>
          <p:nvPr/>
        </p:nvSpPr>
        <p:spPr>
          <a:xfrm>
            <a:off x="2340000" y="5303880"/>
            <a:ext cx="1851120" cy="1317600"/>
          </a:xfrm>
          <a:custGeom>
            <a:avLst/>
            <a:gdLst>
              <a:gd name="textAreaLeft" fmla="*/ 0 w 1851120"/>
              <a:gd name="textAreaRight" fmla="*/ 1851480 w 1851120"/>
              <a:gd name="textAreaTop" fmla="*/ 0 h 1317600"/>
              <a:gd name="textAreaBottom" fmla="*/ 1317960 h 1317600"/>
            </a:gdLst>
            <a:ahLst/>
            <a:rect l="textAreaLeft" t="textAreaTop" r="textAreaRight" b="textAreaBottom"/>
            <a:pathLst>
              <a:path w="1851661" h="1318261">
                <a:moveTo>
                  <a:pt x="22860" y="0"/>
                </a:moveTo>
                <a:lnTo>
                  <a:pt x="15240" y="0"/>
                </a:lnTo>
                <a:lnTo>
                  <a:pt x="7620" y="0"/>
                </a:lnTo>
                <a:lnTo>
                  <a:pt x="7620" y="0"/>
                </a:lnTo>
                <a:lnTo>
                  <a:pt x="7620" y="15240"/>
                </a:lnTo>
                <a:lnTo>
                  <a:pt x="0" y="15240"/>
                </a:lnTo>
                <a:lnTo>
                  <a:pt x="0" y="30480"/>
                </a:lnTo>
                <a:lnTo>
                  <a:pt x="0" y="38100"/>
                </a:lnTo>
                <a:lnTo>
                  <a:pt x="0" y="53340"/>
                </a:lnTo>
                <a:lnTo>
                  <a:pt x="0" y="60960"/>
                </a:lnTo>
                <a:lnTo>
                  <a:pt x="0" y="83820"/>
                </a:lnTo>
                <a:lnTo>
                  <a:pt x="7620" y="99060"/>
                </a:lnTo>
                <a:lnTo>
                  <a:pt x="7620" y="114300"/>
                </a:lnTo>
                <a:lnTo>
                  <a:pt x="15240" y="137160"/>
                </a:lnTo>
                <a:lnTo>
                  <a:pt x="22860" y="152400"/>
                </a:lnTo>
                <a:lnTo>
                  <a:pt x="30480" y="175260"/>
                </a:lnTo>
                <a:lnTo>
                  <a:pt x="38100" y="205740"/>
                </a:lnTo>
                <a:lnTo>
                  <a:pt x="53340" y="228600"/>
                </a:lnTo>
                <a:lnTo>
                  <a:pt x="60960" y="259080"/>
                </a:lnTo>
                <a:lnTo>
                  <a:pt x="76200" y="281940"/>
                </a:lnTo>
                <a:lnTo>
                  <a:pt x="91440" y="312420"/>
                </a:lnTo>
                <a:lnTo>
                  <a:pt x="106680" y="342900"/>
                </a:lnTo>
                <a:lnTo>
                  <a:pt x="121920" y="373380"/>
                </a:lnTo>
                <a:lnTo>
                  <a:pt x="137160" y="403860"/>
                </a:lnTo>
                <a:lnTo>
                  <a:pt x="160020" y="434340"/>
                </a:lnTo>
                <a:lnTo>
                  <a:pt x="182880" y="464820"/>
                </a:lnTo>
                <a:lnTo>
                  <a:pt x="198120" y="495300"/>
                </a:lnTo>
                <a:lnTo>
                  <a:pt x="220980" y="525780"/>
                </a:lnTo>
                <a:lnTo>
                  <a:pt x="251460" y="563880"/>
                </a:lnTo>
                <a:lnTo>
                  <a:pt x="274320" y="594360"/>
                </a:lnTo>
                <a:lnTo>
                  <a:pt x="304800" y="624840"/>
                </a:lnTo>
                <a:lnTo>
                  <a:pt x="335280" y="662940"/>
                </a:lnTo>
                <a:lnTo>
                  <a:pt x="365760" y="693420"/>
                </a:lnTo>
                <a:lnTo>
                  <a:pt x="403860" y="723900"/>
                </a:lnTo>
                <a:lnTo>
                  <a:pt x="434340" y="754380"/>
                </a:lnTo>
                <a:lnTo>
                  <a:pt x="472440" y="792480"/>
                </a:lnTo>
                <a:lnTo>
                  <a:pt x="510540" y="822960"/>
                </a:lnTo>
                <a:lnTo>
                  <a:pt x="548640" y="845820"/>
                </a:lnTo>
                <a:lnTo>
                  <a:pt x="586740" y="876300"/>
                </a:lnTo>
                <a:lnTo>
                  <a:pt x="624840" y="906780"/>
                </a:lnTo>
                <a:lnTo>
                  <a:pt x="670560" y="937260"/>
                </a:lnTo>
                <a:lnTo>
                  <a:pt x="708660" y="960120"/>
                </a:lnTo>
                <a:lnTo>
                  <a:pt x="746760" y="982980"/>
                </a:lnTo>
                <a:lnTo>
                  <a:pt x="792480" y="1013460"/>
                </a:lnTo>
                <a:lnTo>
                  <a:pt x="838200" y="1036320"/>
                </a:lnTo>
                <a:lnTo>
                  <a:pt x="883920" y="1059180"/>
                </a:lnTo>
                <a:lnTo>
                  <a:pt x="937260" y="1082040"/>
                </a:lnTo>
                <a:lnTo>
                  <a:pt x="982980" y="1104900"/>
                </a:lnTo>
                <a:lnTo>
                  <a:pt x="1036320" y="1127760"/>
                </a:lnTo>
                <a:lnTo>
                  <a:pt x="1082040" y="1150620"/>
                </a:lnTo>
                <a:lnTo>
                  <a:pt x="1135380" y="1173480"/>
                </a:lnTo>
                <a:lnTo>
                  <a:pt x="1181100" y="1188720"/>
                </a:lnTo>
                <a:lnTo>
                  <a:pt x="1234440" y="1203960"/>
                </a:lnTo>
                <a:lnTo>
                  <a:pt x="1287780" y="1219200"/>
                </a:lnTo>
                <a:lnTo>
                  <a:pt x="1341120" y="1242060"/>
                </a:lnTo>
                <a:lnTo>
                  <a:pt x="1386840" y="1249680"/>
                </a:lnTo>
                <a:lnTo>
                  <a:pt x="1440180" y="1264919"/>
                </a:lnTo>
                <a:lnTo>
                  <a:pt x="1493520" y="1280160"/>
                </a:lnTo>
                <a:lnTo>
                  <a:pt x="1546860" y="1287780"/>
                </a:lnTo>
                <a:lnTo>
                  <a:pt x="1584960" y="1303019"/>
                </a:lnTo>
                <a:lnTo>
                  <a:pt x="1638300" y="1303019"/>
                </a:lnTo>
                <a:lnTo>
                  <a:pt x="1676400" y="1310641"/>
                </a:lnTo>
                <a:lnTo>
                  <a:pt x="1722120" y="1318260"/>
                </a:lnTo>
                <a:lnTo>
                  <a:pt x="1760220" y="1318260"/>
                </a:lnTo>
                <a:lnTo>
                  <a:pt x="1798320" y="1310641"/>
                </a:lnTo>
                <a:lnTo>
                  <a:pt x="1851660" y="1310641"/>
                </a:lnTo>
                <a:lnTo>
                  <a:pt x="1851660" y="1310641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Freeform 6173"/>
          <p:cNvSpPr/>
          <p:nvPr/>
        </p:nvSpPr>
        <p:spPr>
          <a:xfrm>
            <a:off x="3817800" y="5799240"/>
            <a:ext cx="1798920" cy="822240"/>
          </a:xfrm>
          <a:custGeom>
            <a:avLst/>
            <a:gdLst>
              <a:gd name="textAreaLeft" fmla="*/ 0 w 1798920"/>
              <a:gd name="textAreaRight" fmla="*/ 1799280 w 179892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1798321" h="822961">
                <a:moveTo>
                  <a:pt x="0" y="723900"/>
                </a:moveTo>
                <a:lnTo>
                  <a:pt x="7620" y="731519"/>
                </a:lnTo>
                <a:lnTo>
                  <a:pt x="22860" y="739141"/>
                </a:lnTo>
                <a:lnTo>
                  <a:pt x="38100" y="746760"/>
                </a:lnTo>
                <a:lnTo>
                  <a:pt x="53340" y="754380"/>
                </a:lnTo>
                <a:lnTo>
                  <a:pt x="68580" y="762000"/>
                </a:lnTo>
                <a:lnTo>
                  <a:pt x="83820" y="762000"/>
                </a:lnTo>
                <a:lnTo>
                  <a:pt x="99060" y="769619"/>
                </a:lnTo>
                <a:lnTo>
                  <a:pt x="106680" y="777241"/>
                </a:lnTo>
                <a:lnTo>
                  <a:pt x="129540" y="784860"/>
                </a:lnTo>
                <a:lnTo>
                  <a:pt x="144780" y="792480"/>
                </a:lnTo>
                <a:lnTo>
                  <a:pt x="160020" y="792480"/>
                </a:lnTo>
                <a:lnTo>
                  <a:pt x="175260" y="800100"/>
                </a:lnTo>
                <a:lnTo>
                  <a:pt x="198120" y="807719"/>
                </a:lnTo>
                <a:lnTo>
                  <a:pt x="213360" y="807719"/>
                </a:lnTo>
                <a:lnTo>
                  <a:pt x="228600" y="815341"/>
                </a:lnTo>
                <a:lnTo>
                  <a:pt x="251460" y="815341"/>
                </a:lnTo>
                <a:lnTo>
                  <a:pt x="266700" y="822960"/>
                </a:lnTo>
                <a:lnTo>
                  <a:pt x="289560" y="822960"/>
                </a:lnTo>
                <a:lnTo>
                  <a:pt x="304800" y="822960"/>
                </a:lnTo>
                <a:lnTo>
                  <a:pt x="335280" y="822960"/>
                </a:lnTo>
                <a:lnTo>
                  <a:pt x="350520" y="822960"/>
                </a:lnTo>
                <a:lnTo>
                  <a:pt x="381000" y="822960"/>
                </a:lnTo>
                <a:lnTo>
                  <a:pt x="403860" y="822960"/>
                </a:lnTo>
                <a:lnTo>
                  <a:pt x="426720" y="822960"/>
                </a:lnTo>
                <a:lnTo>
                  <a:pt x="449580" y="815341"/>
                </a:lnTo>
                <a:lnTo>
                  <a:pt x="480060" y="807719"/>
                </a:lnTo>
                <a:lnTo>
                  <a:pt x="518160" y="800100"/>
                </a:lnTo>
                <a:lnTo>
                  <a:pt x="541020" y="792480"/>
                </a:lnTo>
                <a:lnTo>
                  <a:pt x="579120" y="784860"/>
                </a:lnTo>
                <a:lnTo>
                  <a:pt x="609600" y="777241"/>
                </a:lnTo>
                <a:lnTo>
                  <a:pt x="640080" y="762000"/>
                </a:lnTo>
                <a:lnTo>
                  <a:pt x="678180" y="754380"/>
                </a:lnTo>
                <a:lnTo>
                  <a:pt x="716280" y="739141"/>
                </a:lnTo>
                <a:lnTo>
                  <a:pt x="754380" y="723900"/>
                </a:lnTo>
                <a:lnTo>
                  <a:pt x="792480" y="716280"/>
                </a:lnTo>
                <a:lnTo>
                  <a:pt x="830580" y="701040"/>
                </a:lnTo>
                <a:lnTo>
                  <a:pt x="868680" y="685800"/>
                </a:lnTo>
                <a:lnTo>
                  <a:pt x="914400" y="670560"/>
                </a:lnTo>
                <a:lnTo>
                  <a:pt x="952500" y="647700"/>
                </a:lnTo>
                <a:lnTo>
                  <a:pt x="990600" y="632460"/>
                </a:lnTo>
                <a:lnTo>
                  <a:pt x="1036320" y="609600"/>
                </a:lnTo>
                <a:lnTo>
                  <a:pt x="1082040" y="594360"/>
                </a:lnTo>
                <a:lnTo>
                  <a:pt x="1120140" y="571500"/>
                </a:lnTo>
                <a:lnTo>
                  <a:pt x="1165860" y="548640"/>
                </a:lnTo>
                <a:lnTo>
                  <a:pt x="1211580" y="533400"/>
                </a:lnTo>
                <a:lnTo>
                  <a:pt x="1249680" y="502920"/>
                </a:lnTo>
                <a:lnTo>
                  <a:pt x="1295400" y="480060"/>
                </a:lnTo>
                <a:lnTo>
                  <a:pt x="1333500" y="457200"/>
                </a:lnTo>
                <a:lnTo>
                  <a:pt x="1371600" y="434340"/>
                </a:lnTo>
                <a:lnTo>
                  <a:pt x="1417320" y="403860"/>
                </a:lnTo>
                <a:lnTo>
                  <a:pt x="1455420" y="381000"/>
                </a:lnTo>
                <a:lnTo>
                  <a:pt x="1493520" y="350520"/>
                </a:lnTo>
                <a:lnTo>
                  <a:pt x="1531620" y="320040"/>
                </a:lnTo>
                <a:lnTo>
                  <a:pt x="1562100" y="297180"/>
                </a:lnTo>
                <a:lnTo>
                  <a:pt x="1600200" y="266700"/>
                </a:lnTo>
                <a:lnTo>
                  <a:pt x="1630680" y="236220"/>
                </a:lnTo>
                <a:lnTo>
                  <a:pt x="1661160" y="205740"/>
                </a:lnTo>
                <a:lnTo>
                  <a:pt x="1691640" y="175260"/>
                </a:lnTo>
                <a:lnTo>
                  <a:pt x="1714500" y="144780"/>
                </a:lnTo>
                <a:lnTo>
                  <a:pt x="1737360" y="114300"/>
                </a:lnTo>
                <a:lnTo>
                  <a:pt x="1752600" y="83820"/>
                </a:lnTo>
                <a:lnTo>
                  <a:pt x="1767840" y="53340"/>
                </a:lnTo>
                <a:lnTo>
                  <a:pt x="1798320" y="0"/>
                </a:lnTo>
                <a:lnTo>
                  <a:pt x="179832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Freeform 6174"/>
          <p:cNvSpPr/>
          <p:nvPr/>
        </p:nvSpPr>
        <p:spPr>
          <a:xfrm>
            <a:off x="5478480" y="4168800"/>
            <a:ext cx="838080" cy="1859040"/>
          </a:xfrm>
          <a:custGeom>
            <a:avLst/>
            <a:gdLst>
              <a:gd name="textAreaLeft" fmla="*/ 0 w 838080"/>
              <a:gd name="textAreaRight" fmla="*/ 838440 w 838080"/>
              <a:gd name="textAreaTop" fmla="*/ 0 h 1859040"/>
              <a:gd name="textAreaBottom" fmla="*/ 1859400 h 1859040"/>
            </a:gdLst>
            <a:ahLst/>
            <a:rect l="textAreaLeft" t="textAreaTop" r="textAreaRight" b="textAreaBottom"/>
            <a:pathLst>
              <a:path w="838201" h="1859281">
                <a:moveTo>
                  <a:pt x="0" y="1851660"/>
                </a:moveTo>
                <a:lnTo>
                  <a:pt x="0" y="1851660"/>
                </a:lnTo>
                <a:lnTo>
                  <a:pt x="7620" y="1851660"/>
                </a:lnTo>
                <a:lnTo>
                  <a:pt x="15240" y="1859280"/>
                </a:lnTo>
                <a:lnTo>
                  <a:pt x="30480" y="1859280"/>
                </a:lnTo>
                <a:lnTo>
                  <a:pt x="38100" y="1859280"/>
                </a:lnTo>
                <a:lnTo>
                  <a:pt x="45720" y="1859280"/>
                </a:lnTo>
                <a:lnTo>
                  <a:pt x="60960" y="1851660"/>
                </a:lnTo>
                <a:lnTo>
                  <a:pt x="76200" y="1851660"/>
                </a:lnTo>
                <a:lnTo>
                  <a:pt x="91440" y="1844040"/>
                </a:lnTo>
                <a:lnTo>
                  <a:pt x="99060" y="1836420"/>
                </a:lnTo>
                <a:lnTo>
                  <a:pt x="121920" y="1828800"/>
                </a:lnTo>
                <a:lnTo>
                  <a:pt x="137160" y="1821180"/>
                </a:lnTo>
                <a:lnTo>
                  <a:pt x="152400" y="1813560"/>
                </a:lnTo>
                <a:lnTo>
                  <a:pt x="175260" y="1798320"/>
                </a:lnTo>
                <a:lnTo>
                  <a:pt x="190500" y="1790700"/>
                </a:lnTo>
                <a:lnTo>
                  <a:pt x="205740" y="1775460"/>
                </a:lnTo>
                <a:lnTo>
                  <a:pt x="228600" y="1760220"/>
                </a:lnTo>
                <a:lnTo>
                  <a:pt x="251460" y="1744980"/>
                </a:lnTo>
                <a:lnTo>
                  <a:pt x="266700" y="1729740"/>
                </a:lnTo>
                <a:lnTo>
                  <a:pt x="289560" y="1706880"/>
                </a:lnTo>
                <a:lnTo>
                  <a:pt x="312420" y="1684020"/>
                </a:lnTo>
                <a:lnTo>
                  <a:pt x="335280" y="1661160"/>
                </a:lnTo>
                <a:lnTo>
                  <a:pt x="350520" y="1638300"/>
                </a:lnTo>
                <a:lnTo>
                  <a:pt x="381000" y="1615440"/>
                </a:lnTo>
                <a:lnTo>
                  <a:pt x="396240" y="1592580"/>
                </a:lnTo>
                <a:lnTo>
                  <a:pt x="419100" y="1562100"/>
                </a:lnTo>
                <a:lnTo>
                  <a:pt x="441960" y="1531620"/>
                </a:lnTo>
                <a:lnTo>
                  <a:pt x="464820" y="1501140"/>
                </a:lnTo>
                <a:lnTo>
                  <a:pt x="487680" y="1470660"/>
                </a:lnTo>
                <a:lnTo>
                  <a:pt x="510540" y="1440180"/>
                </a:lnTo>
                <a:lnTo>
                  <a:pt x="533400" y="1409700"/>
                </a:lnTo>
                <a:lnTo>
                  <a:pt x="556260" y="1371600"/>
                </a:lnTo>
                <a:lnTo>
                  <a:pt x="579120" y="1341120"/>
                </a:lnTo>
                <a:lnTo>
                  <a:pt x="594360" y="1303020"/>
                </a:lnTo>
                <a:lnTo>
                  <a:pt x="617220" y="1264920"/>
                </a:lnTo>
                <a:lnTo>
                  <a:pt x="640080" y="1226820"/>
                </a:lnTo>
                <a:lnTo>
                  <a:pt x="655320" y="1188720"/>
                </a:lnTo>
                <a:lnTo>
                  <a:pt x="678180" y="1150620"/>
                </a:lnTo>
                <a:lnTo>
                  <a:pt x="693420" y="1112520"/>
                </a:lnTo>
                <a:lnTo>
                  <a:pt x="708660" y="1066800"/>
                </a:lnTo>
                <a:lnTo>
                  <a:pt x="723900" y="1028700"/>
                </a:lnTo>
                <a:lnTo>
                  <a:pt x="739140" y="982980"/>
                </a:lnTo>
                <a:lnTo>
                  <a:pt x="754380" y="937260"/>
                </a:lnTo>
                <a:lnTo>
                  <a:pt x="769620" y="899160"/>
                </a:lnTo>
                <a:lnTo>
                  <a:pt x="784860" y="853440"/>
                </a:lnTo>
                <a:lnTo>
                  <a:pt x="792480" y="807720"/>
                </a:lnTo>
                <a:lnTo>
                  <a:pt x="807720" y="762000"/>
                </a:lnTo>
                <a:lnTo>
                  <a:pt x="815340" y="716280"/>
                </a:lnTo>
                <a:lnTo>
                  <a:pt x="822960" y="670560"/>
                </a:lnTo>
                <a:lnTo>
                  <a:pt x="822960" y="624840"/>
                </a:lnTo>
                <a:lnTo>
                  <a:pt x="830580" y="579120"/>
                </a:lnTo>
                <a:lnTo>
                  <a:pt x="830580" y="533400"/>
                </a:lnTo>
                <a:lnTo>
                  <a:pt x="838200" y="487680"/>
                </a:lnTo>
                <a:lnTo>
                  <a:pt x="838200" y="441960"/>
                </a:lnTo>
                <a:lnTo>
                  <a:pt x="830580" y="396240"/>
                </a:lnTo>
                <a:lnTo>
                  <a:pt x="830580" y="350520"/>
                </a:lnTo>
                <a:lnTo>
                  <a:pt x="822960" y="304800"/>
                </a:lnTo>
                <a:lnTo>
                  <a:pt x="815340" y="259080"/>
                </a:lnTo>
                <a:lnTo>
                  <a:pt x="807720" y="213360"/>
                </a:lnTo>
                <a:lnTo>
                  <a:pt x="792480" y="175260"/>
                </a:lnTo>
                <a:lnTo>
                  <a:pt x="784860" y="129540"/>
                </a:lnTo>
                <a:lnTo>
                  <a:pt x="769620" y="91440"/>
                </a:lnTo>
                <a:lnTo>
                  <a:pt x="762000" y="53340"/>
                </a:lnTo>
                <a:lnTo>
                  <a:pt x="739140" y="0"/>
                </a:lnTo>
                <a:lnTo>
                  <a:pt x="73914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Freeform 10239"/>
          <p:cNvSpPr/>
          <p:nvPr/>
        </p:nvSpPr>
        <p:spPr>
          <a:xfrm>
            <a:off x="3932280" y="2308320"/>
            <a:ext cx="2286000" cy="192096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1920960"/>
              <a:gd name="textAreaBottom" fmla="*/ 1921320 h 1920960"/>
            </a:gdLst>
            <a:ahLst/>
            <a:rect l="textAreaLeft" t="textAreaTop" r="textAreaRight" b="textAreaBottom"/>
            <a:pathLst>
              <a:path w="2286001" h="1920241">
                <a:moveTo>
                  <a:pt x="2240280" y="1920240"/>
                </a:moveTo>
                <a:lnTo>
                  <a:pt x="2247900" y="1920240"/>
                </a:lnTo>
                <a:lnTo>
                  <a:pt x="2247900" y="1912620"/>
                </a:lnTo>
                <a:lnTo>
                  <a:pt x="2255520" y="1905000"/>
                </a:lnTo>
                <a:lnTo>
                  <a:pt x="2263140" y="1905000"/>
                </a:lnTo>
                <a:lnTo>
                  <a:pt x="2263140" y="1889760"/>
                </a:lnTo>
                <a:lnTo>
                  <a:pt x="2270760" y="1882140"/>
                </a:lnTo>
                <a:lnTo>
                  <a:pt x="2270760" y="1866900"/>
                </a:lnTo>
                <a:lnTo>
                  <a:pt x="2270760" y="1859280"/>
                </a:lnTo>
                <a:lnTo>
                  <a:pt x="2278380" y="1844040"/>
                </a:lnTo>
                <a:lnTo>
                  <a:pt x="2278380" y="1828800"/>
                </a:lnTo>
                <a:lnTo>
                  <a:pt x="2278380" y="1805940"/>
                </a:lnTo>
                <a:lnTo>
                  <a:pt x="2278380" y="1790700"/>
                </a:lnTo>
                <a:lnTo>
                  <a:pt x="2286000" y="1775460"/>
                </a:lnTo>
                <a:lnTo>
                  <a:pt x="2286000" y="1752600"/>
                </a:lnTo>
                <a:lnTo>
                  <a:pt x="2278380" y="1729740"/>
                </a:lnTo>
                <a:lnTo>
                  <a:pt x="2278380" y="1706880"/>
                </a:lnTo>
                <a:lnTo>
                  <a:pt x="2278380" y="1676400"/>
                </a:lnTo>
                <a:lnTo>
                  <a:pt x="2270760" y="1653540"/>
                </a:lnTo>
                <a:lnTo>
                  <a:pt x="2270760" y="1623060"/>
                </a:lnTo>
                <a:lnTo>
                  <a:pt x="2263140" y="1592580"/>
                </a:lnTo>
                <a:lnTo>
                  <a:pt x="2255520" y="1562100"/>
                </a:lnTo>
                <a:lnTo>
                  <a:pt x="2247900" y="1531620"/>
                </a:lnTo>
                <a:lnTo>
                  <a:pt x="2240280" y="1493520"/>
                </a:lnTo>
                <a:lnTo>
                  <a:pt x="2232660" y="1463040"/>
                </a:lnTo>
                <a:lnTo>
                  <a:pt x="2217420" y="1424940"/>
                </a:lnTo>
                <a:lnTo>
                  <a:pt x="2202180" y="1386840"/>
                </a:lnTo>
                <a:lnTo>
                  <a:pt x="2186940" y="1348740"/>
                </a:lnTo>
                <a:lnTo>
                  <a:pt x="2171700" y="1310640"/>
                </a:lnTo>
                <a:lnTo>
                  <a:pt x="2156460" y="1272540"/>
                </a:lnTo>
                <a:lnTo>
                  <a:pt x="2133600" y="1234440"/>
                </a:lnTo>
                <a:lnTo>
                  <a:pt x="2118360" y="1196340"/>
                </a:lnTo>
                <a:lnTo>
                  <a:pt x="2095500" y="1158240"/>
                </a:lnTo>
                <a:lnTo>
                  <a:pt x="2072640" y="1120140"/>
                </a:lnTo>
                <a:lnTo>
                  <a:pt x="2042160" y="1082040"/>
                </a:lnTo>
                <a:lnTo>
                  <a:pt x="2019300" y="1036320"/>
                </a:lnTo>
                <a:lnTo>
                  <a:pt x="1996440" y="1005840"/>
                </a:lnTo>
                <a:lnTo>
                  <a:pt x="1965960" y="967740"/>
                </a:lnTo>
                <a:lnTo>
                  <a:pt x="1935480" y="922020"/>
                </a:lnTo>
                <a:lnTo>
                  <a:pt x="1905000" y="883920"/>
                </a:lnTo>
                <a:lnTo>
                  <a:pt x="1882140" y="845820"/>
                </a:lnTo>
                <a:lnTo>
                  <a:pt x="1844040" y="807720"/>
                </a:lnTo>
                <a:lnTo>
                  <a:pt x="1813560" y="769620"/>
                </a:lnTo>
                <a:lnTo>
                  <a:pt x="1783080" y="731520"/>
                </a:lnTo>
                <a:lnTo>
                  <a:pt x="1744980" y="701040"/>
                </a:lnTo>
                <a:lnTo>
                  <a:pt x="1706880" y="662940"/>
                </a:lnTo>
                <a:lnTo>
                  <a:pt x="1668780" y="624840"/>
                </a:lnTo>
                <a:lnTo>
                  <a:pt x="1630680" y="594360"/>
                </a:lnTo>
                <a:lnTo>
                  <a:pt x="1592580" y="556260"/>
                </a:lnTo>
                <a:lnTo>
                  <a:pt x="1546860" y="525780"/>
                </a:lnTo>
                <a:lnTo>
                  <a:pt x="1501140" y="487680"/>
                </a:lnTo>
                <a:lnTo>
                  <a:pt x="1463040" y="457200"/>
                </a:lnTo>
                <a:lnTo>
                  <a:pt x="1417320" y="426720"/>
                </a:lnTo>
                <a:lnTo>
                  <a:pt x="1371600" y="396240"/>
                </a:lnTo>
                <a:lnTo>
                  <a:pt x="1333500" y="365760"/>
                </a:lnTo>
                <a:lnTo>
                  <a:pt x="1287780" y="335280"/>
                </a:lnTo>
                <a:lnTo>
                  <a:pt x="1242060" y="312420"/>
                </a:lnTo>
                <a:lnTo>
                  <a:pt x="1196340" y="289560"/>
                </a:lnTo>
                <a:lnTo>
                  <a:pt x="1150620" y="259080"/>
                </a:lnTo>
                <a:lnTo>
                  <a:pt x="1097280" y="236220"/>
                </a:lnTo>
                <a:lnTo>
                  <a:pt x="1051560" y="205740"/>
                </a:lnTo>
                <a:lnTo>
                  <a:pt x="998220" y="190500"/>
                </a:lnTo>
                <a:lnTo>
                  <a:pt x="952500" y="167640"/>
                </a:lnTo>
                <a:lnTo>
                  <a:pt x="899160" y="144780"/>
                </a:lnTo>
                <a:lnTo>
                  <a:pt x="845820" y="121920"/>
                </a:lnTo>
                <a:lnTo>
                  <a:pt x="800100" y="106680"/>
                </a:lnTo>
                <a:lnTo>
                  <a:pt x="746760" y="91440"/>
                </a:lnTo>
                <a:lnTo>
                  <a:pt x="693420" y="76200"/>
                </a:lnTo>
                <a:lnTo>
                  <a:pt x="640080" y="60960"/>
                </a:lnTo>
                <a:lnTo>
                  <a:pt x="586740" y="45720"/>
                </a:lnTo>
                <a:lnTo>
                  <a:pt x="525780" y="38100"/>
                </a:lnTo>
                <a:lnTo>
                  <a:pt x="472440" y="22860"/>
                </a:lnTo>
                <a:lnTo>
                  <a:pt x="419100" y="22860"/>
                </a:lnTo>
                <a:lnTo>
                  <a:pt x="365760" y="15240"/>
                </a:lnTo>
                <a:lnTo>
                  <a:pt x="312420" y="7620"/>
                </a:lnTo>
                <a:lnTo>
                  <a:pt x="259080" y="7620"/>
                </a:lnTo>
                <a:lnTo>
                  <a:pt x="205740" y="0"/>
                </a:lnTo>
                <a:lnTo>
                  <a:pt x="160020" y="0"/>
                </a:lnTo>
                <a:lnTo>
                  <a:pt x="114300" y="7620"/>
                </a:lnTo>
                <a:lnTo>
                  <a:pt x="68580" y="7620"/>
                </a:lnTo>
                <a:lnTo>
                  <a:pt x="0" y="15240"/>
                </a:lnTo>
                <a:lnTo>
                  <a:pt x="0" y="152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5560" y="316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.4:  Write the equation of a circle from its grap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Line 4"/>
          <p:cNvSpPr/>
          <p:nvPr/>
        </p:nvSpPr>
        <p:spPr>
          <a:xfrm flipV="1">
            <a:off x="6213600" y="582120"/>
            <a:ext cx="0" cy="4496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Line 5"/>
          <p:cNvSpPr/>
          <p:nvPr/>
        </p:nvSpPr>
        <p:spPr>
          <a:xfrm>
            <a:off x="3851280" y="286848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Oval 6"/>
          <p:cNvSpPr/>
          <p:nvPr/>
        </p:nvSpPr>
        <p:spPr>
          <a:xfrm>
            <a:off x="6060960" y="2716200"/>
            <a:ext cx="304920" cy="304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Line 7"/>
          <p:cNvSpPr/>
          <p:nvPr/>
        </p:nvSpPr>
        <p:spPr>
          <a:xfrm>
            <a:off x="7737480" y="27162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7737480" y="279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4613400" y="1268280"/>
            <a:ext cx="3124080" cy="2895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152280" y="762120"/>
            <a:ext cx="41911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 – h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(y – k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 – 0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(y – 0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Freeform 1"/>
          <p:cNvSpPr/>
          <p:nvPr/>
        </p:nvSpPr>
        <p:spPr>
          <a:xfrm>
            <a:off x="587520" y="2193840"/>
            <a:ext cx="228600" cy="236520"/>
          </a:xfrm>
          <a:custGeom>
            <a:avLst/>
            <a:gdLst>
              <a:gd name="textAreaLeft" fmla="*/ 0 w 228600"/>
              <a:gd name="textAreaRight" fmla="*/ 228960 w 2286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28601" h="236221">
                <a:moveTo>
                  <a:pt x="228600" y="0"/>
                </a:moveTo>
                <a:lnTo>
                  <a:pt x="228600" y="0"/>
                </a:lnTo>
                <a:lnTo>
                  <a:pt x="228600" y="0"/>
                </a:lnTo>
                <a:lnTo>
                  <a:pt x="228600" y="0"/>
                </a:lnTo>
                <a:lnTo>
                  <a:pt x="228600" y="7620"/>
                </a:lnTo>
                <a:lnTo>
                  <a:pt x="228600" y="7620"/>
                </a:lnTo>
                <a:lnTo>
                  <a:pt x="220980" y="15240"/>
                </a:lnTo>
                <a:lnTo>
                  <a:pt x="220980" y="22860"/>
                </a:lnTo>
                <a:lnTo>
                  <a:pt x="213360" y="30480"/>
                </a:lnTo>
                <a:lnTo>
                  <a:pt x="205740" y="38100"/>
                </a:lnTo>
                <a:lnTo>
                  <a:pt x="198120" y="45720"/>
                </a:lnTo>
                <a:lnTo>
                  <a:pt x="190500" y="60960"/>
                </a:lnTo>
                <a:lnTo>
                  <a:pt x="182880" y="68580"/>
                </a:lnTo>
                <a:lnTo>
                  <a:pt x="175260" y="83820"/>
                </a:lnTo>
                <a:lnTo>
                  <a:pt x="160020" y="99060"/>
                </a:lnTo>
                <a:lnTo>
                  <a:pt x="144780" y="114300"/>
                </a:lnTo>
                <a:lnTo>
                  <a:pt x="129540" y="129540"/>
                </a:lnTo>
                <a:lnTo>
                  <a:pt x="121920" y="144780"/>
                </a:lnTo>
                <a:lnTo>
                  <a:pt x="99060" y="160020"/>
                </a:lnTo>
                <a:lnTo>
                  <a:pt x="83820" y="175260"/>
                </a:lnTo>
                <a:lnTo>
                  <a:pt x="68580" y="190500"/>
                </a:lnTo>
                <a:lnTo>
                  <a:pt x="53340" y="205740"/>
                </a:lnTo>
                <a:lnTo>
                  <a:pt x="45720" y="213360"/>
                </a:lnTo>
                <a:lnTo>
                  <a:pt x="38100" y="220980"/>
                </a:lnTo>
                <a:lnTo>
                  <a:pt x="22860" y="228600"/>
                </a:lnTo>
                <a:lnTo>
                  <a:pt x="15240" y="228600"/>
                </a:lnTo>
                <a:lnTo>
                  <a:pt x="7620" y="236220"/>
                </a:lnTo>
                <a:lnTo>
                  <a:pt x="0" y="236220"/>
                </a:lnTo>
                <a:lnTo>
                  <a:pt x="0" y="2362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Freeform 2"/>
          <p:cNvSpPr/>
          <p:nvPr/>
        </p:nvSpPr>
        <p:spPr>
          <a:xfrm>
            <a:off x="625320" y="2247840"/>
            <a:ext cx="174960" cy="182520"/>
          </a:xfrm>
          <a:custGeom>
            <a:avLst/>
            <a:gdLst>
              <a:gd name="textAreaLeft" fmla="*/ 0 w 174960"/>
              <a:gd name="textAreaRight" fmla="*/ 175320 w 1749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75261" h="182881">
                <a:moveTo>
                  <a:pt x="0" y="7620"/>
                </a:moveTo>
                <a:lnTo>
                  <a:pt x="0" y="0"/>
                </a:lnTo>
                <a:lnTo>
                  <a:pt x="0" y="0"/>
                </a:lnTo>
                <a:lnTo>
                  <a:pt x="7620" y="0"/>
                </a:lnTo>
                <a:lnTo>
                  <a:pt x="7620" y="0"/>
                </a:lnTo>
                <a:lnTo>
                  <a:pt x="15240" y="0"/>
                </a:lnTo>
                <a:lnTo>
                  <a:pt x="15240" y="7620"/>
                </a:lnTo>
                <a:lnTo>
                  <a:pt x="22860" y="15240"/>
                </a:lnTo>
                <a:lnTo>
                  <a:pt x="30480" y="15240"/>
                </a:lnTo>
                <a:lnTo>
                  <a:pt x="38100" y="22860"/>
                </a:lnTo>
                <a:lnTo>
                  <a:pt x="38100" y="30480"/>
                </a:lnTo>
                <a:lnTo>
                  <a:pt x="45720" y="45720"/>
                </a:lnTo>
                <a:lnTo>
                  <a:pt x="53340" y="53340"/>
                </a:lnTo>
                <a:lnTo>
                  <a:pt x="60960" y="68580"/>
                </a:lnTo>
                <a:lnTo>
                  <a:pt x="68580" y="76200"/>
                </a:lnTo>
                <a:lnTo>
                  <a:pt x="76200" y="91440"/>
                </a:lnTo>
                <a:lnTo>
                  <a:pt x="83820" y="99060"/>
                </a:lnTo>
                <a:lnTo>
                  <a:pt x="91440" y="114300"/>
                </a:lnTo>
                <a:lnTo>
                  <a:pt x="99060" y="121920"/>
                </a:lnTo>
                <a:lnTo>
                  <a:pt x="114300" y="137160"/>
                </a:lnTo>
                <a:lnTo>
                  <a:pt x="121920" y="144780"/>
                </a:lnTo>
                <a:lnTo>
                  <a:pt x="129540" y="152400"/>
                </a:lnTo>
                <a:lnTo>
                  <a:pt x="144780" y="160020"/>
                </a:lnTo>
                <a:lnTo>
                  <a:pt x="152400" y="167640"/>
                </a:lnTo>
                <a:lnTo>
                  <a:pt x="160020" y="167640"/>
                </a:lnTo>
                <a:lnTo>
                  <a:pt x="175260" y="182880"/>
                </a:lnTo>
                <a:lnTo>
                  <a:pt x="175260" y="1828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Freeform 3"/>
          <p:cNvSpPr/>
          <p:nvPr/>
        </p:nvSpPr>
        <p:spPr>
          <a:xfrm>
            <a:off x="884160" y="2035080"/>
            <a:ext cx="122400" cy="114480"/>
          </a:xfrm>
          <a:custGeom>
            <a:avLst/>
            <a:gdLst>
              <a:gd name="textAreaLeft" fmla="*/ 0 w 122400"/>
              <a:gd name="textAreaRight" fmla="*/ 122760 w 12240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121921" h="114301">
                <a:moveTo>
                  <a:pt x="0" y="38100"/>
                </a:moveTo>
                <a:lnTo>
                  <a:pt x="0" y="30480"/>
                </a:lnTo>
                <a:lnTo>
                  <a:pt x="0" y="30480"/>
                </a:lnTo>
                <a:lnTo>
                  <a:pt x="0" y="22860"/>
                </a:lnTo>
                <a:lnTo>
                  <a:pt x="0" y="22860"/>
                </a:lnTo>
                <a:lnTo>
                  <a:pt x="7620" y="22860"/>
                </a:lnTo>
                <a:lnTo>
                  <a:pt x="15240" y="15240"/>
                </a:lnTo>
                <a:lnTo>
                  <a:pt x="15240" y="15240"/>
                </a:lnTo>
                <a:lnTo>
                  <a:pt x="22860" y="7620"/>
                </a:lnTo>
                <a:lnTo>
                  <a:pt x="30480" y="7620"/>
                </a:lnTo>
                <a:lnTo>
                  <a:pt x="38100" y="0"/>
                </a:lnTo>
                <a:lnTo>
                  <a:pt x="45720" y="0"/>
                </a:lnTo>
                <a:lnTo>
                  <a:pt x="53340" y="0"/>
                </a:lnTo>
                <a:lnTo>
                  <a:pt x="60960" y="0"/>
                </a:lnTo>
                <a:lnTo>
                  <a:pt x="68580" y="0"/>
                </a:lnTo>
                <a:lnTo>
                  <a:pt x="76200" y="0"/>
                </a:lnTo>
                <a:lnTo>
                  <a:pt x="83820" y="0"/>
                </a:lnTo>
                <a:lnTo>
                  <a:pt x="83820" y="0"/>
                </a:lnTo>
                <a:lnTo>
                  <a:pt x="91440" y="0"/>
                </a:lnTo>
                <a:lnTo>
                  <a:pt x="91440" y="0"/>
                </a:lnTo>
                <a:lnTo>
                  <a:pt x="91440" y="7620"/>
                </a:lnTo>
                <a:lnTo>
                  <a:pt x="91440" y="7620"/>
                </a:lnTo>
                <a:lnTo>
                  <a:pt x="91440" y="15240"/>
                </a:lnTo>
                <a:lnTo>
                  <a:pt x="83820" y="22860"/>
                </a:lnTo>
                <a:lnTo>
                  <a:pt x="76200" y="30480"/>
                </a:lnTo>
                <a:lnTo>
                  <a:pt x="68580" y="38100"/>
                </a:lnTo>
                <a:lnTo>
                  <a:pt x="60960" y="45720"/>
                </a:lnTo>
                <a:lnTo>
                  <a:pt x="45720" y="53340"/>
                </a:lnTo>
                <a:lnTo>
                  <a:pt x="38100" y="60960"/>
                </a:lnTo>
                <a:lnTo>
                  <a:pt x="30480" y="76200"/>
                </a:lnTo>
                <a:lnTo>
                  <a:pt x="15240" y="83820"/>
                </a:lnTo>
                <a:lnTo>
                  <a:pt x="7620" y="91440"/>
                </a:lnTo>
                <a:lnTo>
                  <a:pt x="0" y="91440"/>
                </a:lnTo>
                <a:lnTo>
                  <a:pt x="0" y="99060"/>
                </a:lnTo>
                <a:lnTo>
                  <a:pt x="0" y="106680"/>
                </a:lnTo>
                <a:lnTo>
                  <a:pt x="0" y="106680"/>
                </a:lnTo>
                <a:lnTo>
                  <a:pt x="7620" y="106680"/>
                </a:lnTo>
                <a:lnTo>
                  <a:pt x="15240" y="114300"/>
                </a:lnTo>
                <a:lnTo>
                  <a:pt x="30480" y="114300"/>
                </a:lnTo>
                <a:lnTo>
                  <a:pt x="45720" y="114300"/>
                </a:lnTo>
                <a:lnTo>
                  <a:pt x="60960" y="114300"/>
                </a:lnTo>
                <a:lnTo>
                  <a:pt x="76200" y="106680"/>
                </a:lnTo>
                <a:lnTo>
                  <a:pt x="91440" y="106680"/>
                </a:lnTo>
                <a:lnTo>
                  <a:pt x="99060" y="106680"/>
                </a:lnTo>
                <a:lnTo>
                  <a:pt x="121920" y="106680"/>
                </a:lnTo>
                <a:lnTo>
                  <a:pt x="121920" y="1066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Freeform 4"/>
          <p:cNvSpPr/>
          <p:nvPr/>
        </p:nvSpPr>
        <p:spPr>
          <a:xfrm>
            <a:off x="1197000" y="2179800"/>
            <a:ext cx="38160" cy="212400"/>
          </a:xfrm>
          <a:custGeom>
            <a:avLst/>
            <a:gdLst>
              <a:gd name="textAreaLeft" fmla="*/ 0 w 38160"/>
              <a:gd name="textAreaRight" fmla="*/ 38520 w 38160"/>
              <a:gd name="textAreaTop" fmla="*/ 0 h 212400"/>
              <a:gd name="textAreaBottom" fmla="*/ 212760 h 212400"/>
            </a:gdLst>
            <a:ahLst/>
            <a:rect l="textAreaLeft" t="textAreaTop" r="textAreaRight" b="textAreaBottom"/>
            <a:pathLst>
              <a:path w="38101" h="213361">
                <a:moveTo>
                  <a:pt x="38100" y="0"/>
                </a:moveTo>
                <a:lnTo>
                  <a:pt x="38100" y="0"/>
                </a:lnTo>
                <a:lnTo>
                  <a:pt x="38100" y="0"/>
                </a:lnTo>
                <a:lnTo>
                  <a:pt x="38100" y="0"/>
                </a:lnTo>
                <a:lnTo>
                  <a:pt x="38100" y="7620"/>
                </a:lnTo>
                <a:lnTo>
                  <a:pt x="38100" y="7620"/>
                </a:lnTo>
                <a:lnTo>
                  <a:pt x="38100" y="15240"/>
                </a:lnTo>
                <a:lnTo>
                  <a:pt x="30480" y="22860"/>
                </a:lnTo>
                <a:lnTo>
                  <a:pt x="30480" y="30480"/>
                </a:lnTo>
                <a:lnTo>
                  <a:pt x="30480" y="45720"/>
                </a:lnTo>
                <a:lnTo>
                  <a:pt x="30480" y="53340"/>
                </a:lnTo>
                <a:lnTo>
                  <a:pt x="30480" y="68580"/>
                </a:lnTo>
                <a:lnTo>
                  <a:pt x="22860" y="83820"/>
                </a:lnTo>
                <a:lnTo>
                  <a:pt x="15240" y="99060"/>
                </a:lnTo>
                <a:lnTo>
                  <a:pt x="15240" y="114300"/>
                </a:lnTo>
                <a:lnTo>
                  <a:pt x="15240" y="129540"/>
                </a:lnTo>
                <a:lnTo>
                  <a:pt x="7620" y="144780"/>
                </a:lnTo>
                <a:lnTo>
                  <a:pt x="7620" y="152400"/>
                </a:lnTo>
                <a:lnTo>
                  <a:pt x="7620" y="167640"/>
                </a:lnTo>
                <a:lnTo>
                  <a:pt x="7620" y="175260"/>
                </a:lnTo>
                <a:lnTo>
                  <a:pt x="7620" y="190500"/>
                </a:lnTo>
                <a:lnTo>
                  <a:pt x="0" y="198120"/>
                </a:lnTo>
                <a:lnTo>
                  <a:pt x="0" y="198120"/>
                </a:lnTo>
                <a:lnTo>
                  <a:pt x="0" y="213360"/>
                </a:lnTo>
                <a:lnTo>
                  <a:pt x="0" y="2133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Freeform 5"/>
          <p:cNvSpPr/>
          <p:nvPr/>
        </p:nvSpPr>
        <p:spPr>
          <a:xfrm>
            <a:off x="1158840" y="2301840"/>
            <a:ext cx="182520" cy="22320"/>
          </a:xfrm>
          <a:custGeom>
            <a:avLst/>
            <a:gdLst>
              <a:gd name="textAreaLeft" fmla="*/ 0 w 182520"/>
              <a:gd name="textAreaRight" fmla="*/ 182880 w 1825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82881" h="22861">
                <a:moveTo>
                  <a:pt x="0" y="22860"/>
                </a:moveTo>
                <a:lnTo>
                  <a:pt x="0" y="22860"/>
                </a:lnTo>
                <a:lnTo>
                  <a:pt x="0" y="15240"/>
                </a:lnTo>
                <a:lnTo>
                  <a:pt x="7620" y="15240"/>
                </a:lnTo>
                <a:lnTo>
                  <a:pt x="15240" y="7620"/>
                </a:lnTo>
                <a:lnTo>
                  <a:pt x="22860" y="7620"/>
                </a:lnTo>
                <a:lnTo>
                  <a:pt x="38100" y="7620"/>
                </a:lnTo>
                <a:lnTo>
                  <a:pt x="45720" y="7620"/>
                </a:lnTo>
                <a:lnTo>
                  <a:pt x="60960" y="0"/>
                </a:lnTo>
                <a:lnTo>
                  <a:pt x="68580" y="0"/>
                </a:lnTo>
                <a:lnTo>
                  <a:pt x="83820" y="0"/>
                </a:lnTo>
                <a:lnTo>
                  <a:pt x="106680" y="0"/>
                </a:lnTo>
                <a:lnTo>
                  <a:pt x="114300" y="0"/>
                </a:lnTo>
                <a:lnTo>
                  <a:pt x="137160" y="0"/>
                </a:lnTo>
                <a:lnTo>
                  <a:pt x="144780" y="0"/>
                </a:lnTo>
                <a:lnTo>
                  <a:pt x="160020" y="0"/>
                </a:lnTo>
                <a:lnTo>
                  <a:pt x="182880" y="7620"/>
                </a:lnTo>
                <a:lnTo>
                  <a:pt x="182880" y="7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Freeform 6"/>
          <p:cNvSpPr/>
          <p:nvPr/>
        </p:nvSpPr>
        <p:spPr>
          <a:xfrm>
            <a:off x="1592280" y="2270160"/>
            <a:ext cx="198360" cy="260280"/>
          </a:xfrm>
          <a:custGeom>
            <a:avLst/>
            <a:gdLst>
              <a:gd name="textAreaLeft" fmla="*/ 0 w 198360"/>
              <a:gd name="textAreaRight" fmla="*/ 198720 w 19836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198121" h="259081">
                <a:moveTo>
                  <a:pt x="15240" y="7620"/>
                </a:moveTo>
                <a:lnTo>
                  <a:pt x="15240" y="7620"/>
                </a:lnTo>
                <a:lnTo>
                  <a:pt x="15240" y="7620"/>
                </a:lnTo>
                <a:lnTo>
                  <a:pt x="15240" y="7620"/>
                </a:lnTo>
                <a:lnTo>
                  <a:pt x="15240" y="7620"/>
                </a:lnTo>
                <a:lnTo>
                  <a:pt x="15240" y="7620"/>
                </a:lnTo>
                <a:lnTo>
                  <a:pt x="15240" y="15240"/>
                </a:lnTo>
                <a:lnTo>
                  <a:pt x="7620" y="15240"/>
                </a:lnTo>
                <a:lnTo>
                  <a:pt x="7620" y="22860"/>
                </a:lnTo>
                <a:lnTo>
                  <a:pt x="7620" y="30480"/>
                </a:lnTo>
                <a:lnTo>
                  <a:pt x="7620" y="38100"/>
                </a:lnTo>
                <a:lnTo>
                  <a:pt x="7620" y="45720"/>
                </a:lnTo>
                <a:lnTo>
                  <a:pt x="0" y="53340"/>
                </a:lnTo>
                <a:lnTo>
                  <a:pt x="0" y="60960"/>
                </a:lnTo>
                <a:lnTo>
                  <a:pt x="0" y="68580"/>
                </a:lnTo>
                <a:lnTo>
                  <a:pt x="0" y="76200"/>
                </a:lnTo>
                <a:lnTo>
                  <a:pt x="7620" y="83820"/>
                </a:lnTo>
                <a:lnTo>
                  <a:pt x="7620" y="91440"/>
                </a:lnTo>
                <a:lnTo>
                  <a:pt x="15240" y="91440"/>
                </a:lnTo>
                <a:lnTo>
                  <a:pt x="22860" y="91440"/>
                </a:lnTo>
                <a:lnTo>
                  <a:pt x="30480" y="99060"/>
                </a:lnTo>
                <a:lnTo>
                  <a:pt x="45720" y="91440"/>
                </a:lnTo>
                <a:lnTo>
                  <a:pt x="60960" y="91440"/>
                </a:lnTo>
                <a:lnTo>
                  <a:pt x="68580" y="91440"/>
                </a:lnTo>
                <a:lnTo>
                  <a:pt x="83820" y="83820"/>
                </a:lnTo>
                <a:lnTo>
                  <a:pt x="91440" y="76200"/>
                </a:lnTo>
                <a:lnTo>
                  <a:pt x="106680" y="68580"/>
                </a:lnTo>
                <a:lnTo>
                  <a:pt x="114300" y="60960"/>
                </a:lnTo>
                <a:lnTo>
                  <a:pt x="121920" y="53340"/>
                </a:lnTo>
                <a:lnTo>
                  <a:pt x="129540" y="45720"/>
                </a:lnTo>
                <a:lnTo>
                  <a:pt x="137160" y="30480"/>
                </a:lnTo>
                <a:lnTo>
                  <a:pt x="144780" y="22860"/>
                </a:lnTo>
                <a:lnTo>
                  <a:pt x="144780" y="15240"/>
                </a:lnTo>
                <a:lnTo>
                  <a:pt x="152400" y="15240"/>
                </a:lnTo>
                <a:lnTo>
                  <a:pt x="152400" y="7620"/>
                </a:lnTo>
                <a:lnTo>
                  <a:pt x="152400" y="7620"/>
                </a:lnTo>
                <a:lnTo>
                  <a:pt x="152400" y="0"/>
                </a:lnTo>
                <a:lnTo>
                  <a:pt x="152400" y="0"/>
                </a:lnTo>
                <a:lnTo>
                  <a:pt x="152400" y="0"/>
                </a:lnTo>
                <a:lnTo>
                  <a:pt x="152400" y="0"/>
                </a:lnTo>
                <a:lnTo>
                  <a:pt x="152400" y="0"/>
                </a:lnTo>
                <a:lnTo>
                  <a:pt x="152400" y="7620"/>
                </a:lnTo>
                <a:lnTo>
                  <a:pt x="152400" y="7620"/>
                </a:lnTo>
                <a:lnTo>
                  <a:pt x="152400" y="15240"/>
                </a:lnTo>
                <a:lnTo>
                  <a:pt x="152400" y="22860"/>
                </a:lnTo>
                <a:lnTo>
                  <a:pt x="160020" y="38100"/>
                </a:lnTo>
                <a:lnTo>
                  <a:pt x="160020" y="45720"/>
                </a:lnTo>
                <a:lnTo>
                  <a:pt x="160020" y="60960"/>
                </a:lnTo>
                <a:lnTo>
                  <a:pt x="167640" y="76200"/>
                </a:lnTo>
                <a:lnTo>
                  <a:pt x="167640" y="83820"/>
                </a:lnTo>
                <a:lnTo>
                  <a:pt x="175260" y="99060"/>
                </a:lnTo>
                <a:lnTo>
                  <a:pt x="182880" y="114300"/>
                </a:lnTo>
                <a:lnTo>
                  <a:pt x="182880" y="129540"/>
                </a:lnTo>
                <a:lnTo>
                  <a:pt x="190500" y="144780"/>
                </a:lnTo>
                <a:lnTo>
                  <a:pt x="190500" y="160020"/>
                </a:lnTo>
                <a:lnTo>
                  <a:pt x="198120" y="175260"/>
                </a:lnTo>
                <a:lnTo>
                  <a:pt x="198120" y="190500"/>
                </a:lnTo>
                <a:lnTo>
                  <a:pt x="198120" y="205740"/>
                </a:lnTo>
                <a:lnTo>
                  <a:pt x="190500" y="213360"/>
                </a:lnTo>
                <a:lnTo>
                  <a:pt x="190500" y="228600"/>
                </a:lnTo>
                <a:lnTo>
                  <a:pt x="182880" y="236220"/>
                </a:lnTo>
                <a:lnTo>
                  <a:pt x="175260" y="243840"/>
                </a:lnTo>
                <a:lnTo>
                  <a:pt x="167640" y="251460"/>
                </a:lnTo>
                <a:lnTo>
                  <a:pt x="160020" y="259080"/>
                </a:lnTo>
                <a:lnTo>
                  <a:pt x="144780" y="259080"/>
                </a:lnTo>
                <a:lnTo>
                  <a:pt x="129540" y="259080"/>
                </a:lnTo>
                <a:lnTo>
                  <a:pt x="114300" y="259080"/>
                </a:lnTo>
                <a:lnTo>
                  <a:pt x="106680" y="259080"/>
                </a:lnTo>
                <a:lnTo>
                  <a:pt x="91440" y="259080"/>
                </a:lnTo>
                <a:lnTo>
                  <a:pt x="68580" y="251460"/>
                </a:lnTo>
                <a:lnTo>
                  <a:pt x="60960" y="243840"/>
                </a:lnTo>
                <a:lnTo>
                  <a:pt x="45720" y="236220"/>
                </a:lnTo>
                <a:lnTo>
                  <a:pt x="30480" y="220980"/>
                </a:lnTo>
                <a:lnTo>
                  <a:pt x="30480" y="2209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Freeform 7"/>
          <p:cNvSpPr/>
          <p:nvPr/>
        </p:nvSpPr>
        <p:spPr>
          <a:xfrm>
            <a:off x="1798560" y="2073240"/>
            <a:ext cx="182520" cy="136440"/>
          </a:xfrm>
          <a:custGeom>
            <a:avLst/>
            <a:gdLst>
              <a:gd name="textAreaLeft" fmla="*/ 0 w 182520"/>
              <a:gd name="textAreaRight" fmla="*/ 182880 w 18252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182881" h="137161">
                <a:moveTo>
                  <a:pt x="0" y="30480"/>
                </a:moveTo>
                <a:lnTo>
                  <a:pt x="0" y="22860"/>
                </a:lnTo>
                <a:lnTo>
                  <a:pt x="0" y="15240"/>
                </a:lnTo>
                <a:lnTo>
                  <a:pt x="0" y="15240"/>
                </a:lnTo>
                <a:lnTo>
                  <a:pt x="0" y="7620"/>
                </a:lnTo>
                <a:lnTo>
                  <a:pt x="7620" y="0"/>
                </a:lnTo>
                <a:lnTo>
                  <a:pt x="15240" y="0"/>
                </a:lnTo>
                <a:lnTo>
                  <a:pt x="22860" y="0"/>
                </a:lnTo>
                <a:lnTo>
                  <a:pt x="38100" y="0"/>
                </a:lnTo>
                <a:lnTo>
                  <a:pt x="45720" y="0"/>
                </a:lnTo>
                <a:lnTo>
                  <a:pt x="60960" y="0"/>
                </a:lnTo>
                <a:lnTo>
                  <a:pt x="68580" y="0"/>
                </a:lnTo>
                <a:lnTo>
                  <a:pt x="83820" y="0"/>
                </a:lnTo>
                <a:lnTo>
                  <a:pt x="91440" y="7620"/>
                </a:lnTo>
                <a:lnTo>
                  <a:pt x="106680" y="7620"/>
                </a:lnTo>
                <a:lnTo>
                  <a:pt x="114300" y="15240"/>
                </a:lnTo>
                <a:lnTo>
                  <a:pt x="121920" y="22860"/>
                </a:lnTo>
                <a:lnTo>
                  <a:pt x="121920" y="22860"/>
                </a:lnTo>
                <a:lnTo>
                  <a:pt x="129540" y="30480"/>
                </a:lnTo>
                <a:lnTo>
                  <a:pt x="121920" y="38100"/>
                </a:lnTo>
                <a:lnTo>
                  <a:pt x="121920" y="45720"/>
                </a:lnTo>
                <a:lnTo>
                  <a:pt x="114300" y="53340"/>
                </a:lnTo>
                <a:lnTo>
                  <a:pt x="106680" y="68580"/>
                </a:lnTo>
                <a:lnTo>
                  <a:pt x="91440" y="76200"/>
                </a:lnTo>
                <a:lnTo>
                  <a:pt x="83820" y="83820"/>
                </a:lnTo>
                <a:lnTo>
                  <a:pt x="68580" y="91440"/>
                </a:lnTo>
                <a:lnTo>
                  <a:pt x="60960" y="99060"/>
                </a:lnTo>
                <a:lnTo>
                  <a:pt x="53340" y="106680"/>
                </a:lnTo>
                <a:lnTo>
                  <a:pt x="45720" y="106680"/>
                </a:lnTo>
                <a:lnTo>
                  <a:pt x="45720" y="114300"/>
                </a:lnTo>
                <a:lnTo>
                  <a:pt x="45720" y="121920"/>
                </a:lnTo>
                <a:lnTo>
                  <a:pt x="45720" y="121920"/>
                </a:lnTo>
                <a:lnTo>
                  <a:pt x="53340" y="129540"/>
                </a:lnTo>
                <a:lnTo>
                  <a:pt x="60960" y="129540"/>
                </a:lnTo>
                <a:lnTo>
                  <a:pt x="76200" y="137160"/>
                </a:lnTo>
                <a:lnTo>
                  <a:pt x="91440" y="137160"/>
                </a:lnTo>
                <a:lnTo>
                  <a:pt x="106680" y="137160"/>
                </a:lnTo>
                <a:lnTo>
                  <a:pt x="129540" y="137160"/>
                </a:lnTo>
                <a:lnTo>
                  <a:pt x="152400" y="137160"/>
                </a:lnTo>
                <a:lnTo>
                  <a:pt x="182880" y="137160"/>
                </a:lnTo>
                <a:lnTo>
                  <a:pt x="182880" y="1371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Freeform 8"/>
          <p:cNvSpPr/>
          <p:nvPr/>
        </p:nvSpPr>
        <p:spPr>
          <a:xfrm>
            <a:off x="2087640" y="2278080"/>
            <a:ext cx="228600" cy="7920"/>
          </a:xfrm>
          <a:custGeom>
            <a:avLst/>
            <a:gdLst>
              <a:gd name="textAreaLeft" fmla="*/ 0 w 228600"/>
              <a:gd name="textAreaRight" fmla="*/ 228960 w 22860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28601" h="7621">
                <a:moveTo>
                  <a:pt x="7620" y="762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620" y="0"/>
                </a:lnTo>
                <a:lnTo>
                  <a:pt x="15240" y="0"/>
                </a:lnTo>
                <a:lnTo>
                  <a:pt x="22860" y="7620"/>
                </a:lnTo>
                <a:lnTo>
                  <a:pt x="38100" y="0"/>
                </a:lnTo>
                <a:lnTo>
                  <a:pt x="53340" y="0"/>
                </a:lnTo>
                <a:lnTo>
                  <a:pt x="68580" y="0"/>
                </a:lnTo>
                <a:lnTo>
                  <a:pt x="91440" y="0"/>
                </a:lnTo>
                <a:lnTo>
                  <a:pt x="106680" y="0"/>
                </a:lnTo>
                <a:lnTo>
                  <a:pt x="137160" y="0"/>
                </a:lnTo>
                <a:lnTo>
                  <a:pt x="152400" y="0"/>
                </a:lnTo>
                <a:lnTo>
                  <a:pt x="175260" y="0"/>
                </a:lnTo>
                <a:lnTo>
                  <a:pt x="190500" y="0"/>
                </a:lnTo>
                <a:lnTo>
                  <a:pt x="205740" y="0"/>
                </a:lnTo>
                <a:lnTo>
                  <a:pt x="228600" y="7620"/>
                </a:lnTo>
                <a:lnTo>
                  <a:pt x="228600" y="7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Freeform 9"/>
          <p:cNvSpPr/>
          <p:nvPr/>
        </p:nvSpPr>
        <p:spPr>
          <a:xfrm>
            <a:off x="2117880" y="2332080"/>
            <a:ext cx="176040" cy="14400"/>
          </a:xfrm>
          <a:custGeom>
            <a:avLst/>
            <a:gdLst>
              <a:gd name="textAreaLeft" fmla="*/ 0 w 176040"/>
              <a:gd name="textAreaRight" fmla="*/ 176400 w 1760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75261" h="15241">
                <a:moveTo>
                  <a:pt x="22860" y="7620"/>
                </a:moveTo>
                <a:lnTo>
                  <a:pt x="15240" y="7620"/>
                </a:lnTo>
                <a:lnTo>
                  <a:pt x="7620" y="7620"/>
                </a:lnTo>
                <a:lnTo>
                  <a:pt x="0" y="7620"/>
                </a:lnTo>
                <a:lnTo>
                  <a:pt x="0" y="15240"/>
                </a:lnTo>
                <a:lnTo>
                  <a:pt x="7620" y="15240"/>
                </a:lnTo>
                <a:lnTo>
                  <a:pt x="7620" y="15240"/>
                </a:lnTo>
                <a:lnTo>
                  <a:pt x="22860" y="15240"/>
                </a:lnTo>
                <a:lnTo>
                  <a:pt x="38100" y="15240"/>
                </a:lnTo>
                <a:lnTo>
                  <a:pt x="53340" y="15240"/>
                </a:lnTo>
                <a:lnTo>
                  <a:pt x="76200" y="7620"/>
                </a:lnTo>
                <a:lnTo>
                  <a:pt x="106680" y="7620"/>
                </a:lnTo>
                <a:lnTo>
                  <a:pt x="129540" y="0"/>
                </a:lnTo>
                <a:lnTo>
                  <a:pt x="175260" y="0"/>
                </a:lnTo>
                <a:lnTo>
                  <a:pt x="17526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Freeform 10"/>
          <p:cNvSpPr/>
          <p:nvPr/>
        </p:nvSpPr>
        <p:spPr>
          <a:xfrm>
            <a:off x="2468520" y="2163600"/>
            <a:ext cx="30240" cy="214560"/>
          </a:xfrm>
          <a:custGeom>
            <a:avLst/>
            <a:gdLst>
              <a:gd name="textAreaLeft" fmla="*/ 0 w 30240"/>
              <a:gd name="textAreaRight" fmla="*/ 30600 w 3024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30481" h="213361">
                <a:moveTo>
                  <a:pt x="30480" y="0"/>
                </a:move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22860" y="7620"/>
                </a:lnTo>
                <a:lnTo>
                  <a:pt x="22860" y="15240"/>
                </a:lnTo>
                <a:lnTo>
                  <a:pt x="22860" y="22860"/>
                </a:lnTo>
                <a:lnTo>
                  <a:pt x="15240" y="38100"/>
                </a:lnTo>
                <a:lnTo>
                  <a:pt x="15240" y="45720"/>
                </a:lnTo>
                <a:lnTo>
                  <a:pt x="7620" y="60960"/>
                </a:lnTo>
                <a:lnTo>
                  <a:pt x="7620" y="76200"/>
                </a:lnTo>
                <a:lnTo>
                  <a:pt x="7620" y="91440"/>
                </a:lnTo>
                <a:lnTo>
                  <a:pt x="0" y="106680"/>
                </a:lnTo>
                <a:lnTo>
                  <a:pt x="0" y="121920"/>
                </a:lnTo>
                <a:lnTo>
                  <a:pt x="0" y="137160"/>
                </a:lnTo>
                <a:lnTo>
                  <a:pt x="0" y="152400"/>
                </a:lnTo>
                <a:lnTo>
                  <a:pt x="0" y="167640"/>
                </a:lnTo>
                <a:lnTo>
                  <a:pt x="0" y="182880"/>
                </a:lnTo>
                <a:lnTo>
                  <a:pt x="0" y="190500"/>
                </a:lnTo>
                <a:lnTo>
                  <a:pt x="7620" y="198120"/>
                </a:lnTo>
                <a:lnTo>
                  <a:pt x="15240" y="205740"/>
                </a:lnTo>
                <a:lnTo>
                  <a:pt x="15240" y="205740"/>
                </a:lnTo>
                <a:lnTo>
                  <a:pt x="30480" y="213360"/>
                </a:lnTo>
                <a:lnTo>
                  <a:pt x="30480" y="2133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Freeform 11"/>
          <p:cNvSpPr/>
          <p:nvPr/>
        </p:nvSpPr>
        <p:spPr>
          <a:xfrm>
            <a:off x="2629080" y="2125800"/>
            <a:ext cx="190440" cy="214200"/>
          </a:xfrm>
          <a:custGeom>
            <a:avLst/>
            <a:gdLst>
              <a:gd name="textAreaLeft" fmla="*/ 0 w 190440"/>
              <a:gd name="textAreaRight" fmla="*/ 190800 w 1904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90501" h="213361">
                <a:moveTo>
                  <a:pt x="83820" y="30480"/>
                </a:moveTo>
                <a:lnTo>
                  <a:pt x="83820" y="22860"/>
                </a:lnTo>
                <a:lnTo>
                  <a:pt x="91440" y="15240"/>
                </a:lnTo>
                <a:lnTo>
                  <a:pt x="91440" y="15240"/>
                </a:lnTo>
                <a:lnTo>
                  <a:pt x="91440" y="7620"/>
                </a:lnTo>
                <a:lnTo>
                  <a:pt x="99060" y="0"/>
                </a:lnTo>
                <a:lnTo>
                  <a:pt x="99060" y="0"/>
                </a:lnTo>
                <a:lnTo>
                  <a:pt x="99060" y="0"/>
                </a:lnTo>
                <a:lnTo>
                  <a:pt x="99060" y="0"/>
                </a:lnTo>
                <a:lnTo>
                  <a:pt x="99060" y="0"/>
                </a:lnTo>
                <a:lnTo>
                  <a:pt x="91440" y="0"/>
                </a:lnTo>
                <a:lnTo>
                  <a:pt x="91440" y="0"/>
                </a:lnTo>
                <a:lnTo>
                  <a:pt x="83820" y="7620"/>
                </a:lnTo>
                <a:lnTo>
                  <a:pt x="76200" y="15240"/>
                </a:lnTo>
                <a:lnTo>
                  <a:pt x="68580" y="30480"/>
                </a:lnTo>
                <a:lnTo>
                  <a:pt x="60960" y="38100"/>
                </a:lnTo>
                <a:lnTo>
                  <a:pt x="45720" y="53340"/>
                </a:lnTo>
                <a:lnTo>
                  <a:pt x="38100" y="68580"/>
                </a:lnTo>
                <a:lnTo>
                  <a:pt x="22860" y="83820"/>
                </a:lnTo>
                <a:lnTo>
                  <a:pt x="15240" y="91440"/>
                </a:lnTo>
                <a:lnTo>
                  <a:pt x="7620" y="106680"/>
                </a:lnTo>
                <a:lnTo>
                  <a:pt x="0" y="121920"/>
                </a:lnTo>
                <a:lnTo>
                  <a:pt x="0" y="137160"/>
                </a:lnTo>
                <a:lnTo>
                  <a:pt x="0" y="152400"/>
                </a:lnTo>
                <a:lnTo>
                  <a:pt x="7620" y="160020"/>
                </a:lnTo>
                <a:lnTo>
                  <a:pt x="7620" y="167640"/>
                </a:lnTo>
                <a:lnTo>
                  <a:pt x="15240" y="182880"/>
                </a:lnTo>
                <a:lnTo>
                  <a:pt x="30480" y="190500"/>
                </a:lnTo>
                <a:lnTo>
                  <a:pt x="45720" y="198120"/>
                </a:lnTo>
                <a:lnTo>
                  <a:pt x="60960" y="198120"/>
                </a:lnTo>
                <a:lnTo>
                  <a:pt x="83820" y="205740"/>
                </a:lnTo>
                <a:lnTo>
                  <a:pt x="99060" y="205740"/>
                </a:lnTo>
                <a:lnTo>
                  <a:pt x="114300" y="198120"/>
                </a:lnTo>
                <a:lnTo>
                  <a:pt x="129540" y="198120"/>
                </a:lnTo>
                <a:lnTo>
                  <a:pt x="144780" y="190500"/>
                </a:lnTo>
                <a:lnTo>
                  <a:pt x="160020" y="182880"/>
                </a:lnTo>
                <a:lnTo>
                  <a:pt x="167640" y="175260"/>
                </a:lnTo>
                <a:lnTo>
                  <a:pt x="182880" y="167640"/>
                </a:lnTo>
                <a:lnTo>
                  <a:pt x="182880" y="160020"/>
                </a:lnTo>
                <a:lnTo>
                  <a:pt x="190500" y="152400"/>
                </a:lnTo>
                <a:lnTo>
                  <a:pt x="190500" y="144780"/>
                </a:lnTo>
                <a:lnTo>
                  <a:pt x="182880" y="137160"/>
                </a:lnTo>
                <a:lnTo>
                  <a:pt x="182880" y="137160"/>
                </a:lnTo>
                <a:lnTo>
                  <a:pt x="167640" y="137160"/>
                </a:lnTo>
                <a:lnTo>
                  <a:pt x="160020" y="137160"/>
                </a:lnTo>
                <a:lnTo>
                  <a:pt x="152400" y="137160"/>
                </a:lnTo>
                <a:lnTo>
                  <a:pt x="144780" y="144780"/>
                </a:lnTo>
                <a:lnTo>
                  <a:pt x="137160" y="144780"/>
                </a:lnTo>
                <a:lnTo>
                  <a:pt x="121920" y="152400"/>
                </a:lnTo>
                <a:lnTo>
                  <a:pt x="121920" y="160020"/>
                </a:lnTo>
                <a:lnTo>
                  <a:pt x="114300" y="167640"/>
                </a:lnTo>
                <a:lnTo>
                  <a:pt x="114300" y="182880"/>
                </a:lnTo>
                <a:lnTo>
                  <a:pt x="121920" y="190500"/>
                </a:lnTo>
                <a:lnTo>
                  <a:pt x="129540" y="198120"/>
                </a:lnTo>
                <a:lnTo>
                  <a:pt x="137160" y="213360"/>
                </a:lnTo>
                <a:lnTo>
                  <a:pt x="137160" y="2133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Freeform 12"/>
          <p:cNvSpPr/>
          <p:nvPr/>
        </p:nvSpPr>
        <p:spPr>
          <a:xfrm>
            <a:off x="168120" y="1836720"/>
            <a:ext cx="3146760" cy="762120"/>
          </a:xfrm>
          <a:custGeom>
            <a:avLst/>
            <a:gdLst>
              <a:gd name="textAreaLeft" fmla="*/ 0 w 3146760"/>
              <a:gd name="textAreaRight" fmla="*/ 3147120 w 31467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3147061" h="762001">
                <a:moveTo>
                  <a:pt x="464820" y="723900"/>
                </a:moveTo>
                <a:lnTo>
                  <a:pt x="464820" y="723900"/>
                </a:lnTo>
                <a:lnTo>
                  <a:pt x="472440" y="716280"/>
                </a:lnTo>
                <a:lnTo>
                  <a:pt x="472440" y="716280"/>
                </a:lnTo>
                <a:lnTo>
                  <a:pt x="487680" y="716280"/>
                </a:lnTo>
                <a:lnTo>
                  <a:pt x="495300" y="716280"/>
                </a:lnTo>
                <a:lnTo>
                  <a:pt x="510540" y="723900"/>
                </a:lnTo>
                <a:lnTo>
                  <a:pt x="525780" y="723900"/>
                </a:lnTo>
                <a:lnTo>
                  <a:pt x="541020" y="723900"/>
                </a:lnTo>
                <a:lnTo>
                  <a:pt x="556260" y="723900"/>
                </a:lnTo>
                <a:lnTo>
                  <a:pt x="586740" y="731520"/>
                </a:lnTo>
                <a:lnTo>
                  <a:pt x="609600" y="731520"/>
                </a:lnTo>
                <a:lnTo>
                  <a:pt x="632460" y="739140"/>
                </a:lnTo>
                <a:lnTo>
                  <a:pt x="662940" y="739140"/>
                </a:lnTo>
                <a:lnTo>
                  <a:pt x="693420" y="739140"/>
                </a:lnTo>
                <a:lnTo>
                  <a:pt x="731520" y="746760"/>
                </a:lnTo>
                <a:lnTo>
                  <a:pt x="762000" y="746760"/>
                </a:lnTo>
                <a:lnTo>
                  <a:pt x="800100" y="746760"/>
                </a:lnTo>
                <a:lnTo>
                  <a:pt x="838200" y="754380"/>
                </a:lnTo>
                <a:lnTo>
                  <a:pt x="876300" y="754380"/>
                </a:lnTo>
                <a:lnTo>
                  <a:pt x="922020" y="754380"/>
                </a:lnTo>
                <a:lnTo>
                  <a:pt x="967740" y="762000"/>
                </a:lnTo>
                <a:lnTo>
                  <a:pt x="1013460" y="762000"/>
                </a:lnTo>
                <a:lnTo>
                  <a:pt x="1066800" y="762000"/>
                </a:lnTo>
                <a:lnTo>
                  <a:pt x="1112520" y="762000"/>
                </a:lnTo>
                <a:lnTo>
                  <a:pt x="1173480" y="762000"/>
                </a:lnTo>
                <a:lnTo>
                  <a:pt x="1226820" y="762000"/>
                </a:lnTo>
                <a:lnTo>
                  <a:pt x="1280160" y="762000"/>
                </a:lnTo>
                <a:lnTo>
                  <a:pt x="1341120" y="762000"/>
                </a:lnTo>
                <a:lnTo>
                  <a:pt x="1402080" y="762000"/>
                </a:lnTo>
                <a:lnTo>
                  <a:pt x="1463040" y="762000"/>
                </a:lnTo>
                <a:lnTo>
                  <a:pt x="1524000" y="762000"/>
                </a:lnTo>
                <a:lnTo>
                  <a:pt x="1584960" y="762000"/>
                </a:lnTo>
                <a:lnTo>
                  <a:pt x="1653540" y="762000"/>
                </a:lnTo>
                <a:lnTo>
                  <a:pt x="1714500" y="762000"/>
                </a:lnTo>
                <a:lnTo>
                  <a:pt x="1783080" y="762000"/>
                </a:lnTo>
                <a:lnTo>
                  <a:pt x="1844040" y="762000"/>
                </a:lnTo>
                <a:lnTo>
                  <a:pt x="1912620" y="762000"/>
                </a:lnTo>
                <a:lnTo>
                  <a:pt x="1981200" y="762000"/>
                </a:lnTo>
                <a:lnTo>
                  <a:pt x="2042160" y="762000"/>
                </a:lnTo>
                <a:lnTo>
                  <a:pt x="2110740" y="754380"/>
                </a:lnTo>
                <a:lnTo>
                  <a:pt x="2171700" y="754380"/>
                </a:lnTo>
                <a:lnTo>
                  <a:pt x="2240280" y="746760"/>
                </a:lnTo>
                <a:lnTo>
                  <a:pt x="2308860" y="746760"/>
                </a:lnTo>
                <a:lnTo>
                  <a:pt x="2369820" y="739140"/>
                </a:lnTo>
                <a:lnTo>
                  <a:pt x="2438400" y="739140"/>
                </a:lnTo>
                <a:lnTo>
                  <a:pt x="2499360" y="731520"/>
                </a:lnTo>
                <a:lnTo>
                  <a:pt x="2552700" y="723900"/>
                </a:lnTo>
                <a:lnTo>
                  <a:pt x="2613660" y="716280"/>
                </a:lnTo>
                <a:lnTo>
                  <a:pt x="2667000" y="716280"/>
                </a:lnTo>
                <a:lnTo>
                  <a:pt x="2720340" y="701040"/>
                </a:lnTo>
                <a:lnTo>
                  <a:pt x="2766060" y="701040"/>
                </a:lnTo>
                <a:lnTo>
                  <a:pt x="2811780" y="685800"/>
                </a:lnTo>
                <a:lnTo>
                  <a:pt x="2865120" y="678180"/>
                </a:lnTo>
                <a:lnTo>
                  <a:pt x="2903220" y="670560"/>
                </a:lnTo>
                <a:lnTo>
                  <a:pt x="2941320" y="655320"/>
                </a:lnTo>
                <a:lnTo>
                  <a:pt x="2979420" y="647700"/>
                </a:lnTo>
                <a:lnTo>
                  <a:pt x="3009900" y="632460"/>
                </a:lnTo>
                <a:lnTo>
                  <a:pt x="3040380" y="617220"/>
                </a:lnTo>
                <a:lnTo>
                  <a:pt x="3070860" y="609600"/>
                </a:lnTo>
                <a:lnTo>
                  <a:pt x="3093720" y="594360"/>
                </a:lnTo>
                <a:lnTo>
                  <a:pt x="3108960" y="579120"/>
                </a:lnTo>
                <a:lnTo>
                  <a:pt x="3124200" y="556260"/>
                </a:lnTo>
                <a:lnTo>
                  <a:pt x="3139440" y="541020"/>
                </a:lnTo>
                <a:lnTo>
                  <a:pt x="3139440" y="525780"/>
                </a:lnTo>
                <a:lnTo>
                  <a:pt x="3147060" y="502920"/>
                </a:lnTo>
                <a:lnTo>
                  <a:pt x="3139440" y="480060"/>
                </a:lnTo>
                <a:lnTo>
                  <a:pt x="3139440" y="464820"/>
                </a:lnTo>
                <a:lnTo>
                  <a:pt x="3124200" y="441960"/>
                </a:lnTo>
                <a:lnTo>
                  <a:pt x="3108960" y="419100"/>
                </a:lnTo>
                <a:lnTo>
                  <a:pt x="3093720" y="396240"/>
                </a:lnTo>
                <a:lnTo>
                  <a:pt x="3070860" y="373380"/>
                </a:lnTo>
                <a:lnTo>
                  <a:pt x="3040380" y="342900"/>
                </a:lnTo>
                <a:lnTo>
                  <a:pt x="3009900" y="320040"/>
                </a:lnTo>
                <a:lnTo>
                  <a:pt x="2971800" y="297180"/>
                </a:lnTo>
                <a:lnTo>
                  <a:pt x="2926080" y="274320"/>
                </a:lnTo>
                <a:lnTo>
                  <a:pt x="2887980" y="251460"/>
                </a:lnTo>
                <a:lnTo>
                  <a:pt x="2842260" y="228600"/>
                </a:lnTo>
                <a:lnTo>
                  <a:pt x="2788920" y="213360"/>
                </a:lnTo>
                <a:lnTo>
                  <a:pt x="2735580" y="190500"/>
                </a:lnTo>
                <a:lnTo>
                  <a:pt x="2674620" y="167640"/>
                </a:lnTo>
                <a:lnTo>
                  <a:pt x="2621280" y="152400"/>
                </a:lnTo>
                <a:lnTo>
                  <a:pt x="2560320" y="137160"/>
                </a:lnTo>
                <a:lnTo>
                  <a:pt x="2499360" y="121920"/>
                </a:lnTo>
                <a:lnTo>
                  <a:pt x="2430780" y="106680"/>
                </a:lnTo>
                <a:lnTo>
                  <a:pt x="2362200" y="91440"/>
                </a:lnTo>
                <a:lnTo>
                  <a:pt x="2293620" y="76200"/>
                </a:lnTo>
                <a:lnTo>
                  <a:pt x="2225040" y="60960"/>
                </a:lnTo>
                <a:lnTo>
                  <a:pt x="2156460" y="53340"/>
                </a:lnTo>
                <a:lnTo>
                  <a:pt x="2080260" y="45720"/>
                </a:lnTo>
                <a:lnTo>
                  <a:pt x="2004060" y="38100"/>
                </a:lnTo>
                <a:lnTo>
                  <a:pt x="1927860" y="22860"/>
                </a:lnTo>
                <a:lnTo>
                  <a:pt x="1859280" y="22860"/>
                </a:lnTo>
                <a:lnTo>
                  <a:pt x="1783080" y="15240"/>
                </a:lnTo>
                <a:lnTo>
                  <a:pt x="1706880" y="7620"/>
                </a:lnTo>
                <a:lnTo>
                  <a:pt x="1630680" y="7620"/>
                </a:lnTo>
                <a:lnTo>
                  <a:pt x="1546860" y="7620"/>
                </a:lnTo>
                <a:lnTo>
                  <a:pt x="1478280" y="0"/>
                </a:lnTo>
                <a:lnTo>
                  <a:pt x="1394460" y="0"/>
                </a:lnTo>
                <a:lnTo>
                  <a:pt x="1318260" y="7620"/>
                </a:lnTo>
                <a:lnTo>
                  <a:pt x="1242060" y="7620"/>
                </a:lnTo>
                <a:lnTo>
                  <a:pt x="1165860" y="15240"/>
                </a:lnTo>
                <a:lnTo>
                  <a:pt x="1089660" y="15240"/>
                </a:lnTo>
                <a:lnTo>
                  <a:pt x="1005840" y="22860"/>
                </a:lnTo>
                <a:lnTo>
                  <a:pt x="937260" y="38100"/>
                </a:lnTo>
                <a:lnTo>
                  <a:pt x="861060" y="45720"/>
                </a:lnTo>
                <a:lnTo>
                  <a:pt x="792480" y="53340"/>
                </a:lnTo>
                <a:lnTo>
                  <a:pt x="716280" y="68580"/>
                </a:lnTo>
                <a:lnTo>
                  <a:pt x="647700" y="91440"/>
                </a:lnTo>
                <a:lnTo>
                  <a:pt x="586740" y="106680"/>
                </a:lnTo>
                <a:lnTo>
                  <a:pt x="525780" y="121920"/>
                </a:lnTo>
                <a:lnTo>
                  <a:pt x="464820" y="144780"/>
                </a:lnTo>
                <a:lnTo>
                  <a:pt x="403860" y="167640"/>
                </a:lnTo>
                <a:lnTo>
                  <a:pt x="358140" y="182880"/>
                </a:lnTo>
                <a:lnTo>
                  <a:pt x="304800" y="205740"/>
                </a:lnTo>
                <a:lnTo>
                  <a:pt x="259080" y="228600"/>
                </a:lnTo>
                <a:lnTo>
                  <a:pt x="213360" y="259080"/>
                </a:lnTo>
                <a:lnTo>
                  <a:pt x="175260" y="281940"/>
                </a:lnTo>
                <a:lnTo>
                  <a:pt x="137160" y="312420"/>
                </a:lnTo>
                <a:lnTo>
                  <a:pt x="106680" y="335280"/>
                </a:lnTo>
                <a:lnTo>
                  <a:pt x="83820" y="358140"/>
                </a:lnTo>
                <a:lnTo>
                  <a:pt x="60960" y="388620"/>
                </a:lnTo>
                <a:lnTo>
                  <a:pt x="38100" y="411480"/>
                </a:lnTo>
                <a:lnTo>
                  <a:pt x="22860" y="441960"/>
                </a:lnTo>
                <a:lnTo>
                  <a:pt x="7620" y="464820"/>
                </a:lnTo>
                <a:lnTo>
                  <a:pt x="7620" y="487680"/>
                </a:lnTo>
                <a:lnTo>
                  <a:pt x="0" y="518160"/>
                </a:lnTo>
                <a:lnTo>
                  <a:pt x="0" y="541020"/>
                </a:lnTo>
                <a:lnTo>
                  <a:pt x="7620" y="563880"/>
                </a:lnTo>
                <a:lnTo>
                  <a:pt x="15240" y="586740"/>
                </a:lnTo>
                <a:lnTo>
                  <a:pt x="30480" y="609600"/>
                </a:lnTo>
                <a:lnTo>
                  <a:pt x="45720" y="632460"/>
                </a:lnTo>
                <a:lnTo>
                  <a:pt x="60960" y="647700"/>
                </a:lnTo>
                <a:lnTo>
                  <a:pt x="83820" y="662940"/>
                </a:lnTo>
                <a:lnTo>
                  <a:pt x="114300" y="678180"/>
                </a:lnTo>
                <a:lnTo>
                  <a:pt x="152400" y="693420"/>
                </a:lnTo>
                <a:lnTo>
                  <a:pt x="182880" y="708660"/>
                </a:lnTo>
                <a:lnTo>
                  <a:pt x="220980" y="716280"/>
                </a:lnTo>
                <a:lnTo>
                  <a:pt x="266700" y="723900"/>
                </a:lnTo>
                <a:lnTo>
                  <a:pt x="312420" y="731520"/>
                </a:lnTo>
                <a:lnTo>
                  <a:pt x="365760" y="731520"/>
                </a:lnTo>
                <a:lnTo>
                  <a:pt x="419100" y="731520"/>
                </a:lnTo>
                <a:lnTo>
                  <a:pt x="480060" y="731520"/>
                </a:lnTo>
                <a:lnTo>
                  <a:pt x="541020" y="723900"/>
                </a:lnTo>
                <a:lnTo>
                  <a:pt x="601980" y="723900"/>
                </a:lnTo>
                <a:lnTo>
                  <a:pt x="662940" y="716280"/>
                </a:lnTo>
                <a:lnTo>
                  <a:pt x="739140" y="716280"/>
                </a:lnTo>
                <a:lnTo>
                  <a:pt x="800100" y="708660"/>
                </a:lnTo>
                <a:lnTo>
                  <a:pt x="868680" y="708660"/>
                </a:lnTo>
                <a:lnTo>
                  <a:pt x="937260" y="701040"/>
                </a:lnTo>
                <a:lnTo>
                  <a:pt x="1005840" y="701040"/>
                </a:lnTo>
                <a:lnTo>
                  <a:pt x="1074420" y="701040"/>
                </a:lnTo>
                <a:lnTo>
                  <a:pt x="1135380" y="701040"/>
                </a:lnTo>
                <a:lnTo>
                  <a:pt x="1226820" y="701040"/>
                </a:lnTo>
                <a:lnTo>
                  <a:pt x="1226820" y="7010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.4: Write the standard equation of a circle wit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nter (5, 8) &amp; passes through point (-15, -13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533520" y="403848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152280" y="1601640"/>
            <a:ext cx="4191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 – h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y – k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-15 – 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-13 - 8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-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 + 441 =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41 =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9 = 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1981080" y="99684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2857680" y="9907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Line 8"/>
          <p:cNvSpPr/>
          <p:nvPr/>
        </p:nvSpPr>
        <p:spPr>
          <a:xfrm flipV="1">
            <a:off x="2236680" y="9140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Line 9"/>
          <p:cNvSpPr/>
          <p:nvPr/>
        </p:nvSpPr>
        <p:spPr>
          <a:xfrm flipH="1" flipV="1">
            <a:off x="2857320" y="87588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6134040" y="1204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Line 11"/>
          <p:cNvSpPr/>
          <p:nvPr/>
        </p:nvSpPr>
        <p:spPr>
          <a:xfrm flipV="1">
            <a:off x="6362640" y="893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Text Box 12"/>
          <p:cNvSpPr/>
          <p:nvPr/>
        </p:nvSpPr>
        <p:spPr>
          <a:xfrm>
            <a:off x="7315200" y="11224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Line 13"/>
          <p:cNvSpPr/>
          <p:nvPr/>
        </p:nvSpPr>
        <p:spPr>
          <a:xfrm flipV="1">
            <a:off x="7467480" y="89028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Text Box 14"/>
          <p:cNvSpPr/>
          <p:nvPr/>
        </p:nvSpPr>
        <p:spPr>
          <a:xfrm>
            <a:off x="4724280" y="1601640"/>
            <a:ext cx="41911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 – h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(y – k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 – 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(y – 8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 – 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(y – 8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84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Freeform 1"/>
          <p:cNvSpPr/>
          <p:nvPr/>
        </p:nvSpPr>
        <p:spPr>
          <a:xfrm>
            <a:off x="136440" y="3755880"/>
            <a:ext cx="808200" cy="489240"/>
          </a:xfrm>
          <a:custGeom>
            <a:avLst/>
            <a:gdLst>
              <a:gd name="textAreaLeft" fmla="*/ 0 w 808200"/>
              <a:gd name="textAreaRight" fmla="*/ 808560 w 808200"/>
              <a:gd name="textAreaTop" fmla="*/ 0 h 489240"/>
              <a:gd name="textAreaBottom" fmla="*/ 489600 h 489240"/>
            </a:gdLst>
            <a:ahLst/>
            <a:rect l="textAreaLeft" t="textAreaTop" r="textAreaRight" b="textAreaBottom"/>
            <a:pathLst>
              <a:path w="807721" h="487681">
                <a:moveTo>
                  <a:pt x="99060" y="403860"/>
                </a:moveTo>
                <a:lnTo>
                  <a:pt x="99060" y="403860"/>
                </a:lnTo>
                <a:lnTo>
                  <a:pt x="106680" y="411480"/>
                </a:lnTo>
                <a:lnTo>
                  <a:pt x="114300" y="411480"/>
                </a:lnTo>
                <a:lnTo>
                  <a:pt x="129540" y="411480"/>
                </a:lnTo>
                <a:lnTo>
                  <a:pt x="137160" y="419100"/>
                </a:lnTo>
                <a:lnTo>
                  <a:pt x="144780" y="419100"/>
                </a:lnTo>
                <a:lnTo>
                  <a:pt x="152400" y="419100"/>
                </a:lnTo>
                <a:lnTo>
                  <a:pt x="160020" y="426720"/>
                </a:lnTo>
                <a:lnTo>
                  <a:pt x="175260" y="426720"/>
                </a:lnTo>
                <a:lnTo>
                  <a:pt x="190500" y="426720"/>
                </a:lnTo>
                <a:lnTo>
                  <a:pt x="205740" y="434340"/>
                </a:lnTo>
                <a:lnTo>
                  <a:pt x="213360" y="434340"/>
                </a:lnTo>
                <a:lnTo>
                  <a:pt x="236220" y="441960"/>
                </a:lnTo>
                <a:lnTo>
                  <a:pt x="251460" y="441960"/>
                </a:lnTo>
                <a:lnTo>
                  <a:pt x="266700" y="449580"/>
                </a:lnTo>
                <a:lnTo>
                  <a:pt x="281940" y="449580"/>
                </a:lnTo>
                <a:lnTo>
                  <a:pt x="304800" y="457200"/>
                </a:lnTo>
                <a:lnTo>
                  <a:pt x="327660" y="464820"/>
                </a:lnTo>
                <a:lnTo>
                  <a:pt x="350520" y="464820"/>
                </a:lnTo>
                <a:lnTo>
                  <a:pt x="373380" y="472440"/>
                </a:lnTo>
                <a:lnTo>
                  <a:pt x="388620" y="472440"/>
                </a:lnTo>
                <a:lnTo>
                  <a:pt x="411480" y="480060"/>
                </a:lnTo>
                <a:lnTo>
                  <a:pt x="434340" y="480060"/>
                </a:lnTo>
                <a:lnTo>
                  <a:pt x="457200" y="487680"/>
                </a:lnTo>
                <a:lnTo>
                  <a:pt x="480060" y="487680"/>
                </a:lnTo>
                <a:lnTo>
                  <a:pt x="502920" y="487680"/>
                </a:lnTo>
                <a:lnTo>
                  <a:pt x="525780" y="487680"/>
                </a:lnTo>
                <a:lnTo>
                  <a:pt x="541020" y="487680"/>
                </a:lnTo>
                <a:lnTo>
                  <a:pt x="563880" y="487680"/>
                </a:lnTo>
                <a:lnTo>
                  <a:pt x="586740" y="487680"/>
                </a:lnTo>
                <a:lnTo>
                  <a:pt x="601980" y="480060"/>
                </a:lnTo>
                <a:lnTo>
                  <a:pt x="624840" y="480060"/>
                </a:lnTo>
                <a:lnTo>
                  <a:pt x="640080" y="472440"/>
                </a:lnTo>
                <a:lnTo>
                  <a:pt x="662940" y="464820"/>
                </a:lnTo>
                <a:lnTo>
                  <a:pt x="678180" y="457200"/>
                </a:lnTo>
                <a:lnTo>
                  <a:pt x="693420" y="441960"/>
                </a:lnTo>
                <a:lnTo>
                  <a:pt x="701040" y="434340"/>
                </a:lnTo>
                <a:lnTo>
                  <a:pt x="723900" y="419100"/>
                </a:lnTo>
                <a:lnTo>
                  <a:pt x="731520" y="411480"/>
                </a:lnTo>
                <a:lnTo>
                  <a:pt x="746760" y="396240"/>
                </a:lnTo>
                <a:lnTo>
                  <a:pt x="762000" y="381000"/>
                </a:lnTo>
                <a:lnTo>
                  <a:pt x="769620" y="365760"/>
                </a:lnTo>
                <a:lnTo>
                  <a:pt x="784860" y="350520"/>
                </a:lnTo>
                <a:lnTo>
                  <a:pt x="792480" y="335280"/>
                </a:lnTo>
                <a:lnTo>
                  <a:pt x="792480" y="320040"/>
                </a:lnTo>
                <a:lnTo>
                  <a:pt x="800100" y="297180"/>
                </a:lnTo>
                <a:lnTo>
                  <a:pt x="807720" y="281940"/>
                </a:lnTo>
                <a:lnTo>
                  <a:pt x="807720" y="266700"/>
                </a:lnTo>
                <a:lnTo>
                  <a:pt x="807720" y="243840"/>
                </a:lnTo>
                <a:lnTo>
                  <a:pt x="800100" y="228600"/>
                </a:lnTo>
                <a:lnTo>
                  <a:pt x="800100" y="205740"/>
                </a:lnTo>
                <a:lnTo>
                  <a:pt x="792480" y="190500"/>
                </a:lnTo>
                <a:lnTo>
                  <a:pt x="784860" y="167640"/>
                </a:lnTo>
                <a:lnTo>
                  <a:pt x="777240" y="152400"/>
                </a:lnTo>
                <a:lnTo>
                  <a:pt x="762000" y="129540"/>
                </a:lnTo>
                <a:lnTo>
                  <a:pt x="746760" y="114300"/>
                </a:lnTo>
                <a:lnTo>
                  <a:pt x="731520" y="99060"/>
                </a:lnTo>
                <a:lnTo>
                  <a:pt x="716280" y="83820"/>
                </a:lnTo>
                <a:lnTo>
                  <a:pt x="693420" y="68580"/>
                </a:lnTo>
                <a:lnTo>
                  <a:pt x="670560" y="53340"/>
                </a:lnTo>
                <a:lnTo>
                  <a:pt x="647700" y="45720"/>
                </a:lnTo>
                <a:lnTo>
                  <a:pt x="624840" y="30480"/>
                </a:lnTo>
                <a:lnTo>
                  <a:pt x="601980" y="22860"/>
                </a:lnTo>
                <a:lnTo>
                  <a:pt x="579120" y="15240"/>
                </a:lnTo>
                <a:lnTo>
                  <a:pt x="548640" y="15240"/>
                </a:lnTo>
                <a:lnTo>
                  <a:pt x="525780" y="7620"/>
                </a:lnTo>
                <a:lnTo>
                  <a:pt x="495300" y="0"/>
                </a:lnTo>
                <a:lnTo>
                  <a:pt x="464820" y="0"/>
                </a:lnTo>
                <a:lnTo>
                  <a:pt x="434340" y="0"/>
                </a:lnTo>
                <a:lnTo>
                  <a:pt x="403860" y="7620"/>
                </a:lnTo>
                <a:lnTo>
                  <a:pt x="373380" y="7620"/>
                </a:lnTo>
                <a:lnTo>
                  <a:pt x="342900" y="15240"/>
                </a:lnTo>
                <a:lnTo>
                  <a:pt x="312420" y="22860"/>
                </a:lnTo>
                <a:lnTo>
                  <a:pt x="281940" y="30480"/>
                </a:lnTo>
                <a:lnTo>
                  <a:pt x="251460" y="45720"/>
                </a:lnTo>
                <a:lnTo>
                  <a:pt x="228600" y="53340"/>
                </a:lnTo>
                <a:lnTo>
                  <a:pt x="198120" y="68580"/>
                </a:lnTo>
                <a:lnTo>
                  <a:pt x="175260" y="83820"/>
                </a:lnTo>
                <a:lnTo>
                  <a:pt x="144780" y="99060"/>
                </a:lnTo>
                <a:lnTo>
                  <a:pt x="121920" y="121920"/>
                </a:lnTo>
                <a:lnTo>
                  <a:pt x="99060" y="137160"/>
                </a:lnTo>
                <a:lnTo>
                  <a:pt x="76200" y="160020"/>
                </a:lnTo>
                <a:lnTo>
                  <a:pt x="60960" y="175260"/>
                </a:lnTo>
                <a:lnTo>
                  <a:pt x="38100" y="190500"/>
                </a:lnTo>
                <a:lnTo>
                  <a:pt x="30480" y="213360"/>
                </a:lnTo>
                <a:lnTo>
                  <a:pt x="15240" y="228600"/>
                </a:lnTo>
                <a:lnTo>
                  <a:pt x="7620" y="251460"/>
                </a:lnTo>
                <a:lnTo>
                  <a:pt x="0" y="274320"/>
                </a:lnTo>
                <a:lnTo>
                  <a:pt x="0" y="289560"/>
                </a:lnTo>
                <a:lnTo>
                  <a:pt x="0" y="304800"/>
                </a:lnTo>
                <a:lnTo>
                  <a:pt x="0" y="327660"/>
                </a:lnTo>
                <a:lnTo>
                  <a:pt x="7620" y="342900"/>
                </a:lnTo>
                <a:lnTo>
                  <a:pt x="7620" y="358140"/>
                </a:lnTo>
                <a:lnTo>
                  <a:pt x="22860" y="373380"/>
                </a:lnTo>
                <a:lnTo>
                  <a:pt x="30480" y="388620"/>
                </a:lnTo>
                <a:lnTo>
                  <a:pt x="45720" y="403860"/>
                </a:lnTo>
                <a:lnTo>
                  <a:pt x="60960" y="411480"/>
                </a:lnTo>
                <a:lnTo>
                  <a:pt x="83820" y="419100"/>
                </a:lnTo>
                <a:lnTo>
                  <a:pt x="99060" y="426720"/>
                </a:lnTo>
                <a:lnTo>
                  <a:pt x="129540" y="434340"/>
                </a:lnTo>
                <a:lnTo>
                  <a:pt x="152400" y="441960"/>
                </a:lnTo>
                <a:lnTo>
                  <a:pt x="175260" y="441960"/>
                </a:lnTo>
                <a:lnTo>
                  <a:pt x="205740" y="441960"/>
                </a:lnTo>
                <a:lnTo>
                  <a:pt x="236220" y="441960"/>
                </a:lnTo>
                <a:lnTo>
                  <a:pt x="259080" y="441960"/>
                </a:lnTo>
                <a:lnTo>
                  <a:pt x="289560" y="441960"/>
                </a:lnTo>
                <a:lnTo>
                  <a:pt x="320040" y="441960"/>
                </a:lnTo>
                <a:lnTo>
                  <a:pt x="350520" y="434340"/>
                </a:lnTo>
                <a:lnTo>
                  <a:pt x="381000" y="434340"/>
                </a:lnTo>
                <a:lnTo>
                  <a:pt x="403860" y="426720"/>
                </a:lnTo>
                <a:lnTo>
                  <a:pt x="426720" y="419100"/>
                </a:lnTo>
                <a:lnTo>
                  <a:pt x="464820" y="411480"/>
                </a:lnTo>
                <a:lnTo>
                  <a:pt x="464820" y="4114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Freeform 2"/>
          <p:cNvSpPr/>
          <p:nvPr/>
        </p:nvSpPr>
        <p:spPr>
          <a:xfrm>
            <a:off x="898560" y="3382920"/>
            <a:ext cx="6972120" cy="900000"/>
          </a:xfrm>
          <a:custGeom>
            <a:avLst/>
            <a:gdLst>
              <a:gd name="textAreaLeft" fmla="*/ 0 w 6972120"/>
              <a:gd name="textAreaRight" fmla="*/ 6972480 w 697212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6972302" h="899161">
                <a:moveTo>
                  <a:pt x="7620" y="693420"/>
                </a:moveTo>
                <a:lnTo>
                  <a:pt x="7620" y="693420"/>
                </a:lnTo>
                <a:lnTo>
                  <a:pt x="0" y="693420"/>
                </a:lnTo>
                <a:lnTo>
                  <a:pt x="0" y="693420"/>
                </a:lnTo>
                <a:lnTo>
                  <a:pt x="0" y="693420"/>
                </a:lnTo>
                <a:lnTo>
                  <a:pt x="0" y="701040"/>
                </a:lnTo>
                <a:lnTo>
                  <a:pt x="0" y="701040"/>
                </a:lnTo>
                <a:lnTo>
                  <a:pt x="0" y="701040"/>
                </a:lnTo>
                <a:lnTo>
                  <a:pt x="0" y="701040"/>
                </a:lnTo>
                <a:lnTo>
                  <a:pt x="0" y="701040"/>
                </a:lnTo>
                <a:lnTo>
                  <a:pt x="0" y="701040"/>
                </a:lnTo>
                <a:lnTo>
                  <a:pt x="7620" y="701040"/>
                </a:lnTo>
                <a:lnTo>
                  <a:pt x="7620" y="708660"/>
                </a:lnTo>
                <a:lnTo>
                  <a:pt x="7620" y="708660"/>
                </a:lnTo>
                <a:lnTo>
                  <a:pt x="7620" y="708660"/>
                </a:lnTo>
                <a:lnTo>
                  <a:pt x="7620" y="708660"/>
                </a:lnTo>
                <a:lnTo>
                  <a:pt x="7620" y="716280"/>
                </a:lnTo>
                <a:lnTo>
                  <a:pt x="7620" y="716280"/>
                </a:lnTo>
                <a:lnTo>
                  <a:pt x="15240" y="716280"/>
                </a:lnTo>
                <a:lnTo>
                  <a:pt x="15240" y="716280"/>
                </a:lnTo>
                <a:lnTo>
                  <a:pt x="15240" y="723900"/>
                </a:lnTo>
                <a:lnTo>
                  <a:pt x="22860" y="723900"/>
                </a:lnTo>
                <a:lnTo>
                  <a:pt x="22860" y="723900"/>
                </a:lnTo>
                <a:lnTo>
                  <a:pt x="30480" y="731520"/>
                </a:lnTo>
                <a:lnTo>
                  <a:pt x="38100" y="731520"/>
                </a:lnTo>
                <a:lnTo>
                  <a:pt x="38100" y="739140"/>
                </a:lnTo>
                <a:lnTo>
                  <a:pt x="45720" y="739140"/>
                </a:lnTo>
                <a:lnTo>
                  <a:pt x="53340" y="746760"/>
                </a:lnTo>
                <a:lnTo>
                  <a:pt x="60960" y="746760"/>
                </a:lnTo>
                <a:lnTo>
                  <a:pt x="68580" y="746760"/>
                </a:lnTo>
                <a:lnTo>
                  <a:pt x="76200" y="754380"/>
                </a:lnTo>
                <a:lnTo>
                  <a:pt x="83820" y="754380"/>
                </a:lnTo>
                <a:lnTo>
                  <a:pt x="99060" y="762000"/>
                </a:lnTo>
                <a:lnTo>
                  <a:pt x="106680" y="762000"/>
                </a:lnTo>
                <a:lnTo>
                  <a:pt x="114300" y="769620"/>
                </a:lnTo>
                <a:lnTo>
                  <a:pt x="121920" y="777240"/>
                </a:lnTo>
                <a:lnTo>
                  <a:pt x="129540" y="777240"/>
                </a:lnTo>
                <a:lnTo>
                  <a:pt x="144780" y="784860"/>
                </a:lnTo>
                <a:lnTo>
                  <a:pt x="152400" y="784860"/>
                </a:lnTo>
                <a:lnTo>
                  <a:pt x="167640" y="784860"/>
                </a:lnTo>
                <a:lnTo>
                  <a:pt x="175260" y="792480"/>
                </a:lnTo>
                <a:lnTo>
                  <a:pt x="190500" y="800100"/>
                </a:lnTo>
                <a:lnTo>
                  <a:pt x="198120" y="800100"/>
                </a:lnTo>
                <a:lnTo>
                  <a:pt x="213360" y="800100"/>
                </a:lnTo>
                <a:lnTo>
                  <a:pt x="228600" y="807720"/>
                </a:lnTo>
                <a:lnTo>
                  <a:pt x="243840" y="807720"/>
                </a:lnTo>
                <a:lnTo>
                  <a:pt x="251460" y="807720"/>
                </a:lnTo>
                <a:lnTo>
                  <a:pt x="266700" y="815340"/>
                </a:lnTo>
                <a:lnTo>
                  <a:pt x="281940" y="815340"/>
                </a:lnTo>
                <a:lnTo>
                  <a:pt x="297180" y="815340"/>
                </a:lnTo>
                <a:lnTo>
                  <a:pt x="312420" y="822960"/>
                </a:lnTo>
                <a:lnTo>
                  <a:pt x="327660" y="822960"/>
                </a:lnTo>
                <a:lnTo>
                  <a:pt x="342900" y="822960"/>
                </a:lnTo>
                <a:lnTo>
                  <a:pt x="358140" y="830580"/>
                </a:lnTo>
                <a:lnTo>
                  <a:pt x="381000" y="830580"/>
                </a:lnTo>
                <a:lnTo>
                  <a:pt x="396240" y="830580"/>
                </a:lnTo>
                <a:lnTo>
                  <a:pt x="411480" y="830580"/>
                </a:lnTo>
                <a:lnTo>
                  <a:pt x="434340" y="838200"/>
                </a:lnTo>
                <a:lnTo>
                  <a:pt x="449580" y="838200"/>
                </a:lnTo>
                <a:lnTo>
                  <a:pt x="472440" y="838200"/>
                </a:lnTo>
                <a:lnTo>
                  <a:pt x="487680" y="838200"/>
                </a:lnTo>
                <a:lnTo>
                  <a:pt x="510540" y="838200"/>
                </a:lnTo>
                <a:lnTo>
                  <a:pt x="533400" y="845820"/>
                </a:lnTo>
                <a:lnTo>
                  <a:pt x="556260" y="845820"/>
                </a:lnTo>
                <a:lnTo>
                  <a:pt x="579120" y="845820"/>
                </a:lnTo>
                <a:lnTo>
                  <a:pt x="601980" y="845820"/>
                </a:lnTo>
                <a:lnTo>
                  <a:pt x="617220" y="845820"/>
                </a:lnTo>
                <a:lnTo>
                  <a:pt x="640080" y="845820"/>
                </a:lnTo>
                <a:lnTo>
                  <a:pt x="662940" y="845820"/>
                </a:lnTo>
                <a:lnTo>
                  <a:pt x="685800" y="845820"/>
                </a:lnTo>
                <a:lnTo>
                  <a:pt x="708660" y="845820"/>
                </a:lnTo>
                <a:lnTo>
                  <a:pt x="739140" y="845820"/>
                </a:lnTo>
                <a:lnTo>
                  <a:pt x="762000" y="845820"/>
                </a:lnTo>
                <a:lnTo>
                  <a:pt x="784860" y="853440"/>
                </a:lnTo>
                <a:lnTo>
                  <a:pt x="815340" y="853440"/>
                </a:lnTo>
                <a:lnTo>
                  <a:pt x="838200" y="853440"/>
                </a:lnTo>
                <a:lnTo>
                  <a:pt x="868680" y="853440"/>
                </a:lnTo>
                <a:lnTo>
                  <a:pt x="891540" y="853440"/>
                </a:lnTo>
                <a:lnTo>
                  <a:pt x="922020" y="853440"/>
                </a:lnTo>
                <a:lnTo>
                  <a:pt x="952500" y="853440"/>
                </a:lnTo>
                <a:lnTo>
                  <a:pt x="982980" y="853440"/>
                </a:lnTo>
                <a:lnTo>
                  <a:pt x="1013460" y="861060"/>
                </a:lnTo>
                <a:lnTo>
                  <a:pt x="1043940" y="861060"/>
                </a:lnTo>
                <a:lnTo>
                  <a:pt x="1074420" y="861060"/>
                </a:lnTo>
                <a:lnTo>
                  <a:pt x="1104900" y="861060"/>
                </a:lnTo>
                <a:lnTo>
                  <a:pt x="1135380" y="868680"/>
                </a:lnTo>
                <a:lnTo>
                  <a:pt x="1165860" y="868680"/>
                </a:lnTo>
                <a:lnTo>
                  <a:pt x="1203960" y="868680"/>
                </a:lnTo>
                <a:lnTo>
                  <a:pt x="1234440" y="868680"/>
                </a:lnTo>
                <a:lnTo>
                  <a:pt x="1272540" y="876300"/>
                </a:lnTo>
                <a:lnTo>
                  <a:pt x="1303020" y="876300"/>
                </a:lnTo>
                <a:lnTo>
                  <a:pt x="1341120" y="876300"/>
                </a:lnTo>
                <a:lnTo>
                  <a:pt x="1379220" y="883920"/>
                </a:lnTo>
                <a:lnTo>
                  <a:pt x="1409700" y="883920"/>
                </a:lnTo>
                <a:lnTo>
                  <a:pt x="1447800" y="883920"/>
                </a:lnTo>
                <a:lnTo>
                  <a:pt x="1485900" y="883920"/>
                </a:lnTo>
                <a:lnTo>
                  <a:pt x="1524000" y="891540"/>
                </a:lnTo>
                <a:lnTo>
                  <a:pt x="1562100" y="899160"/>
                </a:lnTo>
                <a:lnTo>
                  <a:pt x="1600200" y="899160"/>
                </a:lnTo>
                <a:lnTo>
                  <a:pt x="1638300" y="899160"/>
                </a:lnTo>
                <a:lnTo>
                  <a:pt x="1676400" y="899160"/>
                </a:lnTo>
                <a:lnTo>
                  <a:pt x="1714500" y="899160"/>
                </a:lnTo>
                <a:lnTo>
                  <a:pt x="1752600" y="899160"/>
                </a:lnTo>
                <a:lnTo>
                  <a:pt x="1790700" y="899160"/>
                </a:lnTo>
                <a:lnTo>
                  <a:pt x="1836420" y="899160"/>
                </a:lnTo>
                <a:lnTo>
                  <a:pt x="1874520" y="899160"/>
                </a:lnTo>
                <a:lnTo>
                  <a:pt x="1912620" y="899160"/>
                </a:lnTo>
                <a:lnTo>
                  <a:pt x="1958340" y="899160"/>
                </a:lnTo>
                <a:lnTo>
                  <a:pt x="1996440" y="899160"/>
                </a:lnTo>
                <a:lnTo>
                  <a:pt x="2034540" y="899160"/>
                </a:lnTo>
                <a:lnTo>
                  <a:pt x="2080260" y="899160"/>
                </a:lnTo>
                <a:lnTo>
                  <a:pt x="2118360" y="899160"/>
                </a:lnTo>
                <a:lnTo>
                  <a:pt x="2164080" y="891540"/>
                </a:lnTo>
                <a:lnTo>
                  <a:pt x="2202180" y="883920"/>
                </a:lnTo>
                <a:lnTo>
                  <a:pt x="2247900" y="883920"/>
                </a:lnTo>
                <a:lnTo>
                  <a:pt x="2293620" y="883920"/>
                </a:lnTo>
                <a:lnTo>
                  <a:pt x="2331720" y="876300"/>
                </a:lnTo>
                <a:lnTo>
                  <a:pt x="2377440" y="876300"/>
                </a:lnTo>
                <a:lnTo>
                  <a:pt x="2423160" y="868680"/>
                </a:lnTo>
                <a:lnTo>
                  <a:pt x="2468880" y="868680"/>
                </a:lnTo>
                <a:lnTo>
                  <a:pt x="2514600" y="861060"/>
                </a:lnTo>
                <a:lnTo>
                  <a:pt x="2560320" y="861060"/>
                </a:lnTo>
                <a:lnTo>
                  <a:pt x="2606040" y="853440"/>
                </a:lnTo>
                <a:lnTo>
                  <a:pt x="2651760" y="845820"/>
                </a:lnTo>
                <a:lnTo>
                  <a:pt x="2705100" y="845820"/>
                </a:lnTo>
                <a:lnTo>
                  <a:pt x="2750820" y="838200"/>
                </a:lnTo>
                <a:lnTo>
                  <a:pt x="2796540" y="830580"/>
                </a:lnTo>
                <a:lnTo>
                  <a:pt x="2849880" y="822960"/>
                </a:lnTo>
                <a:lnTo>
                  <a:pt x="2895600" y="815340"/>
                </a:lnTo>
                <a:lnTo>
                  <a:pt x="2948940" y="807720"/>
                </a:lnTo>
                <a:lnTo>
                  <a:pt x="2994660" y="800100"/>
                </a:lnTo>
                <a:lnTo>
                  <a:pt x="3048000" y="800100"/>
                </a:lnTo>
                <a:lnTo>
                  <a:pt x="3101340" y="792480"/>
                </a:lnTo>
                <a:lnTo>
                  <a:pt x="3147060" y="784860"/>
                </a:lnTo>
                <a:lnTo>
                  <a:pt x="3200400" y="777240"/>
                </a:lnTo>
                <a:lnTo>
                  <a:pt x="3253740" y="769620"/>
                </a:lnTo>
                <a:lnTo>
                  <a:pt x="3307080" y="762000"/>
                </a:lnTo>
                <a:lnTo>
                  <a:pt x="3352800" y="762000"/>
                </a:lnTo>
                <a:lnTo>
                  <a:pt x="3406140" y="754380"/>
                </a:lnTo>
                <a:lnTo>
                  <a:pt x="3459480" y="746760"/>
                </a:lnTo>
                <a:lnTo>
                  <a:pt x="3512820" y="739140"/>
                </a:lnTo>
                <a:lnTo>
                  <a:pt x="3566160" y="731520"/>
                </a:lnTo>
                <a:lnTo>
                  <a:pt x="3627120" y="731520"/>
                </a:lnTo>
                <a:lnTo>
                  <a:pt x="3680460" y="723900"/>
                </a:lnTo>
                <a:lnTo>
                  <a:pt x="3733800" y="716280"/>
                </a:lnTo>
                <a:lnTo>
                  <a:pt x="3787140" y="708660"/>
                </a:lnTo>
                <a:lnTo>
                  <a:pt x="3840480" y="708660"/>
                </a:lnTo>
                <a:lnTo>
                  <a:pt x="3893820" y="701040"/>
                </a:lnTo>
                <a:lnTo>
                  <a:pt x="3947160" y="693420"/>
                </a:lnTo>
                <a:lnTo>
                  <a:pt x="4000500" y="685800"/>
                </a:lnTo>
                <a:lnTo>
                  <a:pt x="4053840" y="678180"/>
                </a:lnTo>
                <a:lnTo>
                  <a:pt x="4107180" y="678180"/>
                </a:lnTo>
                <a:lnTo>
                  <a:pt x="4160520" y="662940"/>
                </a:lnTo>
                <a:lnTo>
                  <a:pt x="4213860" y="655320"/>
                </a:lnTo>
                <a:lnTo>
                  <a:pt x="4267200" y="647700"/>
                </a:lnTo>
                <a:lnTo>
                  <a:pt x="4320540" y="647700"/>
                </a:lnTo>
                <a:lnTo>
                  <a:pt x="4373880" y="640080"/>
                </a:lnTo>
                <a:lnTo>
                  <a:pt x="4427220" y="632460"/>
                </a:lnTo>
                <a:lnTo>
                  <a:pt x="4472940" y="624840"/>
                </a:lnTo>
                <a:lnTo>
                  <a:pt x="4526280" y="609600"/>
                </a:lnTo>
                <a:lnTo>
                  <a:pt x="4579620" y="601980"/>
                </a:lnTo>
                <a:lnTo>
                  <a:pt x="4632960" y="586740"/>
                </a:lnTo>
                <a:lnTo>
                  <a:pt x="4678680" y="579120"/>
                </a:lnTo>
                <a:lnTo>
                  <a:pt x="4732020" y="571500"/>
                </a:lnTo>
                <a:lnTo>
                  <a:pt x="4785360" y="556260"/>
                </a:lnTo>
                <a:lnTo>
                  <a:pt x="4831080" y="548640"/>
                </a:lnTo>
                <a:lnTo>
                  <a:pt x="4884420" y="541020"/>
                </a:lnTo>
                <a:lnTo>
                  <a:pt x="4937760" y="525780"/>
                </a:lnTo>
                <a:lnTo>
                  <a:pt x="4983480" y="518160"/>
                </a:lnTo>
                <a:lnTo>
                  <a:pt x="5036820" y="510540"/>
                </a:lnTo>
                <a:lnTo>
                  <a:pt x="5082540" y="502920"/>
                </a:lnTo>
                <a:lnTo>
                  <a:pt x="5135880" y="487680"/>
                </a:lnTo>
                <a:lnTo>
                  <a:pt x="5181600" y="480060"/>
                </a:lnTo>
                <a:lnTo>
                  <a:pt x="5234940" y="472440"/>
                </a:lnTo>
                <a:lnTo>
                  <a:pt x="5280660" y="457200"/>
                </a:lnTo>
                <a:lnTo>
                  <a:pt x="5326380" y="449580"/>
                </a:lnTo>
                <a:lnTo>
                  <a:pt x="5379720" y="434340"/>
                </a:lnTo>
                <a:lnTo>
                  <a:pt x="5425440" y="426720"/>
                </a:lnTo>
                <a:lnTo>
                  <a:pt x="5471160" y="419100"/>
                </a:lnTo>
                <a:lnTo>
                  <a:pt x="5524500" y="403860"/>
                </a:lnTo>
                <a:lnTo>
                  <a:pt x="5570220" y="396240"/>
                </a:lnTo>
                <a:lnTo>
                  <a:pt x="5615940" y="388620"/>
                </a:lnTo>
                <a:lnTo>
                  <a:pt x="5669280" y="381000"/>
                </a:lnTo>
                <a:lnTo>
                  <a:pt x="5715001" y="373380"/>
                </a:lnTo>
                <a:lnTo>
                  <a:pt x="5760720" y="358140"/>
                </a:lnTo>
                <a:lnTo>
                  <a:pt x="5806440" y="350520"/>
                </a:lnTo>
                <a:lnTo>
                  <a:pt x="5852160" y="342900"/>
                </a:lnTo>
                <a:lnTo>
                  <a:pt x="5897880" y="335280"/>
                </a:lnTo>
                <a:lnTo>
                  <a:pt x="5943601" y="320040"/>
                </a:lnTo>
                <a:lnTo>
                  <a:pt x="5981701" y="312420"/>
                </a:lnTo>
                <a:lnTo>
                  <a:pt x="6027420" y="304800"/>
                </a:lnTo>
                <a:lnTo>
                  <a:pt x="6073140" y="297180"/>
                </a:lnTo>
                <a:lnTo>
                  <a:pt x="6111240" y="281940"/>
                </a:lnTo>
                <a:lnTo>
                  <a:pt x="6149340" y="274320"/>
                </a:lnTo>
                <a:lnTo>
                  <a:pt x="6195060" y="266700"/>
                </a:lnTo>
                <a:lnTo>
                  <a:pt x="6233160" y="259080"/>
                </a:lnTo>
                <a:lnTo>
                  <a:pt x="6278880" y="251460"/>
                </a:lnTo>
                <a:lnTo>
                  <a:pt x="6309360" y="236220"/>
                </a:lnTo>
                <a:lnTo>
                  <a:pt x="6347460" y="228600"/>
                </a:lnTo>
                <a:lnTo>
                  <a:pt x="6385560" y="220980"/>
                </a:lnTo>
                <a:lnTo>
                  <a:pt x="6423660" y="213360"/>
                </a:lnTo>
                <a:lnTo>
                  <a:pt x="6461760" y="205740"/>
                </a:lnTo>
                <a:lnTo>
                  <a:pt x="6492240" y="190500"/>
                </a:lnTo>
                <a:lnTo>
                  <a:pt x="6530340" y="182880"/>
                </a:lnTo>
                <a:lnTo>
                  <a:pt x="6560820" y="167640"/>
                </a:lnTo>
                <a:lnTo>
                  <a:pt x="6591301" y="160020"/>
                </a:lnTo>
                <a:lnTo>
                  <a:pt x="6621780" y="152400"/>
                </a:lnTo>
                <a:lnTo>
                  <a:pt x="6644640" y="137160"/>
                </a:lnTo>
                <a:lnTo>
                  <a:pt x="6675120" y="129540"/>
                </a:lnTo>
                <a:lnTo>
                  <a:pt x="6697980" y="121920"/>
                </a:lnTo>
                <a:lnTo>
                  <a:pt x="6728460" y="106680"/>
                </a:lnTo>
                <a:lnTo>
                  <a:pt x="6743701" y="99060"/>
                </a:lnTo>
                <a:lnTo>
                  <a:pt x="6766560" y="83820"/>
                </a:lnTo>
                <a:lnTo>
                  <a:pt x="6789420" y="76200"/>
                </a:lnTo>
                <a:lnTo>
                  <a:pt x="6804660" y="68580"/>
                </a:lnTo>
                <a:lnTo>
                  <a:pt x="6827520" y="53340"/>
                </a:lnTo>
                <a:lnTo>
                  <a:pt x="6842760" y="45720"/>
                </a:lnTo>
                <a:lnTo>
                  <a:pt x="6858001" y="38100"/>
                </a:lnTo>
                <a:lnTo>
                  <a:pt x="6873240" y="30480"/>
                </a:lnTo>
                <a:lnTo>
                  <a:pt x="6880860" y="22860"/>
                </a:lnTo>
                <a:lnTo>
                  <a:pt x="6896101" y="15240"/>
                </a:lnTo>
                <a:lnTo>
                  <a:pt x="6911340" y="15240"/>
                </a:lnTo>
                <a:lnTo>
                  <a:pt x="6918960" y="7620"/>
                </a:lnTo>
                <a:lnTo>
                  <a:pt x="6926580" y="7620"/>
                </a:lnTo>
                <a:lnTo>
                  <a:pt x="6934201" y="0"/>
                </a:lnTo>
                <a:lnTo>
                  <a:pt x="6941820" y="0"/>
                </a:lnTo>
                <a:lnTo>
                  <a:pt x="6957060" y="0"/>
                </a:lnTo>
                <a:lnTo>
                  <a:pt x="6957060" y="0"/>
                </a:lnTo>
                <a:lnTo>
                  <a:pt x="6972301" y="0"/>
                </a:lnTo>
                <a:lnTo>
                  <a:pt x="6972301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Freeform 3"/>
          <p:cNvSpPr/>
          <p:nvPr/>
        </p:nvSpPr>
        <p:spPr>
          <a:xfrm>
            <a:off x="7788240" y="3284640"/>
            <a:ext cx="228600" cy="122040"/>
          </a:xfrm>
          <a:custGeom>
            <a:avLst/>
            <a:gdLst>
              <a:gd name="textAreaLeft" fmla="*/ 0 w 228600"/>
              <a:gd name="textAreaRight" fmla="*/ 228960 w 228600"/>
              <a:gd name="textAreaTop" fmla="*/ 0 h 122040"/>
              <a:gd name="textAreaBottom" fmla="*/ 122400 h 122040"/>
            </a:gdLst>
            <a:ahLst/>
            <a:rect l="textAreaLeft" t="textAreaTop" r="textAreaRight" b="textAreaBottom"/>
            <a:pathLst>
              <a:path w="228601" h="121921">
                <a:moveTo>
                  <a:pt x="0" y="30480"/>
                </a:moveTo>
                <a:lnTo>
                  <a:pt x="0" y="30480"/>
                </a:lnTo>
                <a:lnTo>
                  <a:pt x="7621" y="22860"/>
                </a:lnTo>
                <a:lnTo>
                  <a:pt x="7621" y="15240"/>
                </a:lnTo>
                <a:lnTo>
                  <a:pt x="15240" y="15240"/>
                </a:lnTo>
                <a:lnTo>
                  <a:pt x="22860" y="7620"/>
                </a:lnTo>
                <a:lnTo>
                  <a:pt x="30480" y="7620"/>
                </a:lnTo>
                <a:lnTo>
                  <a:pt x="38100" y="7620"/>
                </a:lnTo>
                <a:lnTo>
                  <a:pt x="45721" y="7620"/>
                </a:lnTo>
                <a:lnTo>
                  <a:pt x="53340" y="0"/>
                </a:lnTo>
                <a:lnTo>
                  <a:pt x="68580" y="0"/>
                </a:lnTo>
                <a:lnTo>
                  <a:pt x="76200" y="7620"/>
                </a:lnTo>
                <a:lnTo>
                  <a:pt x="91440" y="7620"/>
                </a:lnTo>
                <a:lnTo>
                  <a:pt x="106680" y="7620"/>
                </a:lnTo>
                <a:lnTo>
                  <a:pt x="121921" y="7620"/>
                </a:lnTo>
                <a:lnTo>
                  <a:pt x="129540" y="7620"/>
                </a:lnTo>
                <a:lnTo>
                  <a:pt x="144780" y="15240"/>
                </a:lnTo>
                <a:lnTo>
                  <a:pt x="160021" y="15240"/>
                </a:lnTo>
                <a:lnTo>
                  <a:pt x="175260" y="15240"/>
                </a:lnTo>
                <a:lnTo>
                  <a:pt x="182880" y="22860"/>
                </a:lnTo>
                <a:lnTo>
                  <a:pt x="198121" y="30480"/>
                </a:lnTo>
                <a:lnTo>
                  <a:pt x="205740" y="30480"/>
                </a:lnTo>
                <a:lnTo>
                  <a:pt x="213360" y="38100"/>
                </a:lnTo>
                <a:lnTo>
                  <a:pt x="220980" y="38100"/>
                </a:lnTo>
                <a:lnTo>
                  <a:pt x="220980" y="45720"/>
                </a:lnTo>
                <a:lnTo>
                  <a:pt x="228600" y="53340"/>
                </a:lnTo>
                <a:lnTo>
                  <a:pt x="228600" y="53340"/>
                </a:lnTo>
                <a:lnTo>
                  <a:pt x="228600" y="60960"/>
                </a:lnTo>
                <a:lnTo>
                  <a:pt x="228600" y="68580"/>
                </a:lnTo>
                <a:lnTo>
                  <a:pt x="220980" y="68580"/>
                </a:lnTo>
                <a:lnTo>
                  <a:pt x="213360" y="76200"/>
                </a:lnTo>
                <a:lnTo>
                  <a:pt x="205740" y="83820"/>
                </a:lnTo>
                <a:lnTo>
                  <a:pt x="198121" y="91440"/>
                </a:lnTo>
                <a:lnTo>
                  <a:pt x="190500" y="99060"/>
                </a:lnTo>
                <a:lnTo>
                  <a:pt x="182880" y="106680"/>
                </a:lnTo>
                <a:lnTo>
                  <a:pt x="167640" y="114300"/>
                </a:lnTo>
                <a:lnTo>
                  <a:pt x="160021" y="114300"/>
                </a:lnTo>
                <a:lnTo>
                  <a:pt x="152400" y="121920"/>
                </a:lnTo>
                <a:lnTo>
                  <a:pt x="144780" y="121920"/>
                </a:lnTo>
                <a:lnTo>
                  <a:pt x="137160" y="121920"/>
                </a:lnTo>
                <a:lnTo>
                  <a:pt x="129540" y="121920"/>
                </a:lnTo>
                <a:lnTo>
                  <a:pt x="121921" y="121920"/>
                </a:lnTo>
                <a:lnTo>
                  <a:pt x="121921" y="121920"/>
                </a:lnTo>
                <a:lnTo>
                  <a:pt x="114300" y="114300"/>
                </a:lnTo>
                <a:lnTo>
                  <a:pt x="106680" y="114300"/>
                </a:lnTo>
                <a:lnTo>
                  <a:pt x="106680" y="106680"/>
                </a:lnTo>
                <a:lnTo>
                  <a:pt x="99060" y="99060"/>
                </a:lnTo>
                <a:lnTo>
                  <a:pt x="99060" y="91440"/>
                </a:lnTo>
                <a:lnTo>
                  <a:pt x="91440" y="76200"/>
                </a:lnTo>
                <a:lnTo>
                  <a:pt x="91440" y="68580"/>
                </a:lnTo>
                <a:lnTo>
                  <a:pt x="91440" y="60960"/>
                </a:lnTo>
                <a:lnTo>
                  <a:pt x="83821" y="45720"/>
                </a:lnTo>
                <a:lnTo>
                  <a:pt x="83821" y="38100"/>
                </a:lnTo>
                <a:lnTo>
                  <a:pt x="83821" y="30480"/>
                </a:lnTo>
                <a:lnTo>
                  <a:pt x="83821" y="22860"/>
                </a:lnTo>
                <a:lnTo>
                  <a:pt x="83821" y="15240"/>
                </a:lnTo>
                <a:lnTo>
                  <a:pt x="83821" y="15240"/>
                </a:lnTo>
                <a:lnTo>
                  <a:pt x="91440" y="7620"/>
                </a:lnTo>
                <a:lnTo>
                  <a:pt x="91440" y="7620"/>
                </a:lnTo>
                <a:lnTo>
                  <a:pt x="91440" y="7620"/>
                </a:lnTo>
                <a:lnTo>
                  <a:pt x="91440" y="7620"/>
                </a:lnTo>
                <a:lnTo>
                  <a:pt x="91440" y="7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2057400" y="1981080"/>
            <a:ext cx="5791320" cy="1447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x – h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+ (y – k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0" y="38098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-coordinate of a point on a circ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Line 6"/>
          <p:cNvSpPr/>
          <p:nvPr/>
        </p:nvSpPr>
        <p:spPr>
          <a:xfrm flipV="1">
            <a:off x="1752480" y="2819160"/>
            <a:ext cx="8384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4495680" y="388620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-coordinate of a point on a circ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Line 8"/>
          <p:cNvSpPr/>
          <p:nvPr/>
        </p:nvSpPr>
        <p:spPr>
          <a:xfrm flipV="1">
            <a:off x="5029200" y="2971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7467480" y="3886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Line 10"/>
          <p:cNvSpPr/>
          <p:nvPr/>
        </p:nvSpPr>
        <p:spPr>
          <a:xfrm flipH="1" flipV="1">
            <a:off x="7238520" y="289548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2133720" y="5334120"/>
            <a:ext cx="304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-coordinate of the center of the circ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2"/>
          <p:cNvSpPr/>
          <p:nvPr/>
        </p:nvSpPr>
        <p:spPr>
          <a:xfrm flipV="1">
            <a:off x="3505320" y="2819520"/>
            <a:ext cx="75960" cy="25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Text Box 13"/>
          <p:cNvSpPr/>
          <p:nvPr/>
        </p:nvSpPr>
        <p:spPr>
          <a:xfrm>
            <a:off x="5867280" y="548640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-coordinate of the center of the circ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14"/>
          <p:cNvSpPr/>
          <p:nvPr/>
        </p:nvSpPr>
        <p:spPr>
          <a:xfrm flipV="1">
            <a:off x="716292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Line 15"/>
          <p:cNvSpPr/>
          <p:nvPr/>
        </p:nvSpPr>
        <p:spPr>
          <a:xfrm flipH="1" flipV="1">
            <a:off x="6095880" y="2895480"/>
            <a:ext cx="10670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omework: p. 697 #1-21 odd, 27-33 od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340" name="TextBox 1"/>
          <p:cNvSpPr/>
          <p:nvPr/>
        </p:nvSpPr>
        <p:spPr>
          <a:xfrm>
            <a:off x="816120" y="2743200"/>
            <a:ext cx="441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House Wheat This H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TextBox 2"/>
          <p:cNvSpPr/>
          <p:nvPr/>
        </p:nvSpPr>
        <p:spPr>
          <a:xfrm>
            <a:off x="1149480" y="3384720"/>
            <a:ext cx="375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How sweet the s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01:37:46Z</dcterms:created>
  <dc:creator>AsevedoSmith, David - RMH</dc:creator>
  <dc:description/>
  <dc:language>en-US</dc:language>
  <cp:lastModifiedBy>Windows User</cp:lastModifiedBy>
  <dcterms:modified xsi:type="dcterms:W3CDTF">2013-11-13T16:48:27Z</dcterms:modified>
  <cp:revision>16</cp:revision>
  <dc:subject/>
  <dc:title>12-5  Circles in the Coordinate Plane</dc:title>
</cp:coreProperties>
</file>